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8.jpeg" ContentType="image/jpeg"/>
  <Override PartName="/ppt/media/image14.png" ContentType="image/png"/>
  <Override PartName="/ppt/media/image13.png" ContentType="image/png"/>
  <Override PartName="/ppt/media/chimes.wav" ContentType="audio/x-wav"/>
  <Override PartName="/ppt/media/image1.jpeg" ContentType="image/jpeg"/>
  <Override PartName="/ppt/media/image6.jpeg" ContentType="image/jpeg"/>
  <Override PartName="/ppt/media/image10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7.jpeg" ContentType="image/jpeg"/>
  <Override PartName="/ppt/media/image11.png" ContentType="image/pn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  <p:sldId id="277" r:id="rId48"/>
    <p:sldId id="278" r:id="rId49"/>
    <p:sldId id="279" r:id="rId50"/>
    <p:sldId id="280" r:id="rId51"/>
    <p:sldId id="281" r:id="rId52"/>
    <p:sldId id="282" r:id="rId53"/>
    <p:sldId id="283" r:id="rId54"/>
    <p:sldId id="284" r:id="rId55"/>
    <p:sldId id="285" r:id="rId56"/>
    <p:sldId id="286" r:id="rId57"/>
    <p:sldId id="287" r:id="rId58"/>
    <p:sldId id="288" r:id="rId59"/>
    <p:sldId id="289" r:id="rId60"/>
    <p:sldId id="290" r:id="rId61"/>
    <p:sldId id="291" r:id="rId62"/>
    <p:sldId id="292" r:id="rId63"/>
    <p:sldId id="293" r:id="rId64"/>
    <p:sldId id="294" r:id="rId65"/>
    <p:sldId id="295" r:id="rId66"/>
    <p:sldId id="296" r:id="rId67"/>
    <p:sldId id="297" r:id="rId68"/>
    <p:sldId id="298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slide" Target="slides/slide22.xml"/><Relationship Id="rId49" Type="http://schemas.openxmlformats.org/officeDocument/2006/relationships/slide" Target="slides/slide23.xml"/><Relationship Id="rId50" Type="http://schemas.openxmlformats.org/officeDocument/2006/relationships/slide" Target="slides/slide24.xml"/><Relationship Id="rId51" Type="http://schemas.openxmlformats.org/officeDocument/2006/relationships/slide" Target="slides/slide25.xml"/><Relationship Id="rId52" Type="http://schemas.openxmlformats.org/officeDocument/2006/relationships/slide" Target="slides/slide26.xml"/><Relationship Id="rId53" Type="http://schemas.openxmlformats.org/officeDocument/2006/relationships/slide" Target="slides/slide27.xml"/><Relationship Id="rId54" Type="http://schemas.openxmlformats.org/officeDocument/2006/relationships/slide" Target="slides/slide28.xml"/><Relationship Id="rId55" Type="http://schemas.openxmlformats.org/officeDocument/2006/relationships/slide" Target="slides/slide29.xml"/><Relationship Id="rId56" Type="http://schemas.openxmlformats.org/officeDocument/2006/relationships/slide" Target="slides/slide30.xml"/><Relationship Id="rId57" Type="http://schemas.openxmlformats.org/officeDocument/2006/relationships/slide" Target="slides/slide31.xml"/><Relationship Id="rId58" Type="http://schemas.openxmlformats.org/officeDocument/2006/relationships/slide" Target="slides/slide32.xml"/><Relationship Id="rId59" Type="http://schemas.openxmlformats.org/officeDocument/2006/relationships/slide" Target="slides/slide33.xml"/><Relationship Id="rId60" Type="http://schemas.openxmlformats.org/officeDocument/2006/relationships/slide" Target="slides/slide34.xml"/><Relationship Id="rId61" Type="http://schemas.openxmlformats.org/officeDocument/2006/relationships/slide" Target="slides/slide35.xml"/><Relationship Id="rId62" Type="http://schemas.openxmlformats.org/officeDocument/2006/relationships/slide" Target="slides/slide36.xml"/><Relationship Id="rId63" Type="http://schemas.openxmlformats.org/officeDocument/2006/relationships/slide" Target="slides/slide37.xml"/><Relationship Id="rId64" Type="http://schemas.openxmlformats.org/officeDocument/2006/relationships/slide" Target="slides/slide38.xml"/><Relationship Id="rId65" Type="http://schemas.openxmlformats.org/officeDocument/2006/relationships/slide" Target="slides/slide39.xml"/><Relationship Id="rId66" Type="http://schemas.openxmlformats.org/officeDocument/2006/relationships/slide" Target="slides/slide40.xml"/><Relationship Id="rId67" Type="http://schemas.openxmlformats.org/officeDocument/2006/relationships/slide" Target="slides/slide41.xml"/><Relationship Id="rId68" Type="http://schemas.openxmlformats.org/officeDocument/2006/relationships/slide" Target="slides/slide42.xml"/><Relationship Id="rId69" Type="http://schemas.openxmlformats.org/officeDocument/2006/relationships/slide" Target="slides/slide43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759A-676A-4374-AB55-B6F02E0B3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0B06-0561-4CF0-A086-26E45438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FAAF73-8D5B-4C27-A0C6-6F27C9AA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54DB32-0E0A-4B97-B821-E80D1920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1403280" y="471600"/>
            <a:ext cx="734544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03EB50-362F-486F-8E01-3DF8012B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304912-856D-44CB-9183-55F2DA01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0EBD91-35DA-446C-8C16-3D81F5CE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CD0E6A-F613-4552-B5C0-CC0E04A5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362819-8C20-4AD3-B732-B4081DA6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9B192A-7F73-47E5-8069-344EAB097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E6DE8-671D-4151-9D2E-CF5D18DA2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7BEBC4-4BE8-4BD0-87AD-5C0A5D7E5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81FB-9BFC-4AC8-82EF-F20ABB01B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3A8F6B-816B-442B-8F3B-FF536420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2F7320-FDC1-46BA-8A13-9803B2C1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28FF41-F871-4BAC-A8E3-5F387AE2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718494-7948-4E18-8B4F-BDCBCC8D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403280" y="471600"/>
            <a:ext cx="734544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B93585-2A29-4898-BF3C-56614860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370E8D-C47D-48B8-A962-D6C27AA3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F9C23F-1079-4F50-A62B-6E42728C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286FEA-047D-4BD3-8318-743AFAD4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28A2B4-3BA7-4378-B4EF-59F41ED7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D7737A-5757-4D8B-AE93-25C874667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E79C-3FBC-477B-9D31-F56BA78EC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642E5B-114A-472B-AF33-7C33735AE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A7D8A3-DB8F-4785-B676-B53658E02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D48CA-7B57-4C49-BABF-30578D52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CCA9EB-80EC-451F-84B8-74681EF1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AFF251-B7B0-4FF8-B457-CD3E04C5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D46B3-48A8-4414-BCB8-820FD1FB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403280" y="471600"/>
            <a:ext cx="734544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EA016-5904-4317-A462-85F3F156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43C6B5-7C7E-4117-AFFF-887F769A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00687-10D3-4D28-A9AE-A9684B79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5E3EC-E819-4C24-98DF-7622F90B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9923-E197-4406-BB40-76FE51BF5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635EE-6091-4C22-8795-7839C575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188068-6A50-413B-A9EB-B9DE22EAC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528A27-81B5-4A11-B346-BFF6602AB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88C6FF-BB37-4CC9-9B2C-9966430DA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7190C7-2DF8-4AC9-809C-C127695E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D844F8-C706-423A-93CF-F6CFC605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1C42D4-67FC-48DA-9364-F1E5CF07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F80BB7-54AC-4B6E-9131-A6B81A3D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1403280" y="471600"/>
            <a:ext cx="734544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B3C91B-9A70-487B-A633-EC7FF733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8C05C7-1FA8-444F-9F32-2A5D24F5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1D68-E982-47F0-8BD1-87D74078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A185ED-691E-4A29-9BDE-BA7363D7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10671B-24EE-4B00-B04A-376C04E6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88FA48-6298-413E-B0D5-DF86A20F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09066A-3674-4E8C-A412-34E56D8E0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1FBF0C-385C-42A0-910D-9CF2B47C3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96D1B8-A865-4AEA-8DA8-1B18FFC5D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E83F0C-C918-4141-A01E-1DC7CDDF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D26A6F-8ADA-461A-B344-217E53A8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47206E-726B-46FC-B461-F1B066C6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71A5BB-5D49-4EC0-8291-30472A6D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8D7E-164C-42CE-9D11-69896FE5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1403280" y="471600"/>
            <a:ext cx="734544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95CF02-2357-4B47-8191-A69971D4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664DC5-768E-4DF4-9586-D37FA06B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80DE22-A7F1-4B65-BFA6-66B8C5D3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3C6B66-E156-43A5-BA14-ABA0F761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AB431B-2F18-4CA5-9FEE-3D966507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068088-455B-4E4F-B880-348733B34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1B6EBA-0C42-4C06-B36C-0F72E1554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FDDD1F-6D6E-4FAB-BAC2-B56EEE71C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B1B89D-555A-4F9B-B814-454CE5F5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8E24D1-1F3F-43F1-BA59-014CFBCF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F943-C61D-4047-AD53-51743D10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70BA5C-CF48-4752-88CC-AFB8FDFD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CC1004-BDF0-49D1-ADFA-FFA6FDAA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1403280" y="471600"/>
            <a:ext cx="734544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CBCA13-21B7-4611-86E5-45789044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531608-1B69-421D-9329-4A628CBE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DD5498-D7FD-4CCE-8D99-2A5FE8D4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DF11E3-04AB-4208-80B0-7197A39A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8AB641-5294-4BD5-9FDA-F21434AC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49ADA8-725C-402F-BB8D-66D503F58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20BEF6-CA73-4F73-9AAF-3BB53538C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C99B93-AFF9-499F-900C-ADBE9C10A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A545-3113-4A04-B578-3D1C4942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C56DC0-0C00-491D-B2BE-FE3C8EA2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9C206A-7549-40D0-9C4A-53DE7C70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D7EE37-05CF-453D-AAE4-7C36535B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046E5E-6C38-468C-A5AD-D6AC065F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1403280" y="471600"/>
            <a:ext cx="734544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C7CFFA-9FD1-4272-A2CF-D422EE85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A64C1A-062A-4DB5-86E0-9845395E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C9E813-EBDF-47EB-9FC7-BB4BD233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9E38AC-4686-4D08-9E86-99376EE1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E99666-E509-4959-8C3B-E5C59628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4BAFC6-0014-40F1-914D-6176D7308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403280" y="471600"/>
            <a:ext cx="734544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8374-D499-4707-BF7E-BD0467C7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C440C6-3E8C-42E7-9E34-6F1059A14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A03E23-5CF2-49FA-A4FD-106C7FA97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5C2CFD-346A-4097-B5DB-4B8E333E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D52A0C-58BE-4B66-9DC7-5ECC229C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5CD034-3BC0-4E51-BDE4-9F88DEC1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7EA242-BA28-4C25-A713-FF5BE5FF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1403280" y="471600"/>
            <a:ext cx="734544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3CC47A-EC08-40ED-B570-EED7D4A1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07C4A7-1FF0-4632-AAC9-71FABB7E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344687-D8E4-477A-8376-6C9F67EF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CB1980-AC12-43BF-9BAC-54B60919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ACE41-0E41-486F-AE85-A8BAAF42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5B44F5-F2EE-44AD-B0B9-A63D7296A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BC700A-BDA4-4B89-B848-C99E4596C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82635F-6B5A-41BA-B46F-0723C8D05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888590-785C-4362-9A1F-C6E3E104B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9ABCC4-4ECA-4938-A73C-416BB6F2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A42149-D4A3-4B11-AE88-23E8A216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D9E11F-36D3-4FC8-92C1-943A1518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A067D1-75AC-4B1A-8C25-30B5B90E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1403280" y="471600"/>
            <a:ext cx="734544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416D96-D20F-4589-8FBD-91BF07E2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808093-8E5C-41FA-8A40-B50342DC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0535-D9E7-45BD-BA33-87A5640C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6D27-CB77-4793-A738-92FB8F01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3E057E-BA9F-44EF-A0BB-18D45618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996C08-66B7-4F63-942B-D000C776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4C9321-FA41-4912-8808-1B4DD537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01CB9D-5373-4156-B7B0-7850EBE9A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1BE4AE-2F92-4D48-B0E1-34AC8EA65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72F277-B869-4EF5-9EBC-5BF1ABB04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D538EE-0538-4D6C-8724-DF531FAA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1E8516-9254-454F-8942-486F0CC3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069836-27D8-4B88-BEB7-72E65B10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4E623F-47B4-467E-85B2-D4C5E13B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C901-CD61-483D-BCD2-EA5BBEF1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1403280" y="471600"/>
            <a:ext cx="734544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3A6B9A-035D-4A28-9F66-F2F7C484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F11E9D-A538-4DE3-9EC9-3C23C21F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EA7718-F14D-441A-A765-997397E7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BDB16A-26B0-4B23-8BB6-20CB6D35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4767A0-6B8A-44A1-8C4E-73578023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FBB4CC-A29C-49A9-90BF-D911FE235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753841-5302-478F-BE53-1F7930C06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9F3565-F977-4726-9F93-AE432C723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516E1C-4D2B-45F7-A398-CD4B8623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6DF0F7-EDC7-4B62-85DE-AAD949DE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7E74-FE7D-4D7A-A6B8-8D95373A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D5591B-787D-4376-A5CE-1E7B86C1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34167B-14C9-41D8-8864-31DCED0B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ubTitle"/>
          </p:nvPr>
        </p:nvSpPr>
        <p:spPr>
          <a:xfrm>
            <a:off x="1403280" y="471600"/>
            <a:ext cx="734544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A88747-924B-4C88-992A-45010205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1FA33D-F8E8-41E5-8354-CA2B11C3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44B246-C2A7-491E-ACFC-6A873F21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0518AE-8DA5-46D3-A3D1-A01B37B5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F39544-DCC5-4A96-9AE6-6630D356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E07EF8-5223-4C39-AF27-45F873F9B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86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929AC6-8FBA-4420-9D83-8AADB53C4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120665-4260-461F-94BF-3689DDD26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876C-A20E-4827-A5FE-F758E4914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37448F-039B-4E59-B982-3896E3A4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980359-D68A-42F7-8B60-2F46CD0F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139692-8C1E-4AC6-B034-2CA8FBA4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1DADC8-DD52-4A1E-8A0D-6F7E16A6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403280" y="471600"/>
            <a:ext cx="734544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5ABA26-7B6F-4329-9CB9-FDD0833D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CD504B-83E7-45E3-B564-EA0E55F3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25316F-1268-4F0D-96DC-042FD48B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9447F9-650B-482C-AB88-1FC73A5F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65204B-30A8-4AE6-BBD0-D19A4F68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8BF22E-A111-41D8-8FB1-D9296A76E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0971-E2CF-42F0-B927-B30B29BD1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A12382-BD95-45F7-9D51-32999952D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EF69F7-9B3A-4173-99D8-E1A36F7BB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E7BC0C-3696-4694-A843-14D94B24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51DEDC-9113-45F1-9CCA-726E42CA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40CBDF-B9D2-4379-AE09-E580BB44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E05C02-B9C2-4067-870D-E8B5681B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ubTitle"/>
          </p:nvPr>
        </p:nvSpPr>
        <p:spPr>
          <a:xfrm>
            <a:off x="1403280" y="471600"/>
            <a:ext cx="734544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774048-5D27-4CB8-969F-AB0E9445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5F7B73-83E7-41C5-A96A-84486B8F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23CCF4-F6C9-4051-9240-ADA774B0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976804-F534-4D6C-B734-3ACB3306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AC2CF-46BD-459A-B920-877FDDDFB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A8BDE2-6D5C-4D68-9866-416D885A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0D7FE7-AFA5-483E-9A06-8837A7803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69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70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5F374A-FD42-4880-B900-95B326523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6B52A4-3D04-4DAF-A9B7-A42F17789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8C1397-2281-4AB9-B530-9AF39624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82A7B0-F31A-42F7-ABBE-C0C16B22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A47F7D-DE32-444F-B1BD-33546504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02DAC1-E2F1-4300-9EA2-F50FFACB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ubTitle"/>
          </p:nvPr>
        </p:nvSpPr>
        <p:spPr>
          <a:xfrm>
            <a:off x="1403280" y="471600"/>
            <a:ext cx="734544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CCE396-0DB8-4604-9FE0-28599304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67644B-E970-4840-801E-807BFE3B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1E4B6-D6B1-4592-82CA-C3323D17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58439A-C88A-4717-B646-570A3855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F319E5-568B-48F5-A218-903351BA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596F0F-529A-4A1C-AFF1-CB7EB6A0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4F80E5-0470-4B4E-B056-D25AFD739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11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12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2F2EA5-EF18-4936-81CE-03B6748A0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E8552E-98EE-421A-9A21-3EC964629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2E9D90-1F30-4457-8DEB-FAF20191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D09AB1-C485-4D22-A5E7-5BF2426E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8CCA74-D0A3-42EB-ADDF-4B67FB59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89CEDF-22B4-4AF1-B1AC-8FA4CAB7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AADD4-B739-4A69-BA1D-8220FFCE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1403280" y="471600"/>
            <a:ext cx="734544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F66C9D-96DF-4385-B44B-3D95B5F7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3CDC1C-728F-4383-BBA9-CEAAE421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A33E8B-94C0-4BCB-B440-FAAB828F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5BF26A-D3F0-4F3E-8150-D9B1C226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5D7CD9-3C98-4163-A55E-87EB9881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902570-EEB3-4CFB-8638-8A5509841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EA00B3-3AEF-45E9-9182-A2628F987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4AF5144-98AA-4C21-BDBE-FFEBBD2DC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632EEF-1FE5-4F1D-A2AC-88AAB77C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054538-864D-44AD-9529-9E676F8A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4BE76-605C-4E52-9C7F-F5167F13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F93AF7-6707-4983-B764-1D7C4755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C8F5CC-9AE0-4BE8-BB70-2135C5CC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ubTitle"/>
          </p:nvPr>
        </p:nvSpPr>
        <p:spPr>
          <a:xfrm>
            <a:off x="1403280" y="471600"/>
            <a:ext cx="734544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F26032-A3E1-400D-96C3-B6FBA12D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9C514D-9A65-4678-BDD0-F629F2C6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C9F8D5-8DFE-4905-A29F-68BC7C1F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549EF6-56AD-4CBD-9674-5586BCD9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7789C6-4B14-4E78-87C3-00C43A9F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5B723A8-91A9-4031-9938-3B26510D9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95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96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11D078-32A5-4649-A90C-2BA897B0F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FC94CD1-0B49-4D61-8BFE-B5F2435ED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15B05-EA78-4850-BE1C-620C6A0F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62CC8BC-FEB4-4A5C-82D1-D1558FA6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3D8EDF-2D4E-45DB-85C0-8C6E2232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ED522F0-281D-4667-BD83-24CE05A0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952EBDD-A2C5-4E6C-B2F5-D8CAD724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403280" y="471600"/>
            <a:ext cx="734544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0CB80EE-231E-4EA3-B358-8EBB0E73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66E4711-C4FE-432D-9EF4-3A0719B3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7E1049C-C922-461C-AA3A-7C2DCC3B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856C31E-4922-4759-A2B5-1BE4A907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FECA40A-4CAA-4FB5-8BE3-4A88A1D1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D6C890E-92FE-43F5-A47D-F00698CE7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52FA-40D2-4E97-A799-E6954200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403280" y="471600"/>
            <a:ext cx="734544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467C5-18B0-4F13-823F-B03468CC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55617D5-267B-468C-8F7A-C74522E30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9634A-BDDB-4B19-81DA-3E43712E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1D2FD-BD54-4144-802D-8191A156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EAF87-54A4-4A87-8910-D40855DA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3EAAF-ED34-45F1-B513-43FAEE21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D3FE6-9375-4D7F-8711-FB5A2D79D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CA7FA-6F86-4000-BB39-DA6CBC2E5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FA044-BB5C-4983-A3F6-AD259B29F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0027B-7D19-4869-ACBB-9451E01D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2ED29-E9C9-41E5-853C-51FBCA8A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4B4F-A9F7-4DD4-9735-A3E76382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70E55-1C66-4F1E-8DAE-98A71F82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7C345-5F83-4AD3-9B52-CFADE665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403280" y="471600"/>
            <a:ext cx="734544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09C21-3080-4915-85D6-45FB0326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358F0-66DD-4841-ADF6-55887DAA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60A31-143E-48D2-B3F4-F9CAB689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98111-0344-4DD4-999C-46A0E1D5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A3B2B-D26D-4CB2-973B-3CA670BB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9DAAD-954E-4535-AF52-928B0D6F3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3B031-5068-44B6-8CF2-84B73BF64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E44A9-91C2-4402-B876-FF1658AC9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7672-58BA-4DF2-9E20-46EDC2E8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6938D-FFF1-47E0-8DEC-733CEE7B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C126C-C282-4FD0-B1AC-4E714328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E53D2-5961-4B71-B5D1-577830E8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6A9E2-9875-4D97-9C22-3EEF8D29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403280" y="471600"/>
            <a:ext cx="734544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C66BF-41F5-426D-8F93-6BCC8179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27062-2BDC-4D72-A7C5-117C2A48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4E59F-0328-46ED-A3C0-CBBA17B3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42B99-B741-42EA-AB42-3AAEC41E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1F3D4-EB80-4C0A-8368-F44E29A8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8CBAE-A50D-4EDE-A3B8-0D732295A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03280" y="471600"/>
            <a:ext cx="734544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6266-9827-4314-B6BF-9A656E43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32E80-0AE0-4FC0-B269-2C029A503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C6A43-878F-4717-AB0B-43D61F017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E747A-BFFD-48B8-BAB8-EA78E40B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3F06B-7CEF-4875-A467-8CCB1720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FCFFF-6CF4-468C-B7A3-2B93DF69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EC6A4-DED1-41C5-BB63-C6F79C06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403280" y="471600"/>
            <a:ext cx="734544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C202A-7620-4B19-B3EA-E8E53BB4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A4B3E-BA30-4A5A-9408-BFF9016F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93D8D-0B66-406B-A67D-F8598ABD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CB0E1-73D2-45EF-B53F-00505580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5E0C-0CCC-40BF-A200-16D965B1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3648E-69A5-4BA1-83C6-499D47FA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68FDF-E3BD-4F60-9363-C2E6827C8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11FDE-E636-4FD4-8466-B88CED26E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291DF-2027-49BF-AFEC-AD9AD91F1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665F7-A7F6-4070-B4C7-50CEAE1D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6B99D-AF1B-41FC-AE79-7D9513D1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4D9C8-3A5A-4DC1-933D-7737C9B2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42162-034B-44FC-9238-A3C3AC63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403280" y="471600"/>
            <a:ext cx="734544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5EA97-1B42-4856-B09E-D039C9B3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6CEF5-30F7-4865-8D3E-A21635AB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9765-D838-4016-8472-CA8FC24E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27FC7-4429-4121-9E36-7540FC64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1BA4F-2CEE-4C8B-BB3B-D5EA1ED3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70E0E-7B31-48D0-8466-B0E13C6B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6D8E3-1ED8-4E03-8940-F56B32956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05D10-C5CF-4DE3-BA62-FAD05DD4A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2F70F-4C4E-4300-931F-7DCA39EF2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059F4-70E3-4F74-91B3-F3463235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8430E-C5F7-48E9-A91E-147279B8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190F9-0127-4B0D-BFD5-36B4055F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AC272-B6D7-4345-A464-5EFC6DB7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E78E-045F-486C-9E1A-AD808C43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1403280" y="471600"/>
            <a:ext cx="734544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B2D96-706E-46AE-804D-467E8A6B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A0798-E6D1-4F98-B2A3-3D8A698F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0EA1C-2A2F-4537-90AD-43E757E5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B6F58-470D-4B33-B413-32643FEE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02696-50C5-48D8-8200-1CE724D1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47FDF-1720-4A2A-AF4C-85DB76728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AA1FD-8B29-40F5-84B1-5F239F9B5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0E0178-4E24-4A2B-8A14-22FB19055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82A068-9BC1-4A62-8824-88363489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1FF990-3F3A-4BE7-9F6B-7774518D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c0c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0c0c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10" descr="0002"/>
          <p:cNvPicPr/>
          <p:nvPr/>
        </p:nvPicPr>
        <p:blipFill>
          <a:blip r:embed="rId3"/>
          <a:srcRect l="18850" t="-590909" r="0" b="0"/>
          <a:stretch/>
        </p:blipFill>
        <p:spPr>
          <a:xfrm>
            <a:off x="1800360" y="981000"/>
            <a:ext cx="7019640" cy="8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32000" y="6308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22BB-489D-4F93-BA22-C55A1A530674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AA42-ADA9-4D8F-B63D-2622D0BE0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c0c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0c0c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9F8F-D35C-46A4-80F7-78365CAD5F26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10" descr="0002"/>
          <p:cNvPicPr/>
          <p:nvPr/>
        </p:nvPicPr>
        <p:blipFill>
          <a:blip r:embed="rId3"/>
          <a:srcRect l="18850" t="-590909" r="0" b="0"/>
          <a:stretch/>
        </p:blipFill>
        <p:spPr>
          <a:xfrm>
            <a:off x="1800360" y="981000"/>
            <a:ext cx="7019640" cy="8568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c0c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0c0c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32000" y="6308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7658-AE30-48B2-A8F6-07F696E0BFE3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10" descr="0002"/>
          <p:cNvPicPr/>
          <p:nvPr/>
        </p:nvPicPr>
        <p:blipFill>
          <a:blip r:embed="rId3"/>
          <a:srcRect l="18850" t="-590909" r="0" b="0"/>
          <a:stretch/>
        </p:blipFill>
        <p:spPr>
          <a:xfrm>
            <a:off x="1800360" y="981000"/>
            <a:ext cx="7019640" cy="8568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c0c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0c0c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8509-D1B1-484C-B534-D2492D231BF6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10" descr="0002"/>
          <p:cNvPicPr/>
          <p:nvPr/>
        </p:nvPicPr>
        <p:blipFill>
          <a:blip r:embed="rId3"/>
          <a:srcRect l="18850" t="-590909" r="0" b="0"/>
          <a:stretch/>
        </p:blipFill>
        <p:spPr>
          <a:xfrm>
            <a:off x="1800360" y="981000"/>
            <a:ext cx="7019640" cy="8568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c0c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0c0c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41"/>
          </p:nvPr>
        </p:nvSpPr>
        <p:spPr>
          <a:xfrm>
            <a:off x="3132000" y="6308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0E85-AFE2-4214-9287-0694501BE264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10" descr="0002"/>
          <p:cNvPicPr/>
          <p:nvPr/>
        </p:nvPicPr>
        <p:blipFill>
          <a:blip r:embed="rId3"/>
          <a:srcRect l="18850" t="-590909" r="0" b="0"/>
          <a:stretch/>
        </p:blipFill>
        <p:spPr>
          <a:xfrm>
            <a:off x="1800360" y="981000"/>
            <a:ext cx="7019640" cy="8568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c0c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0c0c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43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44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45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A9F5-0F75-4C88-B45D-B468C05FC481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10" descr="0002"/>
          <p:cNvPicPr/>
          <p:nvPr/>
        </p:nvPicPr>
        <p:blipFill>
          <a:blip r:embed="rId3"/>
          <a:srcRect l="18850" t="-590909" r="0" b="0"/>
          <a:stretch/>
        </p:blipFill>
        <p:spPr>
          <a:xfrm>
            <a:off x="1800360" y="981000"/>
            <a:ext cx="7019640" cy="8568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c0c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0c0c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47"/>
          </p:nvPr>
        </p:nvSpPr>
        <p:spPr>
          <a:xfrm>
            <a:off x="3132000" y="6308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CD12-F36B-4A14-9A11-85FCD31C5011}" type="slidenum">
              <a:rPr b="0" lang="en-US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49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50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51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C833-7C5B-415E-9A96-992A827DF639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c0c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0c0c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F978-5E3B-453D-9CAA-198D610FB34E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10" descr="0002"/>
          <p:cNvPicPr/>
          <p:nvPr/>
        </p:nvPicPr>
        <p:blipFill>
          <a:blip r:embed="rId3"/>
          <a:srcRect l="18850" t="-590909" r="0" b="0"/>
          <a:stretch/>
        </p:blipFill>
        <p:spPr>
          <a:xfrm>
            <a:off x="1800360" y="981000"/>
            <a:ext cx="7019640" cy="85680"/>
          </a:xfrm>
          <a:prstGeom prst="rect">
            <a:avLst/>
          </a:prstGeom>
          <a:ln w="0">
            <a:noFill/>
          </a:ln>
        </p:spPr>
      </p:pic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c0c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0c0c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 type="ftr" idx="56"/>
          </p:nvPr>
        </p:nvSpPr>
        <p:spPr>
          <a:xfrm>
            <a:off x="3132000" y="6308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2305-123D-4EA9-B4AE-2E73584ACE85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DB5F-CF1A-4334-BE35-BF82893EF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Picture 10" descr="0002"/>
          <p:cNvPicPr/>
          <p:nvPr/>
        </p:nvPicPr>
        <p:blipFill>
          <a:blip r:embed="rId3"/>
          <a:srcRect l="18850" t="-590909" r="0" b="0"/>
          <a:stretch/>
        </p:blipFill>
        <p:spPr>
          <a:xfrm>
            <a:off x="1800360" y="981000"/>
            <a:ext cx="7019640" cy="85680"/>
          </a:xfrm>
          <a:prstGeom prst="rect">
            <a:avLst/>
          </a:prstGeom>
          <a:ln w="0">
            <a:noFill/>
          </a:ln>
        </p:spPr>
      </p:pic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c0c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0c0c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58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59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60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DF12-EB7A-4C39-9BCA-F7EB8B4678DB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Picture 10" descr="0002"/>
          <p:cNvPicPr/>
          <p:nvPr/>
        </p:nvPicPr>
        <p:blipFill>
          <a:blip r:embed="rId3"/>
          <a:srcRect l="18850" t="-590909" r="0" b="0"/>
          <a:stretch/>
        </p:blipFill>
        <p:spPr>
          <a:xfrm>
            <a:off x="1800360" y="981000"/>
            <a:ext cx="7019640" cy="85680"/>
          </a:xfrm>
          <a:prstGeom prst="rect">
            <a:avLst/>
          </a:prstGeom>
          <a:ln w="0">
            <a:noFill/>
          </a:ln>
        </p:spPr>
      </p:pic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c0c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0c0c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 type="ftr" idx="62"/>
          </p:nvPr>
        </p:nvSpPr>
        <p:spPr>
          <a:xfrm>
            <a:off x="3132000" y="6308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6462-5FD6-4132-B1BD-D6B4335D3F19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1" name="Picture 10" descr="0002"/>
          <p:cNvPicPr/>
          <p:nvPr/>
        </p:nvPicPr>
        <p:blipFill>
          <a:blip r:embed="rId3"/>
          <a:srcRect l="18850" t="-590909" r="0" b="0"/>
          <a:stretch/>
        </p:blipFill>
        <p:spPr>
          <a:xfrm>
            <a:off x="1800360" y="981000"/>
            <a:ext cx="7019640" cy="85680"/>
          </a:xfrm>
          <a:prstGeom prst="rect">
            <a:avLst/>
          </a:prstGeom>
          <a:ln w="0">
            <a:noFill/>
          </a:ln>
        </p:spPr>
      </p:pic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c0c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0c0c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 type="dt" idx="6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 type="ftr" idx="6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 type="sldNum" idx="6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A96B-25F5-4D97-9DC0-DF998E88FD12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3" name="Picture 10" descr="0002"/>
          <p:cNvPicPr/>
          <p:nvPr/>
        </p:nvPicPr>
        <p:blipFill>
          <a:blip r:embed="rId3"/>
          <a:srcRect l="18850" t="-590909" r="0" b="0"/>
          <a:stretch/>
        </p:blipFill>
        <p:spPr>
          <a:xfrm>
            <a:off x="1800360" y="981000"/>
            <a:ext cx="7019640" cy="85680"/>
          </a:xfrm>
          <a:prstGeom prst="rect">
            <a:avLst/>
          </a:prstGeom>
          <a:ln w="0">
            <a:noFill/>
          </a:ln>
        </p:spPr>
      </p:pic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c0c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0c0c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ftr" idx="68"/>
          </p:nvPr>
        </p:nvSpPr>
        <p:spPr>
          <a:xfrm>
            <a:off x="3132000" y="6308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DDCC-2F61-4249-929B-AF8D173F2A84}" type="slidenum">
              <a:rPr b="0" lang="en-US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Picture 10" descr="0002"/>
          <p:cNvPicPr/>
          <p:nvPr/>
        </p:nvPicPr>
        <p:blipFill>
          <a:blip r:embed="rId3"/>
          <a:srcRect l="18850" t="-590909" r="0" b="0"/>
          <a:stretch/>
        </p:blipFill>
        <p:spPr>
          <a:xfrm>
            <a:off x="1800360" y="981000"/>
            <a:ext cx="7019640" cy="85680"/>
          </a:xfrm>
          <a:prstGeom prst="rect">
            <a:avLst/>
          </a:prstGeom>
          <a:ln w="0">
            <a:noFill/>
          </a:ln>
        </p:spPr>
      </p:pic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c0c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0c0c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 type="dt" idx="70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 type="ftr" idx="71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 type="sldNum" idx="72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B991-C4B1-480F-B365-27C0BECD3ED9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73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74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75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B587-620D-4E4A-B8B5-BBB0D7AADE15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A3FC-FC9A-43D1-92F0-3F74D9AC3F09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5778-5371-4313-8C9E-E02190DB9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DBE2-32DD-4055-845B-1B2B1C3D7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c0c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0c0c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10" descr="0002"/>
          <p:cNvPicPr/>
          <p:nvPr/>
        </p:nvPicPr>
        <p:blipFill>
          <a:blip r:embed="rId3"/>
          <a:srcRect l="18850" t="-590909" r="0" b="0"/>
          <a:stretch/>
        </p:blipFill>
        <p:spPr>
          <a:xfrm>
            <a:off x="1800360" y="981000"/>
            <a:ext cx="7019640" cy="856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32000" y="6308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7F86-94AC-469F-8789-DD1E4483220B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FA7E-4A3C-4567-9F42-BDA0DE71EC5C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3D41-DCE1-481C-A288-F4DB040CB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C1CD-43F7-4649-BF77-C40247FC0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7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8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8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8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7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7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Text Box 18"/>
          <p:cNvSpPr/>
          <p:nvPr/>
        </p:nvSpPr>
        <p:spPr>
          <a:xfrm>
            <a:off x="0" y="2349360"/>
            <a:ext cx="91440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fcfc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c0c0c"/>
                </a:solidFill>
                <a:latin typeface="仿宋"/>
                <a:ea typeface="仿宋"/>
              </a:rPr>
              <a:t> </a:t>
            </a:r>
            <a:r>
              <a:rPr b="1" lang="en-US" sz="8800" spc="-1" strike="noStrike">
                <a:solidFill>
                  <a:srgbClr val="0c0c0c"/>
                </a:solidFill>
                <a:latin typeface="楷体_GB2312"/>
                <a:ea typeface="楷体_GB2312"/>
              </a:rPr>
              <a:t>《</a:t>
            </a:r>
            <a:r>
              <a:rPr b="1" lang="zh-CN" sz="8800" spc="-1" strike="noStrike">
                <a:solidFill>
                  <a:srgbClr val="0c0c0c"/>
                </a:solidFill>
                <a:latin typeface="楷体_GB2312"/>
                <a:ea typeface="楷体_GB2312"/>
              </a:rPr>
              <a:t>论语</a:t>
            </a:r>
            <a:r>
              <a:rPr b="1" lang="en-US" sz="8800" spc="-1" strike="noStrike">
                <a:solidFill>
                  <a:srgbClr val="0c0c0c"/>
                </a:solidFill>
                <a:latin typeface="楷体_GB2312"/>
                <a:ea typeface="楷体_GB2312"/>
              </a:rPr>
              <a:t>》</a:t>
            </a:r>
            <a:r>
              <a:rPr b="1" lang="zh-CN" sz="8800" spc="-1" strike="noStrike">
                <a:solidFill>
                  <a:srgbClr val="0c0c0c"/>
                </a:solidFill>
                <a:latin typeface="楷体_GB2312"/>
                <a:ea typeface="楷体_GB2312"/>
              </a:rPr>
              <a:t>十二章</a:t>
            </a:r>
            <a:endParaRPr b="0" lang="en-US" sz="8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39" name="Text Box 19"/>
          <p:cNvSpPr/>
          <p:nvPr/>
        </p:nvSpPr>
        <p:spPr>
          <a:xfrm>
            <a:off x="749880" y="333360"/>
            <a:ext cx="1887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fcfc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c0c"/>
                </a:solidFill>
                <a:latin typeface="隶书"/>
                <a:ea typeface="隶书"/>
              </a:rPr>
              <a:t>人教版七年级上册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"/>
          <p:cNvSpPr/>
          <p:nvPr/>
        </p:nvSpPr>
        <p:spPr>
          <a:xfrm>
            <a:off x="3276720" y="2205000"/>
            <a:ext cx="3528720" cy="1368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2556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120" rIns="15120" tIns="15120" bIns="15120" anchor="ctr">
            <a:no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9468000" cy="666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黑体"/>
              </a:rPr>
              <a:t>子 </a:t>
            </a:r>
            <a:r>
              <a:rPr b="1" lang="zh-CN" sz="4400" spc="-1" strike="noStrike">
                <a:solidFill>
                  <a:srgbClr val="0c0c0c"/>
                </a:solidFill>
                <a:latin typeface="黑体"/>
              </a:rPr>
              <a:t>曰：“学  而 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</a:rPr>
              <a:t>时 习 之</a:t>
            </a:r>
            <a:r>
              <a:rPr b="1" lang="zh-CN" sz="4400" spc="-1" strike="noStrike">
                <a:solidFill>
                  <a:srgbClr val="0c0c0c"/>
                </a:solidFill>
                <a:latin typeface="黑体"/>
              </a:rPr>
              <a:t>，不 亦</a:t>
            </a:r>
            <a:endParaRPr b="0" lang="en-US" sz="44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黑体"/>
              </a:rPr>
              <a:t>说</a:t>
            </a:r>
            <a:r>
              <a:rPr b="1" lang="zh-CN" sz="4400" spc="-1" strike="noStrike">
                <a:solidFill>
                  <a:srgbClr val="0c0c0c"/>
                </a:solidFill>
                <a:latin typeface="黑体"/>
              </a:rPr>
              <a:t> 乎？</a:t>
            </a:r>
            <a:endParaRPr b="0" lang="en-US" sz="44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c0c0c"/>
                </a:solidFill>
                <a:latin typeface="黑体"/>
              </a:rPr>
              <a:t>有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</a:rPr>
              <a:t>朋</a:t>
            </a:r>
            <a:r>
              <a:rPr b="1" lang="zh-CN" sz="4400" spc="-1" strike="noStrike">
                <a:solidFill>
                  <a:srgbClr val="0c0c0c"/>
                </a:solidFill>
                <a:latin typeface="黑体"/>
              </a:rPr>
              <a:t>自远方来，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</a:rPr>
              <a:t>不 亦</a:t>
            </a:r>
            <a:r>
              <a:rPr b="1" lang="zh-CN" sz="4400" spc="-1" strike="noStrike">
                <a:solidFill>
                  <a:srgbClr val="0c0c0c"/>
                </a:solidFill>
                <a:latin typeface="黑体"/>
              </a:rPr>
              <a:t> 乐 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</a:rPr>
              <a:t>乎</a:t>
            </a:r>
            <a:r>
              <a:rPr b="1" lang="zh-CN" sz="4400" spc="-1" strike="noStrike">
                <a:solidFill>
                  <a:srgbClr val="0c0c0c"/>
                </a:solidFill>
                <a:latin typeface="黑体"/>
              </a:rPr>
              <a:t>？人不</a:t>
            </a:r>
            <a:endParaRPr b="0" lang="en-US" sz="44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黑体"/>
              </a:rPr>
              <a:t>知</a:t>
            </a:r>
            <a:r>
              <a:rPr b="1" lang="zh-CN" sz="4400" spc="-1" strike="noStrike">
                <a:solidFill>
                  <a:srgbClr val="0c0c0c"/>
                </a:solidFill>
                <a:latin typeface="黑体"/>
              </a:rPr>
              <a:t>而不</a:t>
            </a:r>
            <a:r>
              <a:rPr b="1" lang="zh-CN" sz="4400" spc="-1" strike="noStrike">
                <a:solidFill>
                  <a:srgbClr val="000099"/>
                </a:solidFill>
                <a:latin typeface="黑体"/>
              </a:rPr>
              <a:t>愠</a:t>
            </a:r>
            <a:r>
              <a:rPr b="1" lang="zh-CN" sz="4400" spc="-1" strike="noStrike">
                <a:solidFill>
                  <a:srgbClr val="0c0c0c"/>
                </a:solidFill>
                <a:latin typeface="黑体"/>
              </a:rPr>
              <a:t>，不 亦 </a:t>
            </a:r>
            <a:r>
              <a:rPr b="1" lang="zh-CN" sz="4400" spc="-1" strike="noStrike">
                <a:solidFill>
                  <a:srgbClr val="000099"/>
                </a:solidFill>
                <a:latin typeface="黑体"/>
              </a:rPr>
              <a:t>君 子</a:t>
            </a:r>
            <a:r>
              <a:rPr b="1" lang="zh-CN" sz="4400" spc="-1" strike="noStrike">
                <a:solidFill>
                  <a:srgbClr val="0c0c0c"/>
                </a:solidFill>
                <a:latin typeface="黑体"/>
              </a:rPr>
              <a:t> 乎 ？ ”</a:t>
            </a:r>
            <a:endParaRPr b="0" lang="en-US" sz="4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71" name="Line 4"/>
          <p:cNvSpPr/>
          <p:nvPr/>
        </p:nvSpPr>
        <p:spPr>
          <a:xfrm>
            <a:off x="4427640" y="2205000"/>
            <a:ext cx="172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72" name="Text Box 5"/>
          <p:cNvSpPr/>
          <p:nvPr/>
        </p:nvSpPr>
        <p:spPr>
          <a:xfrm>
            <a:off x="4140360" y="2276640"/>
            <a:ext cx="3311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按一定的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时间复习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73" name="Text Box 6"/>
          <p:cNvSpPr/>
          <p:nvPr/>
        </p:nvSpPr>
        <p:spPr>
          <a:xfrm>
            <a:off x="0" y="69228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黑体"/>
              </a:rPr>
              <a:t>先生，指孔子</a:t>
            </a:r>
            <a:endParaRPr b="0" lang="en-US" sz="3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74" name="Text Box 8"/>
          <p:cNvSpPr/>
          <p:nvPr/>
        </p:nvSpPr>
        <p:spPr>
          <a:xfrm>
            <a:off x="0" y="2997360"/>
            <a:ext cx="38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33"/>
                </a:solidFill>
                <a:latin typeface="Times New Roman"/>
                <a:ea typeface="黑体"/>
              </a:rPr>
              <a:t>通“悦”，愉快</a:t>
            </a:r>
            <a:endParaRPr b="0" lang="en-US" sz="4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75" name="Text Box 9"/>
          <p:cNvSpPr/>
          <p:nvPr/>
        </p:nvSpPr>
        <p:spPr>
          <a:xfrm>
            <a:off x="971640" y="558972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（生气，发怒）</a:t>
            </a:r>
            <a:endParaRPr b="0" lang="en-US" sz="3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76" name="Text Box 10"/>
          <p:cNvSpPr/>
          <p:nvPr/>
        </p:nvSpPr>
        <p:spPr>
          <a:xfrm>
            <a:off x="4140360" y="551664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黑体"/>
              </a:rPr>
              <a:t>指道德上有修养的人</a:t>
            </a:r>
            <a:endParaRPr b="0" lang="en-US" sz="3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77" name="Text Box 17"/>
          <p:cNvSpPr/>
          <p:nvPr/>
        </p:nvSpPr>
        <p:spPr>
          <a:xfrm>
            <a:off x="0" y="5445000"/>
            <a:ext cx="14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了解</a:t>
            </a:r>
            <a:endParaRPr b="0" lang="en-US" sz="40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78" name="Line 4"/>
          <p:cNvSpPr/>
          <p:nvPr/>
        </p:nvSpPr>
        <p:spPr>
          <a:xfrm>
            <a:off x="5435640" y="1916280"/>
            <a:ext cx="576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79" name="Text Box 6"/>
          <p:cNvSpPr/>
          <p:nvPr/>
        </p:nvSpPr>
        <p:spPr>
          <a:xfrm>
            <a:off x="5219640" y="620640"/>
            <a:ext cx="210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复习</a:t>
            </a:r>
            <a:endParaRPr b="0" lang="en-US" sz="3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80" name="Text Box 5"/>
          <p:cNvSpPr/>
          <p:nvPr/>
        </p:nvSpPr>
        <p:spPr>
          <a:xfrm>
            <a:off x="0" y="4437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黑体"/>
              </a:rPr>
              <a:t>（这里指志同道合的人。）</a:t>
            </a:r>
            <a:endParaRPr b="0" lang="en-US" sz="3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0" y="981000"/>
            <a:ext cx="826920" cy="11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20" rIns="15120" tIns="15120" bIns="15120" anchor="t">
            <a:spAutoFit/>
          </a:bodyPr>
          <a:p>
            <a:pPr algn="ctr">
              <a:lnSpc>
                <a:spcPct val="90000"/>
              </a:lnSpc>
              <a:spcAft>
                <a:spcPts val="3501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黑体"/>
                <a:ea typeface="黑体"/>
              </a:rPr>
              <a:t>﹏</a:t>
            </a:r>
            <a:endParaRPr b="0" lang="en-US" sz="80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211640" y="692280"/>
            <a:ext cx="11523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20" rIns="15120" tIns="15120" bIns="15120" anchor="t">
            <a:spAutoFit/>
          </a:bodyPr>
          <a:p>
            <a:pPr algn="ctr">
              <a:lnSpc>
                <a:spcPct val="90000"/>
              </a:lnSpc>
              <a:spcAft>
                <a:spcPts val="1576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黑体"/>
                <a:ea typeface="黑体"/>
              </a:rPr>
              <a:t>按时</a:t>
            </a:r>
            <a:endParaRPr b="0" lang="en-US" sz="3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4356000" y="1052640"/>
            <a:ext cx="11509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20" rIns="15120" tIns="15120" bIns="15120" anchor="t">
            <a:spAutoFit/>
          </a:bodyPr>
          <a:p>
            <a:pPr algn="ctr">
              <a:lnSpc>
                <a:spcPct val="90000"/>
              </a:lnSpc>
              <a:spcAft>
                <a:spcPts val="38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黑体"/>
                <a:ea typeface="黑体"/>
              </a:rPr>
              <a:t>○</a:t>
            </a:r>
            <a:endParaRPr b="0" lang="en-US" sz="8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6516720" y="404640"/>
            <a:ext cx="129708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20" rIns="15120" tIns="15120" bIns="15120" anchor="t">
            <a:spAutoFit/>
          </a:bodyPr>
          <a:p>
            <a:pPr algn="ctr">
              <a:lnSpc>
                <a:spcPct val="90000"/>
              </a:lnSpc>
              <a:spcAft>
                <a:spcPts val="38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黑体"/>
                <a:ea typeface="黑体"/>
              </a:rPr>
              <a:t>↙</a:t>
            </a:r>
            <a:endParaRPr b="0" lang="en-US" sz="8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5193000" y="0"/>
            <a:ext cx="27741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120" rIns="15120" tIns="15120" bIns="15120" anchor="t">
            <a:spAutoFit/>
          </a:bodyPr>
          <a:p>
            <a:pPr algn="ctr">
              <a:lnSpc>
                <a:spcPct val="90000"/>
              </a:lnSpc>
              <a:spcAft>
                <a:spcPts val="1576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代词，代指学习的内容</a:t>
            </a:r>
            <a:endParaRPr b="0" lang="en-US" sz="3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539640" y="4292640"/>
            <a:ext cx="9352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20" rIns="15120" tIns="15120" bIns="15120" anchor="t">
            <a:spAutoFit/>
          </a:bodyPr>
          <a:p>
            <a:pPr algn="ctr">
              <a:lnSpc>
                <a:spcPct val="90000"/>
              </a:lnSpc>
              <a:spcAft>
                <a:spcPts val="288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黑体"/>
                <a:ea typeface="黑体"/>
              </a:rPr>
              <a:t>﹌</a:t>
            </a:r>
            <a:endParaRPr b="0" lang="en-US" sz="6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250920" y="2708280"/>
            <a:ext cx="33804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20" rIns="15120" tIns="15120" bIns="15120" anchor="t">
            <a:sp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0c0c0c"/>
                </a:solidFill>
                <a:latin typeface="黑体"/>
                <a:ea typeface="黑体"/>
              </a:rPr>
              <a:t>▲</a:t>
            </a:r>
            <a:endParaRPr b="0" lang="en-US" sz="2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88" name="Text Box 6"/>
          <p:cNvSpPr/>
          <p:nvPr/>
        </p:nvSpPr>
        <p:spPr>
          <a:xfrm>
            <a:off x="5508720" y="436572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黑体"/>
              </a:rPr>
              <a:t>不也…吗？表委婉语气</a:t>
            </a:r>
            <a:endParaRPr b="0" lang="en-US" sz="36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0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0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0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0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3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7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/>
          <p:nvPr/>
        </p:nvSpPr>
        <p:spPr>
          <a:xfrm>
            <a:off x="179280" y="2708280"/>
            <a:ext cx="896472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20" rIns="15120" tIns="15120" bIns="15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孔子说：“学习了（知识），然后按一定的时间复习，不也是很愉快吗？有志同道合的人从远方来，不也是很快乐吗？别人不了解（我），（我）却不发怒（怨恨），不也是君子的行为吗？</a:t>
            </a:r>
            <a:endParaRPr b="0" lang="en-US" sz="36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576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108160" y="826920"/>
            <a:ext cx="31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120" rIns="15120" tIns="15120" bIns="15120" anchor="t">
            <a:sp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0" y="476280"/>
            <a:ext cx="81374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20" rIns="15120" tIns="15120" bIns="15120" anchor="t">
            <a:spAutoFit/>
          </a:bodyPr>
          <a:p>
            <a:pPr algn="ctr">
              <a:lnSpc>
                <a:spcPct val="90000"/>
              </a:lnSpc>
              <a:spcAft>
                <a:spcPts val="1925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400" spc="-1" strike="noStrike">
                <a:solidFill>
                  <a:srgbClr val="0c0c0c"/>
                </a:solidFill>
                <a:latin typeface="黑体"/>
                <a:ea typeface="黑体"/>
              </a:rPr>
              <a:t>子曰：“学而时习之，不亦说乎？有朋自远方来，不亦乐乎？人不知而不愠，不亦君子乎？”</a:t>
            </a:r>
            <a:endParaRPr b="0" lang="en-US" sz="44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Rectangle 3"/>
          <p:cNvSpPr/>
          <p:nvPr/>
        </p:nvSpPr>
        <p:spPr>
          <a:xfrm>
            <a:off x="434880" y="173664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c0c0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c0c"/>
                </a:solidFill>
                <a:latin typeface="仿宋_GB2312"/>
                <a:ea typeface="仿宋_GB2312"/>
              </a:rPr>
              <a:t>     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e975c"/>
                </a:solidFill>
                <a:latin typeface="隶书"/>
                <a:ea typeface="隶书"/>
              </a:rPr>
              <a:t>内容解读</a:t>
            </a:r>
            <a:endParaRPr b="1" lang="en-US" sz="4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94" name="Rectangle 3"/>
          <p:cNvSpPr/>
          <p:nvPr/>
        </p:nvSpPr>
        <p:spPr>
          <a:xfrm>
            <a:off x="0" y="1197000"/>
            <a:ext cx="9612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c0c0c"/>
                </a:solidFill>
                <a:latin typeface="隶书"/>
                <a:ea typeface="隶书"/>
              </a:rPr>
              <a:t>【</a:t>
            </a:r>
            <a:r>
              <a:rPr b="1" lang="zh-CN" sz="4400" spc="-1" strike="noStrike">
                <a:solidFill>
                  <a:srgbClr val="0c0c0c"/>
                </a:solidFill>
                <a:latin typeface="隶书"/>
                <a:ea typeface="隶书"/>
              </a:rPr>
              <a:t>本章大旨</a:t>
            </a:r>
            <a:r>
              <a:rPr b="1" lang="en-US" sz="4400" spc="-1" strike="noStrike">
                <a:solidFill>
                  <a:srgbClr val="0c0c0c"/>
                </a:solidFill>
                <a:latin typeface="隶书"/>
                <a:ea typeface="隶书"/>
              </a:rPr>
              <a:t>】</a:t>
            </a:r>
            <a:r>
              <a:rPr b="1" lang="zh-CN" sz="4400" spc="-1" strike="noStrike">
                <a:solidFill>
                  <a:srgbClr val="0c0c0c"/>
                </a:solidFill>
                <a:latin typeface="隶书"/>
                <a:ea typeface="隶书"/>
              </a:rPr>
              <a:t>这一章主要谈了什么？</a:t>
            </a:r>
            <a:endParaRPr b="0" lang="en-US" sz="4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1776240" y="2133720"/>
            <a:ext cx="53856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120" rIns="15120" tIns="15120" bIns="15120" anchor="t">
            <a:spAutoFit/>
          </a:bodyPr>
          <a:p>
            <a:pPr algn="ctr">
              <a:lnSpc>
                <a:spcPct val="90000"/>
              </a:lnSpc>
              <a:spcAft>
                <a:spcPts val="17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000" spc="-1" strike="noStrike">
                <a:solidFill>
                  <a:srgbClr val="0c0c0c"/>
                </a:solidFill>
                <a:latin typeface="黑体"/>
                <a:ea typeface="黑体"/>
              </a:rPr>
              <a:t>第一句讲：</a:t>
            </a:r>
            <a:endParaRPr b="0" lang="en-US" sz="40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468360" y="2133720"/>
            <a:ext cx="368280" cy="4032000"/>
          </a:xfrm>
          <a:custGeom>
            <a:avLst/>
            <a:gdLst>
              <a:gd name="textAreaLeft" fmla="*/ 235440 w 368280"/>
              <a:gd name="textAreaRight" fmla="*/ 368640 w 368280"/>
              <a:gd name="textAreaTop" fmla="*/ 105120 h 4032000"/>
              <a:gd name="textAreaBottom" fmla="*/ 3926880 h 40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120" rIns="15120" tIns="15120" bIns="15120" anchor="ctr">
            <a:no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2050920" y="2133720"/>
            <a:ext cx="552456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20" rIns="15120" tIns="15120" bIns="15120" anchor="t">
            <a:spAutoFit/>
          </a:bodyPr>
          <a:p>
            <a:pPr algn="ctr">
              <a:lnSpc>
                <a:spcPct val="90000"/>
              </a:lnSpc>
              <a:spcAft>
                <a:spcPts val="2625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6000" spc="-1" strike="noStrike">
                <a:solidFill>
                  <a:srgbClr val="0c0c0c"/>
                </a:solidFill>
                <a:latin typeface="黑体"/>
                <a:ea typeface="黑体"/>
              </a:rPr>
              <a:t>学习方法</a:t>
            </a:r>
            <a:endParaRPr b="0" lang="en-US" sz="60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267920" y="3860640"/>
            <a:ext cx="155484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120" rIns="15120" tIns="15120" bIns="15120" anchor="t">
            <a:spAutoFit/>
          </a:bodyPr>
          <a:p>
            <a:pPr algn="ctr">
              <a:lnSpc>
                <a:spcPct val="90000"/>
              </a:lnSpc>
              <a:spcAft>
                <a:spcPts val="17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000" spc="-1" strike="noStrike">
                <a:solidFill>
                  <a:srgbClr val="0c0c0c"/>
                </a:solidFill>
                <a:latin typeface="黑体"/>
                <a:ea typeface="黑体"/>
              </a:rPr>
              <a:t>第二句讲：</a:t>
            </a:r>
            <a:endParaRPr b="0" lang="en-US" sz="40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2268360" y="3645000"/>
            <a:ext cx="57502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20" rIns="15120" tIns="15120" bIns="15120" anchor="t">
            <a:spAutoFit/>
          </a:bodyPr>
          <a:p>
            <a:pPr algn="ctr">
              <a:lnSpc>
                <a:spcPct val="90000"/>
              </a:lnSpc>
              <a:spcAft>
                <a:spcPts val="2625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6000" spc="-1" strike="noStrike">
                <a:solidFill>
                  <a:srgbClr val="0c0c0c"/>
                </a:solidFill>
                <a:latin typeface="黑体"/>
                <a:ea typeface="黑体"/>
              </a:rPr>
              <a:t>学习的乐趣</a:t>
            </a:r>
            <a:endParaRPr b="0" lang="en-US" sz="60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1339200" y="5445000"/>
            <a:ext cx="155484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120" rIns="15120" tIns="15120" bIns="15120" anchor="t">
            <a:spAutoFit/>
          </a:bodyPr>
          <a:p>
            <a:pPr algn="ctr">
              <a:lnSpc>
                <a:spcPct val="90000"/>
              </a:lnSpc>
              <a:spcAft>
                <a:spcPts val="17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000" spc="-1" strike="noStrike">
                <a:solidFill>
                  <a:srgbClr val="0c0c0c"/>
                </a:solidFill>
                <a:latin typeface="黑体"/>
                <a:ea typeface="黑体"/>
              </a:rPr>
              <a:t>第三句讲：</a:t>
            </a:r>
            <a:endParaRPr b="0" lang="en-US" sz="40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2050920" y="5300640"/>
            <a:ext cx="56689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20" rIns="15120" tIns="15120" bIns="15120" anchor="t">
            <a:spAutoFit/>
          </a:bodyPr>
          <a:p>
            <a:pPr algn="ctr">
              <a:lnSpc>
                <a:spcPct val="90000"/>
              </a:lnSpc>
              <a:spcAft>
                <a:spcPts val="2625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6000" spc="-1" strike="noStrike">
                <a:solidFill>
                  <a:srgbClr val="0c0c0c"/>
                </a:solidFill>
                <a:latin typeface="黑体"/>
                <a:ea typeface="黑体"/>
              </a:rPr>
              <a:t>个人修养</a:t>
            </a:r>
            <a:endParaRPr b="0" lang="en-US" sz="60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Rectangle 3"/>
          <p:cNvSpPr/>
          <p:nvPr/>
        </p:nvSpPr>
        <p:spPr>
          <a:xfrm>
            <a:off x="0" y="47628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c0c0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c0c0c"/>
                </a:solidFill>
                <a:latin typeface="华文仿宋"/>
                <a:ea typeface="华文仿宋"/>
              </a:rPr>
              <a:t>“</a:t>
            </a:r>
            <a:r>
              <a:rPr b="1" lang="zh-CN" sz="3600" spc="-1" strike="noStrike">
                <a:solidFill>
                  <a:srgbClr val="0c0c0c"/>
                </a:solidFill>
                <a:latin typeface="华文仿宋"/>
                <a:ea typeface="华文仿宋"/>
              </a:rPr>
              <a:t>有朋自远方来，不亦乐乎？”中的“朋”指什么样的人？为什么会“不亦乐乎”呢？从中可以看出孔子对学习与交流有怎样的态度？</a:t>
            </a:r>
            <a:endParaRPr b="0" lang="en-US" sz="3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9603"/>
                </a:solidFill>
                <a:latin typeface="隶书"/>
                <a:ea typeface="隶书"/>
              </a:rPr>
              <a:t>内容解读</a:t>
            </a:r>
            <a:endParaRPr b="1" lang="en-US" sz="36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104" name=""/>
          <p:cNvSpPr/>
          <p:nvPr/>
        </p:nvSpPr>
        <p:spPr>
          <a:xfrm>
            <a:off x="179280" y="3933720"/>
            <a:ext cx="8964720" cy="10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20" rIns="15120" tIns="15120" bIns="1512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①“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朋”指志同道合的人。②有志同道合的人聚在一起研究问题当然是高兴的事，更是一种乐趣。③可以看出孔子愿意与别人切磋探讨学问，把这当作乐事。</a:t>
            </a:r>
            <a:endParaRPr b="0" lang="en-US" sz="36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576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6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Text Box 2"/>
          <p:cNvSpPr/>
          <p:nvPr/>
        </p:nvSpPr>
        <p:spPr>
          <a:xfrm>
            <a:off x="0" y="333360"/>
            <a:ext cx="9288360" cy="56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c0c0c"/>
                </a:solidFill>
                <a:latin typeface="Arial"/>
              </a:rPr>
              <a:t>曾子曰：“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吾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日</a:t>
            </a: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三</a:t>
            </a:r>
            <a:r>
              <a:rPr b="1" lang="zh-CN" sz="4800" spc="-1" strike="noStrike">
                <a:solidFill>
                  <a:srgbClr val="15cd27"/>
                </a:solidFill>
                <a:latin typeface="Arial"/>
              </a:rPr>
              <a:t>省</a:t>
            </a:r>
            <a:r>
              <a:rPr b="1" lang="zh-CN" sz="4800" spc="-1" strike="noStrike">
                <a:solidFill>
                  <a:srgbClr val="0c0c0c"/>
                </a:solidFill>
                <a:latin typeface="Arial"/>
              </a:rPr>
              <a:t>吾身：为人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谋</a:t>
            </a:r>
            <a:endParaRPr b="0" lang="en-US" sz="48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2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c0c0c"/>
                </a:solidFill>
                <a:latin typeface="Arial"/>
              </a:rPr>
              <a:t>而不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忠</a:t>
            </a:r>
            <a:r>
              <a:rPr b="1" lang="zh-CN" sz="4800" spc="-1" strike="noStrike">
                <a:solidFill>
                  <a:srgbClr val="0c0c0c"/>
                </a:solidFill>
                <a:latin typeface="Arial"/>
              </a:rPr>
              <a:t>乎？与朋友交而不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信</a:t>
            </a:r>
            <a:r>
              <a:rPr b="1" lang="zh-CN" sz="4800" spc="-1" strike="noStrike">
                <a:solidFill>
                  <a:srgbClr val="0c0c0c"/>
                </a:solidFill>
                <a:latin typeface="Arial"/>
              </a:rPr>
              <a:t>乎？</a:t>
            </a:r>
            <a:endParaRPr b="0" lang="en-US" sz="48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2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传</a:t>
            </a:r>
            <a:r>
              <a:rPr b="1" lang="zh-CN" sz="4800" spc="-1" strike="noStrike">
                <a:solidFill>
                  <a:srgbClr val="0c0c0c"/>
                </a:solidFill>
                <a:latin typeface="Arial"/>
              </a:rPr>
              <a:t>不习乎</a:t>
            </a:r>
            <a:r>
              <a:rPr b="0" lang="zh-CN" sz="4800" spc="-1" strike="noStrike">
                <a:solidFill>
                  <a:srgbClr val="0c0c0c"/>
                </a:solidFill>
                <a:latin typeface="Arial"/>
              </a:rPr>
              <a:t>？”</a:t>
            </a:r>
            <a:endParaRPr b="0" lang="en-US" sz="4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06" name="Text Box 3"/>
          <p:cNvSpPr/>
          <p:nvPr/>
        </p:nvSpPr>
        <p:spPr>
          <a:xfrm>
            <a:off x="395280" y="1844640"/>
            <a:ext cx="34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（人称代词，我）</a:t>
            </a:r>
            <a:endParaRPr b="0" lang="en-US" sz="3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07" name="AutoShape 4"/>
          <p:cNvSpPr/>
          <p:nvPr/>
        </p:nvSpPr>
        <p:spPr>
          <a:xfrm>
            <a:off x="2556000" y="44280"/>
            <a:ext cx="1584360" cy="981360"/>
          </a:xfrm>
          <a:prstGeom prst="wedgeEllipseCallout">
            <a:avLst>
              <a:gd name="adj1" fmla="val 4208"/>
              <a:gd name="adj2" fmla="val 71842"/>
            </a:avLst>
          </a:prstGeom>
          <a:solidFill>
            <a:srgbClr val="ffff00"/>
          </a:solidFill>
          <a:ln w="936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c0c0c"/>
                </a:solidFill>
                <a:latin typeface="Arial"/>
                <a:ea typeface="黑体"/>
              </a:rPr>
              <a:t>每天</a:t>
            </a:r>
            <a:endParaRPr b="0" lang="en-US" sz="3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08" name="Text Box 6"/>
          <p:cNvSpPr/>
          <p:nvPr/>
        </p:nvSpPr>
        <p:spPr>
          <a:xfrm>
            <a:off x="3708360" y="198900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(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泛指多次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)</a:t>
            </a:r>
            <a:endParaRPr b="0" lang="en-US" sz="3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09" name="AutoShape 7"/>
          <p:cNvSpPr/>
          <p:nvPr/>
        </p:nvSpPr>
        <p:spPr>
          <a:xfrm>
            <a:off x="4356000" y="0"/>
            <a:ext cx="1800360" cy="907920"/>
          </a:xfrm>
          <a:prstGeom prst="wedgeRoundRectCallout">
            <a:avLst>
              <a:gd name="adj1" fmla="val -20842"/>
              <a:gd name="adj2" fmla="val 87935"/>
              <a:gd name="adj3" fmla="val 16667"/>
            </a:avLst>
          </a:prstGeom>
          <a:solidFill>
            <a:srgbClr val="ffff00"/>
          </a:solidFill>
          <a:ln w="936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自我检查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反省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10" name="Text Box 9"/>
          <p:cNvSpPr/>
          <p:nvPr/>
        </p:nvSpPr>
        <p:spPr>
          <a:xfrm>
            <a:off x="7164360" y="836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è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11" name="Text Box 11"/>
          <p:cNvSpPr/>
          <p:nvPr/>
        </p:nvSpPr>
        <p:spPr>
          <a:xfrm>
            <a:off x="6084720" y="400536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真诚，诚实</a:t>
            </a:r>
            <a:endParaRPr b="0" lang="en-US" sz="3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12" name="AutoShape 12"/>
          <p:cNvSpPr/>
          <p:nvPr/>
        </p:nvSpPr>
        <p:spPr>
          <a:xfrm>
            <a:off x="324000" y="5877000"/>
            <a:ext cx="4752720" cy="649080"/>
          </a:xfrm>
          <a:prstGeom prst="wedgeRoundRectCallout">
            <a:avLst>
              <a:gd name="adj1" fmla="val -42870"/>
              <a:gd name="adj2" fmla="val -67638"/>
              <a:gd name="adj3" fmla="val 16667"/>
            </a:avLst>
          </a:prstGeom>
          <a:solidFill>
            <a:srgbClr val="ffff00"/>
          </a:solidFill>
          <a:ln w="936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c0c0c"/>
                </a:solidFill>
                <a:latin typeface="Arial"/>
                <a:ea typeface="黑体"/>
              </a:rPr>
              <a:t>老师传授的知识</a:t>
            </a:r>
            <a:endParaRPr b="0" lang="en-US" sz="3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13" name="Text Box 14"/>
          <p:cNvSpPr/>
          <p:nvPr/>
        </p:nvSpPr>
        <p:spPr>
          <a:xfrm>
            <a:off x="0" y="692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zēng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14" name="Rectangle 15"/>
          <p:cNvSpPr/>
          <p:nvPr/>
        </p:nvSpPr>
        <p:spPr>
          <a:xfrm>
            <a:off x="144360" y="5032440"/>
            <a:ext cx="882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15" name="Line 4"/>
          <p:cNvSpPr/>
          <p:nvPr/>
        </p:nvSpPr>
        <p:spPr>
          <a:xfrm>
            <a:off x="2916360" y="1844640"/>
            <a:ext cx="3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16" name="Line 4"/>
          <p:cNvSpPr/>
          <p:nvPr/>
        </p:nvSpPr>
        <p:spPr>
          <a:xfrm>
            <a:off x="3564000" y="1844640"/>
            <a:ext cx="3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17" name="Line 4"/>
          <p:cNvSpPr/>
          <p:nvPr/>
        </p:nvSpPr>
        <p:spPr>
          <a:xfrm>
            <a:off x="4211640" y="1844640"/>
            <a:ext cx="395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18" name="Line 4"/>
          <p:cNvSpPr/>
          <p:nvPr/>
        </p:nvSpPr>
        <p:spPr>
          <a:xfrm>
            <a:off x="4788000" y="1844640"/>
            <a:ext cx="3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19" name="AutoShape 7"/>
          <p:cNvSpPr/>
          <p:nvPr/>
        </p:nvSpPr>
        <p:spPr>
          <a:xfrm>
            <a:off x="6227640" y="260280"/>
            <a:ext cx="2916360" cy="647640"/>
          </a:xfrm>
          <a:prstGeom prst="wedgeRoundRectCallout">
            <a:avLst>
              <a:gd name="adj1" fmla="val 26648"/>
              <a:gd name="adj2" fmla="val 108578"/>
              <a:gd name="adj3" fmla="val 16667"/>
            </a:avLst>
          </a:prstGeom>
          <a:solidFill>
            <a:srgbClr val="ffff00"/>
          </a:solidFill>
          <a:ln w="936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策划，考虑</a:t>
            </a:r>
            <a:endParaRPr b="0" lang="en-US" sz="3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20" name="Text Box 10"/>
          <p:cNvSpPr/>
          <p:nvPr/>
        </p:nvSpPr>
        <p:spPr>
          <a:xfrm>
            <a:off x="611280" y="393372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办事尽心竭力</a:t>
            </a:r>
            <a:endParaRPr b="0" lang="en-US" sz="3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7236000" y="1916280"/>
            <a:ext cx="5410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20" rIns="15120" tIns="15120" bIns="15120" anchor="t">
            <a:spAutoFit/>
          </a:bodyPr>
          <a:p>
            <a:pPr algn="ctr">
              <a:lnSpc>
                <a:spcPct val="90000"/>
              </a:lnSpc>
              <a:spcAft>
                <a:spcPts val="17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替</a:t>
            </a:r>
            <a:endParaRPr b="0" lang="en-US" sz="40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5508000" y="5157720"/>
            <a:ext cx="847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20" rIns="15120" tIns="15120" bIns="15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235080" y="-88920"/>
            <a:ext cx="37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20" rIns="15120" tIns="15120" bIns="15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4620240" y="907920"/>
            <a:ext cx="6940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120" rIns="15120" tIns="15120" bIns="15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xǐng</a:t>
            </a:r>
            <a:endParaRPr b="0" lang="en-US" sz="24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8" dur="2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2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/>
          <p:nvPr/>
        </p:nvSpPr>
        <p:spPr>
          <a:xfrm>
            <a:off x="324000" y="3429000"/>
            <a:ext cx="88200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20" rIns="15120" tIns="15120" bIns="15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曾子说：“我每天多次反省自己：替别人办事有没有尽心竭力呢？与朋友交往是不是诚实呢？老师传授的知识有没有复习过呢？”</a:t>
            </a:r>
            <a:endParaRPr b="0" lang="en-US" sz="3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395280" y="1197000"/>
            <a:ext cx="7740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20" rIns="15120" tIns="15120" bIns="15120" anchor="t">
            <a:spAutoFit/>
          </a:bodyPr>
          <a:p>
            <a:pPr>
              <a:lnSpc>
                <a:spcPct val="90000"/>
              </a:lnSpc>
              <a:spcAft>
                <a:spcPts val="1925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400" spc="-1" strike="noStrike">
                <a:solidFill>
                  <a:srgbClr val="0c0c0c"/>
                </a:solidFill>
                <a:latin typeface="黑体"/>
                <a:ea typeface="黑体"/>
              </a:rPr>
              <a:t>曾子曰：“吾日三省吾身：为人谋而不忠乎？与朋友交而不信乎？传不习乎？”</a:t>
            </a:r>
            <a:endParaRPr b="0" lang="en-US" sz="44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3"/>
          <p:cNvSpPr/>
          <p:nvPr/>
        </p:nvSpPr>
        <p:spPr>
          <a:xfrm>
            <a:off x="179280" y="3284640"/>
            <a:ext cx="8229600" cy="38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c0c0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c0c"/>
                </a:solidFill>
                <a:latin typeface="华文仿宋"/>
                <a:ea typeface="华文仿宋"/>
              </a:rPr>
              <a:t> </a:t>
            </a:r>
            <a:r>
              <a:rPr b="1" lang="zh-CN" sz="4000" spc="-1" strike="noStrike">
                <a:solidFill>
                  <a:srgbClr val="0c0c0c"/>
                </a:solidFill>
                <a:latin typeface="仿宋"/>
                <a:ea typeface="仿宋"/>
              </a:rPr>
              <a:t>从曾子“三省”来看，古代治学之人非常重视的是什么？</a:t>
            </a:r>
            <a:endParaRPr b="0" lang="en-US" sz="4000" spc="-1" strike="noStrike">
              <a:solidFill>
                <a:srgbClr val="0c0c0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9603"/>
                </a:solidFill>
                <a:latin typeface="隶书"/>
                <a:ea typeface="隶书"/>
              </a:rPr>
              <a:t>内容解读</a:t>
            </a:r>
            <a:endParaRPr b="1" lang="en-US" sz="36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129" name="Rectangle 3"/>
          <p:cNvSpPr/>
          <p:nvPr/>
        </p:nvSpPr>
        <p:spPr>
          <a:xfrm>
            <a:off x="0" y="1125360"/>
            <a:ext cx="82296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4800" spc="-1" strike="noStrike">
                <a:solidFill>
                  <a:srgbClr val="0c0c0c"/>
                </a:solidFill>
                <a:latin typeface="宋体"/>
              </a:rPr>
              <a:t>【</a:t>
            </a:r>
            <a:r>
              <a:rPr b="1" lang="zh-CN" sz="4800" spc="-1" strike="noStrike">
                <a:solidFill>
                  <a:srgbClr val="0c0c0c"/>
                </a:solidFill>
                <a:latin typeface="宋体"/>
              </a:rPr>
              <a:t>本章大旨</a:t>
            </a:r>
            <a:r>
              <a:rPr b="1" lang="en-US" sz="4800" spc="-1" strike="noStrike">
                <a:solidFill>
                  <a:srgbClr val="0c0c0c"/>
                </a:solidFill>
                <a:latin typeface="宋体"/>
              </a:rPr>
              <a:t>】</a:t>
            </a:r>
            <a:r>
              <a:rPr b="1" lang="zh-CN" sz="4800" spc="-1" strike="noStrike">
                <a:solidFill>
                  <a:srgbClr val="0c0c0c"/>
                </a:solidFill>
                <a:latin typeface="宋体"/>
              </a:rPr>
              <a:t>这一章主要讲治学的人要</a:t>
            </a:r>
            <a:r>
              <a:rPr b="1" lang="en-US" sz="4800" spc="-1" strike="noStrike">
                <a:solidFill>
                  <a:srgbClr val="0c0c0c"/>
                </a:solidFill>
                <a:latin typeface="宋体"/>
              </a:rPr>
              <a:t>?</a:t>
            </a:r>
            <a:endParaRPr b="0" lang="en-US" sz="4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900000" y="2781360"/>
            <a:ext cx="6985080" cy="14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20" rIns="15120" tIns="15120" bIns="1512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要加强个人思想道德修养。</a:t>
            </a:r>
            <a:endParaRPr b="0" lang="en-US" sz="48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4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-466560" y="5435640"/>
            <a:ext cx="7278480" cy="14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20" rIns="15120" tIns="15120" bIns="1512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重视品德修养。</a:t>
            </a:r>
            <a:endParaRPr b="0" lang="en-US" sz="48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48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/>
          </p:nvPr>
        </p:nvSpPr>
        <p:spPr>
          <a:xfrm>
            <a:off x="350640" y="-314640"/>
            <a:ext cx="8793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子曰：“吾十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有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五</a:t>
            </a:r>
            <a:r>
              <a:rPr b="1" lang="zh-CN" sz="4000" spc="-1" strike="noStrike">
                <a:solidFill>
                  <a:srgbClr val="15cd27"/>
                </a:solidFill>
                <a:latin typeface="黑体"/>
                <a:ea typeface="黑体"/>
              </a:rPr>
              <a:t>而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志于学，三十</a:t>
            </a:r>
            <a:r>
              <a:rPr b="1" lang="zh-CN" sz="4000" spc="-1" strike="noStrike">
                <a:solidFill>
                  <a:srgbClr val="15cd27"/>
                </a:solidFill>
                <a:latin typeface="黑体"/>
                <a:ea typeface="黑体"/>
              </a:rPr>
              <a:t>而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立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四十</a:t>
            </a:r>
            <a:r>
              <a:rPr b="1" lang="zh-CN" sz="4000" spc="-1" strike="noStrike">
                <a:solidFill>
                  <a:srgbClr val="15cd27"/>
                </a:solidFill>
                <a:latin typeface="黑体"/>
                <a:ea typeface="黑体"/>
              </a:rPr>
              <a:t>而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不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惑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五十</a:t>
            </a:r>
            <a:r>
              <a:rPr b="1" lang="zh-CN" sz="4000" spc="-1" strike="noStrike">
                <a:solidFill>
                  <a:srgbClr val="15cd27"/>
                </a:solidFill>
                <a:latin typeface="黑体"/>
                <a:ea typeface="黑体"/>
              </a:rPr>
              <a:t>而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知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天命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六十</a:t>
            </a:r>
            <a:r>
              <a:rPr b="1" lang="zh-CN" sz="4000" spc="-1" strike="noStrike">
                <a:solidFill>
                  <a:srgbClr val="660066"/>
                </a:solidFill>
                <a:latin typeface="黑体"/>
                <a:ea typeface="黑体"/>
              </a:rPr>
              <a:t>而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耳顺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七十</a:t>
            </a:r>
            <a:r>
              <a:rPr b="1" lang="zh-CN" sz="4000" spc="-1" strike="noStrike">
                <a:solidFill>
                  <a:srgbClr val="660066"/>
                </a:solidFill>
                <a:latin typeface="黑体"/>
                <a:ea typeface="黑体"/>
              </a:rPr>
              <a:t>而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从心所欲，不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逾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矩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 Box 8"/>
          <p:cNvSpPr/>
          <p:nvPr/>
        </p:nvSpPr>
        <p:spPr>
          <a:xfrm>
            <a:off x="2340000" y="328464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（迷惑，疑惑）</a:t>
            </a:r>
            <a:endParaRPr b="0" lang="en-US" sz="40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34" name="Text Box 14"/>
          <p:cNvSpPr/>
          <p:nvPr/>
        </p:nvSpPr>
        <p:spPr>
          <a:xfrm>
            <a:off x="6372360" y="3789360"/>
            <a:ext cx="37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越过，超过</a:t>
            </a:r>
            <a:endParaRPr b="0" lang="en-US" sz="40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35" name="Text Box 8"/>
          <p:cNvSpPr/>
          <p:nvPr/>
        </p:nvSpPr>
        <p:spPr>
          <a:xfrm>
            <a:off x="5796000" y="1413000"/>
            <a:ext cx="4273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不能为人力</a:t>
            </a:r>
            <a:endParaRPr b="0" lang="en-US" sz="4000" spc="-1" strike="noStrike">
              <a:solidFill>
                <a:srgbClr val="0c0c0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所支配的事情</a:t>
            </a:r>
            <a:endParaRPr b="0" lang="en-US" sz="40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36" name="Text Box 8"/>
          <p:cNvSpPr/>
          <p:nvPr/>
        </p:nvSpPr>
        <p:spPr>
          <a:xfrm>
            <a:off x="468360" y="522936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&lt;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可理解为能听得进不同意见。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&gt;</a:t>
            </a:r>
            <a:endParaRPr b="0" lang="en-US" sz="40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37" name="Line 4"/>
          <p:cNvSpPr/>
          <p:nvPr/>
        </p:nvSpPr>
        <p:spPr>
          <a:xfrm>
            <a:off x="3851280" y="3284640"/>
            <a:ext cx="3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38" name="Line 4"/>
          <p:cNvSpPr/>
          <p:nvPr/>
        </p:nvSpPr>
        <p:spPr>
          <a:xfrm>
            <a:off x="468360" y="3284640"/>
            <a:ext cx="395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39" name="Rectangle 3"/>
          <p:cNvSpPr/>
          <p:nvPr/>
        </p:nvSpPr>
        <p:spPr>
          <a:xfrm>
            <a:off x="0" y="4583160"/>
            <a:ext cx="9207360" cy="22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5508720" y="189000"/>
            <a:ext cx="2016000" cy="503280"/>
          </a:xfrm>
          <a:prstGeom prst="wedgeRectCallout">
            <a:avLst>
              <a:gd name="adj1" fmla="val -79370"/>
              <a:gd name="adj2" fmla="val 115615"/>
            </a:avLst>
          </a:prstGeom>
          <a:solidFill>
            <a:srgbClr val="ffffff"/>
          </a:solidFill>
          <a:ln w="2556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120" rIns="15120" tIns="15120" bIns="15120" anchor="ctr">
            <a:noAutofit/>
          </a:bodyPr>
          <a:p>
            <a:pPr algn="ctr">
              <a:lnSpc>
                <a:spcPct val="90000"/>
              </a:lnSpc>
              <a:spcAft>
                <a:spcPts val="1576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3600" spc="-1" strike="noStrike">
                <a:solidFill>
                  <a:srgbClr val="0c0c0c"/>
                </a:solidFill>
                <a:latin typeface="黑体"/>
                <a:ea typeface="黑体"/>
              </a:rPr>
              <a:t>表顺承</a:t>
            </a:r>
            <a:endParaRPr b="0" lang="en-US" sz="3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1981080" y="61200"/>
            <a:ext cx="1727280" cy="469440"/>
          </a:xfrm>
          <a:prstGeom prst="wedgeRectCallout">
            <a:avLst>
              <a:gd name="adj1" fmla="val 54393"/>
              <a:gd name="adj2" fmla="val 101490"/>
            </a:avLst>
          </a:prstGeom>
          <a:solidFill>
            <a:srgbClr val="ffffff"/>
          </a:solidFill>
          <a:ln w="2556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120" rIns="15120" tIns="15120" bIns="15120" anchor="ctr">
            <a:spAutoFit/>
          </a:bodyPr>
          <a:p>
            <a:pPr algn="ctr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3200" spc="-1" strike="noStrike">
                <a:solidFill>
                  <a:srgbClr val="0c0c0c"/>
                </a:solidFill>
                <a:latin typeface="黑体"/>
                <a:ea typeface="黑体"/>
              </a:rPr>
              <a:t>通“又”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79280" y="1484280"/>
            <a:ext cx="4608720" cy="969840"/>
          </a:xfrm>
          <a:prstGeom prst="wedgeRoundRectCallout">
            <a:avLst>
              <a:gd name="adj1" fmla="val -37837"/>
              <a:gd name="adj2" fmla="val 85023"/>
              <a:gd name="adj3" fmla="val 16667"/>
            </a:avLst>
          </a:prstGeom>
          <a:solidFill>
            <a:srgbClr val="ffffff"/>
          </a:solidFill>
          <a:ln w="2556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120" rIns="15120" tIns="15120" bIns="15120" anchor="ctr">
            <a:noAutofit/>
          </a:bodyPr>
          <a:p>
            <a:pPr algn="ctr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0c0c0c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c0c0c"/>
                </a:solidFill>
                <a:latin typeface="黑体"/>
                <a:ea typeface="黑体"/>
              </a:rPr>
              <a:t>站立，站得住，这里可以理解为独立做事情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7164360" y="3213000"/>
            <a:ext cx="9367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20" rIns="15120" tIns="15120" bIns="15120" anchor="t">
            <a:spAutoFit/>
          </a:bodyPr>
          <a:p>
            <a:pPr algn="ctr">
              <a:lnSpc>
                <a:spcPct val="90000"/>
              </a:lnSpc>
              <a:spcAft>
                <a:spcPts val="288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黑体"/>
                <a:ea typeface="黑体"/>
              </a:rPr>
              <a:t>﹌</a:t>
            </a:r>
            <a:endParaRPr b="0" lang="en-US" sz="6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1835280" y="5950080"/>
            <a:ext cx="3744720" cy="609480"/>
          </a:xfrm>
          <a:prstGeom prst="wedgeRectCallout">
            <a:avLst>
              <a:gd name="adj1" fmla="val -74078"/>
              <a:gd name="adj2" fmla="val 67708"/>
            </a:avLst>
          </a:prstGeom>
          <a:solidFill>
            <a:srgbClr val="ffffff"/>
          </a:solidFill>
          <a:ln w="2556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120" rIns="15120" tIns="15120" bIns="15120" anchor="ctr">
            <a:noAutofit/>
          </a:bodyPr>
          <a:p>
            <a:pPr algn="ctr">
              <a:lnSpc>
                <a:spcPct val="90000"/>
              </a:lnSpc>
              <a:spcAft>
                <a:spcPts val="1925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0c0c0c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0c0c0c"/>
                </a:solidFill>
                <a:latin typeface="黑体"/>
                <a:ea typeface="黑体"/>
              </a:rPr>
              <a:t>规矩，规范</a:t>
            </a:r>
            <a:endParaRPr b="0" lang="en-US" sz="44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1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4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29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1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1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179280" y="3500280"/>
            <a:ext cx="8964720" cy="17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20" rIns="15120" tIns="15120" bIns="1512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孔子说：“我十五岁开始立志学习，三十岁能自立于世，四十岁遇事能不迷惑，五十岁了解并顺应了自然规律，六十岁对各种言论能明辨是非，到七十岁才可以随心所欲，又不会超出规矩。”</a:t>
            </a:r>
            <a:r>
              <a:rPr b="1" lang="zh-CN" sz="3600" spc="-1" strike="noStrike">
                <a:solidFill>
                  <a:srgbClr val="0c0c0c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24000" y="836640"/>
            <a:ext cx="882000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20" rIns="15120" tIns="15120" bIns="15120" anchor="t">
            <a:spAutoFit/>
          </a:bodyPr>
          <a:p>
            <a:pPr>
              <a:lnSpc>
                <a:spcPct val="90000"/>
              </a:lnSpc>
              <a:spcAft>
                <a:spcPts val="17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000" spc="-1" strike="noStrike">
                <a:solidFill>
                  <a:srgbClr val="0c0c0c"/>
                </a:solidFill>
                <a:latin typeface="黑体"/>
                <a:ea typeface="黑体"/>
              </a:rPr>
              <a:t>子曰：“吾十有五而志于学，三十而立，四十而不惑，五十而知天命，六十而耳顺，七十而从心所欲，不逾矩。”</a:t>
            </a:r>
            <a:endParaRPr b="0" lang="en-US" sz="40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7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Rectangle 3"/>
          <p:cNvSpPr/>
          <p:nvPr/>
        </p:nvSpPr>
        <p:spPr>
          <a:xfrm>
            <a:off x="395280" y="1341360"/>
            <a:ext cx="822960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、从本章来看，学习和修养的过程可分为几个阶段？</a:t>
            </a:r>
            <a:endParaRPr b="0" lang="en-US" sz="4000" spc="-1" strike="noStrike">
              <a:solidFill>
                <a:srgbClr val="0c0c0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48" name="Rectangle 3"/>
          <p:cNvSpPr/>
          <p:nvPr/>
        </p:nvSpPr>
        <p:spPr>
          <a:xfrm>
            <a:off x="9360" y="1197000"/>
            <a:ext cx="91346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本章大旨</a:t>
            </a:r>
            <a:r>
              <a:rPr b="1" lang="en-US" sz="3200" spc="-1" strike="noStrike">
                <a:solidFill>
                  <a:srgbClr val="ff0000"/>
                </a:solidFill>
                <a:latin typeface="隶书"/>
                <a:ea typeface="隶书"/>
              </a:rPr>
              <a:t>】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孔子自述他学习和提高修养的过程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49" name="Rectangle 2"/>
          <p:cNvSpPr/>
          <p:nvPr/>
        </p:nvSpPr>
        <p:spPr>
          <a:xfrm>
            <a:off x="4427640" y="476280"/>
            <a:ext cx="734544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c0c0c"/>
                </a:solidFill>
                <a:latin typeface="隶书"/>
                <a:ea typeface="隶书"/>
              </a:rPr>
              <a:t>读解容内</a:t>
            </a:r>
            <a:endParaRPr b="0" lang="en-US" sz="2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395280" y="3718080"/>
            <a:ext cx="9037800" cy="26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20" rIns="15120" tIns="15120" bIns="15120" anchor="t">
            <a:spAutoFit/>
          </a:bodyPr>
          <a:p>
            <a:pPr>
              <a:lnSpc>
                <a:spcPct val="90000"/>
              </a:lnSpc>
              <a:spcAft>
                <a:spcPts val="1576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十五岁到四十岁：学习领会</a:t>
            </a:r>
            <a:endParaRPr b="0" lang="en-US" sz="36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576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五十、六十岁：安心立命，不受外界左右</a:t>
            </a:r>
            <a:endParaRPr b="0" lang="en-US" sz="36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576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七十：主观意识和做人规则融合为一</a:t>
            </a:r>
            <a:endParaRPr b="0" lang="en-US" sz="36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576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6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250920" y="764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一、教学要求</a:t>
            </a:r>
            <a:endParaRPr b="1" lang="en-US" sz="32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250920" y="2421000"/>
            <a:ext cx="8540640" cy="38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5cd2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cd27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15cd27"/>
                </a:solidFill>
                <a:latin typeface="楷体_GB2312"/>
                <a:ea typeface="楷体_GB2312"/>
              </a:rPr>
              <a:t>要求能疏通文意，掌握本文的主要内容。</a:t>
            </a:r>
            <a:endParaRPr b="0" lang="en-US" sz="32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c0c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5cd2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cd27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15cd27"/>
                </a:solidFill>
                <a:latin typeface="楷体_GB2312"/>
                <a:ea typeface="楷体_GB2312"/>
              </a:rPr>
              <a:t>掌握关于学习方法与学习态度的名言警句。</a:t>
            </a:r>
            <a:endParaRPr b="0" lang="en-US" sz="32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c0c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5cd2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cd27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15cd27"/>
                </a:solidFill>
                <a:latin typeface="楷体_GB2312"/>
                <a:ea typeface="楷体_GB2312"/>
              </a:rPr>
              <a:t>了解</a:t>
            </a:r>
            <a:r>
              <a:rPr b="1" lang="en-US" sz="3200" spc="-1" strike="noStrike">
                <a:solidFill>
                  <a:srgbClr val="15cd27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15cd27"/>
                </a:solidFill>
                <a:latin typeface="楷体_GB2312"/>
                <a:ea typeface="楷体_GB2312"/>
              </a:rPr>
              <a:t>论语</a:t>
            </a:r>
            <a:r>
              <a:rPr b="1" lang="en-US" sz="3200" spc="-1" strike="noStrike">
                <a:solidFill>
                  <a:srgbClr val="15cd27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15cd27"/>
                </a:solidFill>
                <a:latin typeface="楷体_GB2312"/>
                <a:ea typeface="楷体_GB2312"/>
              </a:rPr>
              <a:t>的基本情况及孔子的教育思想。</a:t>
            </a:r>
            <a:endParaRPr b="0" lang="en-US" sz="3200" spc="-1" strike="noStrike">
              <a:solidFill>
                <a:srgbClr val="0c0c0c"/>
              </a:solidFill>
              <a:latin typeface="黑体"/>
            </a:endParaRPr>
          </a:p>
        </p:txBody>
      </p:sp>
    </p:spTree>
  </p:cSld>
  <p:transition>
    <p:cover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0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Rectangle 3"/>
          <p:cNvSpPr/>
          <p:nvPr/>
        </p:nvSpPr>
        <p:spPr>
          <a:xfrm>
            <a:off x="539640" y="134136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c0c0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c0c0c"/>
                </a:solidFill>
                <a:latin typeface="华文仿宋"/>
                <a:ea typeface="华文仿宋"/>
              </a:rPr>
              <a:t>2</a:t>
            </a:r>
            <a:r>
              <a:rPr b="1" lang="zh-CN" sz="4000" spc="-1" strike="noStrike">
                <a:solidFill>
                  <a:srgbClr val="0c0c0c"/>
                </a:solidFill>
                <a:latin typeface="华文仿宋"/>
                <a:ea typeface="华文仿宋"/>
              </a:rPr>
              <a:t>、道德修养的最高境界是怎样的？</a:t>
            </a:r>
            <a:endParaRPr b="0" lang="en-US" sz="4000" spc="-1" strike="noStrike">
              <a:solidFill>
                <a:srgbClr val="0c0c0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c0c0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c0c0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c0c0c"/>
                </a:solidFill>
                <a:latin typeface="华文仿宋"/>
                <a:ea typeface="华文仿宋"/>
              </a:rPr>
              <a:t>3</a:t>
            </a:r>
            <a:r>
              <a:rPr b="1" lang="zh-CN" sz="4000" spc="-1" strike="noStrike">
                <a:solidFill>
                  <a:srgbClr val="0c0c0c"/>
                </a:solidFill>
                <a:latin typeface="华文仿宋"/>
                <a:ea typeface="华文仿宋"/>
              </a:rPr>
              <a:t>、我们从这一章中可以得到什么启示？</a:t>
            </a:r>
            <a:endParaRPr b="0" lang="en-US" sz="4000" spc="-1" strike="noStrike">
              <a:solidFill>
                <a:srgbClr val="0c0c0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c0c0c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c0c0c"/>
                </a:solidFill>
                <a:latin typeface="隶书"/>
                <a:ea typeface="隶书"/>
              </a:rPr>
              <a:t>内容解读</a:t>
            </a: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153" name=""/>
          <p:cNvSpPr/>
          <p:nvPr/>
        </p:nvSpPr>
        <p:spPr>
          <a:xfrm>
            <a:off x="1116000" y="2852640"/>
            <a:ext cx="6985080" cy="10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20" rIns="15120" tIns="15120" bIns="1512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思想与言行融合，自觉遵守道德规范，而不是勉强去做。</a:t>
            </a:r>
            <a:endParaRPr b="0" lang="en-US" sz="36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576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1258920" y="5373720"/>
            <a:ext cx="788508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20" rIns="15120" tIns="15120" bIns="15120" anchor="t">
            <a:spAutoFit/>
          </a:bodyPr>
          <a:p>
            <a:pPr>
              <a:lnSpc>
                <a:spcPct val="90000"/>
              </a:lnSpc>
              <a:spcAft>
                <a:spcPts val="1576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道德修养并非一朝一夕可以完成，要经过长时间的学习，循序渐进。</a:t>
            </a:r>
            <a:endParaRPr b="0" lang="en-US" sz="36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-360" y="1052280"/>
            <a:ext cx="92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子曰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:“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温</a:t>
            </a:r>
            <a:r>
              <a:rPr b="1" lang="zh-CN" sz="4800" spc="-1" strike="noStrike">
                <a:solidFill>
                  <a:srgbClr val="15cd27"/>
                </a:solidFill>
                <a:latin typeface="黑体"/>
                <a:ea typeface="黑体"/>
              </a:rPr>
              <a:t>故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而知新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可以</a:t>
            </a:r>
            <a:r>
              <a:rPr b="1" lang="zh-CN" sz="4800" spc="-1" strike="noStrike">
                <a:solidFill>
                  <a:srgbClr val="15cd27"/>
                </a:solidFill>
                <a:latin typeface="黑体"/>
                <a:ea typeface="黑体"/>
              </a:rPr>
              <a:t>为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师矣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.”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56" name="AutoShape 3"/>
          <p:cNvSpPr/>
          <p:nvPr/>
        </p:nvSpPr>
        <p:spPr>
          <a:xfrm>
            <a:off x="2987640" y="1989000"/>
            <a:ext cx="360360" cy="30492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57" name="Line 4"/>
          <p:cNvSpPr/>
          <p:nvPr/>
        </p:nvSpPr>
        <p:spPr>
          <a:xfrm>
            <a:off x="4140360" y="1989000"/>
            <a:ext cx="1152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58" name="AutoShape 5"/>
          <p:cNvSpPr/>
          <p:nvPr/>
        </p:nvSpPr>
        <p:spPr>
          <a:xfrm>
            <a:off x="7020000" y="1917720"/>
            <a:ext cx="360360" cy="30492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59" name="Text Box 6"/>
          <p:cNvSpPr/>
          <p:nvPr/>
        </p:nvSpPr>
        <p:spPr>
          <a:xfrm>
            <a:off x="5724360" y="2276640"/>
            <a:ext cx="25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做</a:t>
            </a: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成为</a:t>
            </a:r>
            <a:endParaRPr b="0" lang="en-US" sz="4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60" name="Text Box 7"/>
          <p:cNvSpPr/>
          <p:nvPr/>
        </p:nvSpPr>
        <p:spPr>
          <a:xfrm>
            <a:off x="1366920" y="54936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得到新的体会</a:t>
            </a: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悟出新的道理</a:t>
            </a:r>
            <a:r>
              <a:rPr b="1" lang="zh-CN" sz="4000" spc="-1" strike="noStrike">
                <a:solidFill>
                  <a:srgbClr val="cc0000"/>
                </a:solidFill>
                <a:latin typeface="黑体"/>
                <a:ea typeface="黑体"/>
              </a:rPr>
              <a:t>）</a:t>
            </a:r>
            <a:endParaRPr b="0" lang="en-US" sz="40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61" name="Text Box 8"/>
          <p:cNvSpPr/>
          <p:nvPr/>
        </p:nvSpPr>
        <p:spPr>
          <a:xfrm>
            <a:off x="2050920" y="2205000"/>
            <a:ext cx="36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黑体"/>
              </a:rPr>
              <a:t>旧的知识</a:t>
            </a:r>
            <a:endParaRPr b="0" lang="en-US" sz="40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62" name="Text Box 9"/>
          <p:cNvSpPr/>
          <p:nvPr/>
        </p:nvSpPr>
        <p:spPr>
          <a:xfrm>
            <a:off x="0" y="3573360"/>
            <a:ext cx="8893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子曰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:“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学而不思则</a:t>
            </a:r>
            <a:r>
              <a:rPr b="1" lang="zh-CN" sz="4800" spc="-1" strike="noStrike">
                <a:solidFill>
                  <a:srgbClr val="15cd27"/>
                </a:solidFill>
                <a:latin typeface="黑体"/>
                <a:ea typeface="黑体"/>
              </a:rPr>
              <a:t>罔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48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思而不学则</a:t>
            </a:r>
            <a:r>
              <a:rPr b="1" lang="zh-CN" sz="4800" spc="-1" strike="noStrike">
                <a:solidFill>
                  <a:srgbClr val="15cd27"/>
                </a:solidFill>
                <a:latin typeface="黑体"/>
                <a:ea typeface="黑体"/>
              </a:rPr>
              <a:t>殆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endParaRPr b="0" lang="en-US" sz="4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63" name="AutoShape 11"/>
          <p:cNvSpPr/>
          <p:nvPr/>
        </p:nvSpPr>
        <p:spPr>
          <a:xfrm>
            <a:off x="5580000" y="5445000"/>
            <a:ext cx="360360" cy="30492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64" name="AutoShape 12"/>
          <p:cNvSpPr/>
          <p:nvPr/>
        </p:nvSpPr>
        <p:spPr>
          <a:xfrm>
            <a:off x="5508720" y="4365720"/>
            <a:ext cx="360360" cy="30456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65" name="Text Box 17"/>
          <p:cNvSpPr/>
          <p:nvPr/>
        </p:nvSpPr>
        <p:spPr>
          <a:xfrm>
            <a:off x="755640" y="2997360"/>
            <a:ext cx="804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黑体"/>
              </a:rPr>
              <a:t>迷惑，意思是感到迷茫而无所适从。</a:t>
            </a:r>
            <a:endParaRPr b="0" lang="en-US" sz="40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66" name="Text Box 18"/>
          <p:cNvSpPr/>
          <p:nvPr/>
        </p:nvSpPr>
        <p:spPr>
          <a:xfrm>
            <a:off x="5148360" y="5734080"/>
            <a:ext cx="27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有害</a:t>
            </a:r>
            <a:endParaRPr b="0" lang="en-US" sz="40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67" name="Rectangle 3"/>
          <p:cNvSpPr/>
          <p:nvPr/>
        </p:nvSpPr>
        <p:spPr>
          <a:xfrm>
            <a:off x="0" y="5084640"/>
            <a:ext cx="9207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3" dur="2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20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500"/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"/>
          <p:cNvSpPr/>
          <p:nvPr/>
        </p:nvSpPr>
        <p:spPr>
          <a:xfrm>
            <a:off x="324000" y="1413000"/>
            <a:ext cx="80643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20" rIns="15120" tIns="15120" bIns="15120" anchor="t">
            <a:spAutoFit/>
          </a:bodyPr>
          <a:p>
            <a:pPr>
              <a:lnSpc>
                <a:spcPct val="90000"/>
              </a:lnSpc>
              <a:spcAft>
                <a:spcPts val="1576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孔子说：“温习学过的知识，可以得到新的理解与体会，可以凭借这一点成为老师了。”</a:t>
            </a:r>
            <a:endParaRPr b="0" lang="en-US" sz="3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324000" y="476280"/>
            <a:ext cx="842472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20" rIns="15120" tIns="15120" bIns="15120" anchor="t">
            <a:spAutoFit/>
          </a:bodyPr>
          <a:p>
            <a:pPr algn="ctr">
              <a:lnSpc>
                <a:spcPct val="90000"/>
              </a:lnSpc>
              <a:spcAft>
                <a:spcPts val="17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000" spc="-1" strike="noStrike">
                <a:solidFill>
                  <a:srgbClr val="0c0c0c"/>
                </a:solidFill>
                <a:latin typeface="黑体"/>
                <a:ea typeface="黑体"/>
              </a:rPr>
              <a:t>子曰：“温故而知新，可以为师矣”。</a:t>
            </a:r>
            <a:endParaRPr b="0" lang="en-US" sz="40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0" y="4581360"/>
            <a:ext cx="9144000" cy="17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20" rIns="15120" tIns="15120" bIns="15120" anchor="t">
            <a:spAutoFit/>
          </a:bodyPr>
          <a:p>
            <a:pPr>
              <a:lnSpc>
                <a:spcPct val="90000"/>
              </a:lnSpc>
              <a:spcAft>
                <a:spcPts val="1576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孔子说：“只读书却不思考就会迷惑而无所得，只是空想却不读书就会有害。”</a:t>
            </a:r>
            <a:endParaRPr b="0" lang="en-US" sz="36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576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250920" y="3860640"/>
            <a:ext cx="889308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20" rIns="15120" tIns="15120" bIns="15120" anchor="t">
            <a:spAutoFit/>
          </a:bodyPr>
          <a:p>
            <a:pPr algn="ctr">
              <a:lnSpc>
                <a:spcPct val="90000"/>
              </a:lnSpc>
              <a:spcAft>
                <a:spcPts val="1576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3600" spc="-1" strike="noStrike">
                <a:solidFill>
                  <a:srgbClr val="0c0c0c"/>
                </a:solidFill>
                <a:latin typeface="黑体"/>
                <a:ea typeface="黑体"/>
              </a:rPr>
              <a:t>子曰：“学而不思则罔，思而不学则殆”。</a:t>
            </a:r>
            <a:endParaRPr b="0" lang="en-US" sz="36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8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3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3"/>
          <p:cNvSpPr/>
          <p:nvPr/>
        </p:nvSpPr>
        <p:spPr>
          <a:xfrm>
            <a:off x="9360" y="1628640"/>
            <a:ext cx="913464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c0c0c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0c0c0c"/>
                </a:solidFill>
                <a:latin typeface="黑体"/>
                <a:ea typeface="黑体"/>
              </a:rPr>
              <a:t>本章大旨</a:t>
            </a:r>
            <a:r>
              <a:rPr b="1" lang="en-US" sz="3200" spc="-1" strike="noStrike">
                <a:solidFill>
                  <a:srgbClr val="0c0c0c"/>
                </a:solidFill>
                <a:latin typeface="黑体"/>
                <a:ea typeface="黑体"/>
              </a:rPr>
              <a:t>】</a:t>
            </a:r>
            <a:r>
              <a:rPr b="1" lang="zh-CN" sz="3200" spc="-1" strike="noStrike">
                <a:solidFill>
                  <a:srgbClr val="0c0c0c"/>
                </a:solidFill>
                <a:latin typeface="黑体"/>
                <a:ea typeface="黑体"/>
              </a:rPr>
              <a:t>第</a:t>
            </a:r>
            <a:r>
              <a:rPr b="1" lang="en-US" sz="3200" spc="-1" strike="noStrike">
                <a:solidFill>
                  <a:srgbClr val="0c0c0c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c0c0c"/>
                </a:solidFill>
                <a:latin typeface="黑体"/>
                <a:ea typeface="黑体"/>
              </a:rPr>
              <a:t>章讲强调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独立思考的必要性。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73" name="Rectangle 2"/>
          <p:cNvSpPr/>
          <p:nvPr/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c0c0c"/>
                </a:solidFill>
                <a:latin typeface="隶书"/>
                <a:ea typeface="隶书"/>
              </a:rPr>
              <a:t>读解容内</a:t>
            </a:r>
            <a:endParaRPr b="0" lang="en-US" sz="2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74" name="Rectangle 3"/>
          <p:cNvSpPr/>
          <p:nvPr/>
        </p:nvSpPr>
        <p:spPr>
          <a:xfrm>
            <a:off x="9360" y="4076640"/>
            <a:ext cx="913464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c0c0c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0c0c0c"/>
                </a:solidFill>
                <a:latin typeface="黑体"/>
                <a:ea typeface="黑体"/>
              </a:rPr>
              <a:t>本章大旨</a:t>
            </a:r>
            <a:r>
              <a:rPr b="1" lang="en-US" sz="3200" spc="-1" strike="noStrike">
                <a:solidFill>
                  <a:srgbClr val="0c0c0c"/>
                </a:solidFill>
                <a:latin typeface="黑体"/>
                <a:ea typeface="黑体"/>
              </a:rPr>
              <a:t>】</a:t>
            </a:r>
            <a:r>
              <a:rPr b="1" lang="zh-CN" sz="3200" spc="-1" strike="noStrike">
                <a:solidFill>
                  <a:srgbClr val="0c0c0c"/>
                </a:solidFill>
                <a:latin typeface="黑体"/>
                <a:ea typeface="黑体"/>
              </a:rPr>
              <a:t>第</a:t>
            </a:r>
            <a:r>
              <a:rPr b="1" lang="en-US" sz="3200" spc="-1" strike="noStrike">
                <a:solidFill>
                  <a:srgbClr val="0c0c0c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c0c0c"/>
                </a:solidFill>
                <a:latin typeface="黑体"/>
                <a:ea typeface="黑体"/>
              </a:rPr>
              <a:t>章阐述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学习与思考的辩证关系，认为不可偏废其一</a:t>
            </a:r>
            <a:r>
              <a:rPr b="1" lang="zh-CN" sz="3200" spc="-1" strike="noStrike">
                <a:solidFill>
                  <a:srgbClr val="0c0c0c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0" dur="500"/>
                                        <p:tgtEl>
                                          <p:spTgt spid="1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5" dur="500"/>
                                        <p:tgtEl>
                                          <p:spTgt spid="1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Rectangle 3"/>
          <p:cNvSpPr/>
          <p:nvPr/>
        </p:nvSpPr>
        <p:spPr>
          <a:xfrm>
            <a:off x="539640" y="1197000"/>
            <a:ext cx="822960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温故”和“知新”是不是两件并列的事？该如何理解？</a:t>
            </a:r>
            <a:endParaRPr b="0" lang="en-US" sz="4000" spc="-1" strike="noStrike">
              <a:solidFill>
                <a:srgbClr val="0c0c0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c0c0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并非并列的两件事，关键在于要“知新”。</a:t>
            </a:r>
            <a:endParaRPr b="0" lang="en-US" sz="40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76" name="Rectangle 2"/>
          <p:cNvSpPr/>
          <p:nvPr/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c0c0c"/>
                </a:solidFill>
                <a:latin typeface="隶书"/>
                <a:ea typeface="隶书"/>
              </a:rPr>
              <a:t>读解容内</a:t>
            </a:r>
            <a:endParaRPr b="0" lang="en-US" sz="24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2" dur="500"/>
                                        <p:tgtEl>
                                          <p:spTgt spid="1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3"/>
          <p:cNvSpPr/>
          <p:nvPr/>
        </p:nvSpPr>
        <p:spPr>
          <a:xfrm>
            <a:off x="250920" y="1125360"/>
            <a:ext cx="82296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仿宋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华文仿宋"/>
                <a:ea typeface="黑体"/>
              </a:rPr>
              <a:t>学习与思考有什么关系，请结合孔子的话加以分析。</a:t>
            </a:r>
            <a:endParaRPr b="0" lang="en-US" sz="4000" spc="-1" strike="noStrike">
              <a:solidFill>
                <a:srgbClr val="0c0c0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学习和思考是辩证的关系，只学习而不思考，则会感到迷惑而无所适从。如果只是思考而不能学习则会更为有害，因此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二者一定要结合起来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78" name="Rectangle 2"/>
          <p:cNvSpPr/>
          <p:nvPr/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c0c0c"/>
                </a:solidFill>
                <a:latin typeface="隶书"/>
                <a:ea typeface="隶书"/>
              </a:rPr>
              <a:t>读解容内</a:t>
            </a:r>
            <a:endParaRPr b="0" lang="en-US" sz="24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/>
          </p:nvPr>
        </p:nvSpPr>
        <p:spPr>
          <a:xfrm>
            <a:off x="324000" y="19836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子曰：“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贤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哉，回也！一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箪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食，一瓢饮，在陋巷，人不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堪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其忧，回也不改其乐。贤哉，回也！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0" name="Text Box 4"/>
          <p:cNvSpPr/>
          <p:nvPr/>
        </p:nvSpPr>
        <p:spPr>
          <a:xfrm>
            <a:off x="1819440" y="40464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品质高尚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81" name="Text Box 5"/>
          <p:cNvSpPr/>
          <p:nvPr/>
        </p:nvSpPr>
        <p:spPr>
          <a:xfrm>
            <a:off x="2484360" y="298440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忍受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82" name="Text Box 4"/>
          <p:cNvSpPr/>
          <p:nvPr/>
        </p:nvSpPr>
        <p:spPr>
          <a:xfrm>
            <a:off x="4759200" y="409680"/>
            <a:ext cx="406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古代盛饭用的圆形竹器。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83" name="Rectangle 3"/>
          <p:cNvSpPr/>
          <p:nvPr/>
        </p:nvSpPr>
        <p:spPr>
          <a:xfrm>
            <a:off x="114480" y="4508640"/>
            <a:ext cx="920736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孔子说：“颜回的品质是多么高尚啊！一箪饭，一瓢水，住在简陋的小屋里，别人都忍受不了这种清苦，颜回却不改变他好学的乐趣。颜回的品质是多么高尚啊！”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1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500"/>
                                        <p:tgtEl>
                                          <p:spTgt spid="1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3"/>
          <p:cNvSpPr/>
          <p:nvPr/>
        </p:nvSpPr>
        <p:spPr>
          <a:xfrm>
            <a:off x="434880" y="2349360"/>
            <a:ext cx="8229600" cy="47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c0c0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c0c"/>
                </a:solidFill>
                <a:latin typeface="华文仿宋"/>
                <a:ea typeface="华文仿宋"/>
              </a:rPr>
              <a:t>  </a:t>
            </a:r>
            <a:r>
              <a:rPr b="1" lang="zh-CN" sz="3200" spc="-1" strike="noStrike">
                <a:solidFill>
                  <a:srgbClr val="0c0c0c"/>
                </a:solidFill>
                <a:latin typeface="华文仿宋"/>
                <a:ea typeface="华文仿宋"/>
              </a:rPr>
              <a:t>颜回在“陋巷”却能“不改其乐”这一则给你的启示是什么？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为了自己的理想，要不断追求，即使生活清苦困顿也自得其乐。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c0c0c"/>
                </a:solidFill>
                <a:latin typeface="隶书"/>
                <a:ea typeface="隶书"/>
              </a:rPr>
              <a:t>内容解读</a:t>
            </a: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186" name="Rectangle 3"/>
          <p:cNvSpPr/>
          <p:nvPr/>
        </p:nvSpPr>
        <p:spPr>
          <a:xfrm>
            <a:off x="611280" y="170172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c0c0c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c0c0c"/>
                </a:solidFill>
                <a:latin typeface="隶书"/>
                <a:ea typeface="隶书"/>
              </a:rPr>
              <a:t>本章大旨</a:t>
            </a:r>
            <a:r>
              <a:rPr b="1" lang="en-US" sz="3200" spc="-1" strike="noStrike">
                <a:solidFill>
                  <a:srgbClr val="0c0c0c"/>
                </a:solidFill>
                <a:latin typeface="隶书"/>
                <a:ea typeface="隶书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是孔子对颜回的高度评价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1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1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/>
          </p:nvPr>
        </p:nvSpPr>
        <p:spPr>
          <a:xfrm>
            <a:off x="468360" y="2844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子曰：“知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之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者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如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好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之者，好之者不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乐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之者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ext Box 4"/>
          <p:cNvSpPr/>
          <p:nvPr/>
        </p:nvSpPr>
        <p:spPr>
          <a:xfrm>
            <a:off x="1547640" y="26028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代词，它。这里指学问和事业。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89" name="Text Box 5"/>
          <p:cNvSpPr/>
          <p:nvPr/>
        </p:nvSpPr>
        <p:spPr>
          <a:xfrm>
            <a:off x="4952880" y="1523880"/>
            <a:ext cx="235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代词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人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90" name="Text Box 6"/>
          <p:cNvSpPr/>
          <p:nvPr/>
        </p:nvSpPr>
        <p:spPr>
          <a:xfrm>
            <a:off x="6934320" y="26496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喜欢、爱好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91" name="Text Box 7"/>
          <p:cNvSpPr/>
          <p:nvPr/>
        </p:nvSpPr>
        <p:spPr>
          <a:xfrm>
            <a:off x="1547640" y="16225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以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为乐趣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92" name="Rectangle 3"/>
          <p:cNvSpPr/>
          <p:nvPr/>
        </p:nvSpPr>
        <p:spPr>
          <a:xfrm>
            <a:off x="611280" y="3284640"/>
            <a:ext cx="822960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孔子说：“对于学习，了解怎么学习的人，不如爱好学习的人；爱好学习的人，又不如以学习为乐的人。” 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3" dur="500"/>
                                        <p:tgtEl>
                                          <p:spTgt spid="1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8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3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8" dur="500"/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3"/>
          <p:cNvSpPr/>
          <p:nvPr/>
        </p:nvSpPr>
        <p:spPr>
          <a:xfrm>
            <a:off x="684360" y="2709720"/>
            <a:ext cx="82296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c0c0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c0c"/>
                </a:solidFill>
                <a:latin typeface="华文仿宋"/>
                <a:ea typeface="华文仿宋"/>
              </a:rPr>
              <a:t>“</a:t>
            </a:r>
            <a:r>
              <a:rPr b="1" lang="zh-CN" sz="3200" spc="-1" strike="noStrike">
                <a:solidFill>
                  <a:srgbClr val="0c0c0c"/>
                </a:solidFill>
                <a:latin typeface="华文仿宋"/>
                <a:ea typeface="华文仿宋"/>
              </a:rPr>
              <a:t>知之为知之，不知为不知”到底告诉我们什么道理？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要有实事求是的求学态度。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c0c0c"/>
                </a:solidFill>
                <a:latin typeface="隶书"/>
                <a:ea typeface="隶书"/>
              </a:rPr>
              <a:t>内容解读</a:t>
            </a: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195" name="Rectangle 3"/>
          <p:cNvSpPr/>
          <p:nvPr/>
        </p:nvSpPr>
        <p:spPr>
          <a:xfrm>
            <a:off x="434880" y="1773360"/>
            <a:ext cx="822960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c0c0c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c0c0c"/>
                </a:solidFill>
                <a:latin typeface="隶书"/>
                <a:ea typeface="隶书"/>
              </a:rPr>
              <a:t>本章大旨</a:t>
            </a:r>
            <a:r>
              <a:rPr b="1" lang="en-US" sz="3200" spc="-1" strike="noStrike">
                <a:solidFill>
                  <a:srgbClr val="0c0c0c"/>
                </a:solidFill>
                <a:latin typeface="隶书"/>
                <a:ea typeface="隶书"/>
              </a:rPr>
              <a:t>】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这一章强调独立学习的重要性</a:t>
            </a:r>
            <a:r>
              <a:rPr b="1" lang="zh-CN" sz="3200" spc="-1" strike="noStrike">
                <a:solidFill>
                  <a:srgbClr val="0c0c0c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1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</a:rPr>
              <a:t>二、学习要点</a:t>
            </a:r>
            <a:endParaRPr b="1" lang="en-US" sz="36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5cd2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5cd27"/>
                </a:solidFill>
                <a:latin typeface="楷体_GB2312"/>
                <a:ea typeface="楷体_GB2312"/>
              </a:rPr>
              <a:t>1</a:t>
            </a:r>
            <a:r>
              <a:rPr b="1" lang="en-US" sz="3200" spc="-1" strike="noStrike">
                <a:solidFill>
                  <a:srgbClr val="15cd27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15cd27"/>
                </a:solidFill>
                <a:latin typeface="楷体_GB2312"/>
                <a:ea typeface="楷体_GB2312"/>
              </a:rPr>
              <a:t>掌握有关</a:t>
            </a:r>
            <a:r>
              <a:rPr b="1" lang="en-US" sz="3200" spc="-1" strike="noStrike">
                <a:solidFill>
                  <a:srgbClr val="15cd27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15cd27"/>
                </a:solidFill>
                <a:latin typeface="楷体_GB2312"/>
                <a:ea typeface="楷体_GB2312"/>
              </a:rPr>
              <a:t>论语</a:t>
            </a:r>
            <a:r>
              <a:rPr b="1" lang="en-US" sz="3200" spc="-1" strike="noStrike">
                <a:solidFill>
                  <a:srgbClr val="15cd27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15cd27"/>
                </a:solidFill>
                <a:latin typeface="楷体_GB2312"/>
                <a:ea typeface="楷体_GB2312"/>
              </a:rPr>
              <a:t>和孔子的基本文学常识。</a:t>
            </a:r>
            <a:endParaRPr b="0" lang="en-US" sz="32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c0c"/>
              </a:solidFill>
              <a:latin typeface="黑体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5cd2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cd27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15cd27"/>
                </a:solidFill>
                <a:latin typeface="楷体_GB2312"/>
                <a:ea typeface="楷体_GB2312"/>
              </a:rPr>
              <a:t>掌握古文中重点词语及句式的用法。词语如“而”、“之”等；句式如宾语前置句等。</a:t>
            </a:r>
            <a:endParaRPr b="0" lang="en-US" sz="32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c0c"/>
              </a:solidFill>
              <a:latin typeface="黑体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5cd2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cd27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15cd27"/>
                </a:solidFill>
                <a:latin typeface="楷体_GB2312"/>
                <a:ea typeface="楷体_GB2312"/>
              </a:rPr>
              <a:t>领悟</a:t>
            </a:r>
            <a:r>
              <a:rPr b="1" lang="en-US" sz="3200" spc="-1" strike="noStrike">
                <a:solidFill>
                  <a:srgbClr val="15cd27"/>
                </a:solidFill>
                <a:latin typeface="楷体_GB2312"/>
                <a:ea typeface="楷体_GB2312"/>
              </a:rPr>
              <a:t>《〈</a:t>
            </a:r>
            <a:r>
              <a:rPr b="1" lang="zh-CN" sz="3200" spc="-1" strike="noStrike">
                <a:solidFill>
                  <a:srgbClr val="15cd27"/>
                </a:solidFill>
                <a:latin typeface="楷体_GB2312"/>
                <a:ea typeface="楷体_GB2312"/>
              </a:rPr>
              <a:t>论语</a:t>
            </a:r>
            <a:r>
              <a:rPr b="1" lang="en-US" sz="3200" spc="-1" strike="noStrike">
                <a:solidFill>
                  <a:srgbClr val="15cd27"/>
                </a:solidFill>
                <a:latin typeface="楷体_GB2312"/>
                <a:ea typeface="楷体_GB2312"/>
              </a:rPr>
              <a:t>〉</a:t>
            </a:r>
            <a:r>
              <a:rPr b="1" lang="zh-CN" sz="3200" spc="-1" strike="noStrike">
                <a:solidFill>
                  <a:srgbClr val="15cd27"/>
                </a:solidFill>
                <a:latin typeface="楷体_GB2312"/>
                <a:ea typeface="楷体_GB2312"/>
              </a:rPr>
              <a:t>十二章</a:t>
            </a:r>
            <a:r>
              <a:rPr b="1" lang="en-US" sz="3200" spc="-1" strike="noStrike">
                <a:solidFill>
                  <a:srgbClr val="15cd27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15cd27"/>
                </a:solidFill>
                <a:latin typeface="楷体_GB2312"/>
                <a:ea typeface="楷体_GB2312"/>
              </a:rPr>
              <a:t>的深刻含义，体会孔子所倡导的“为学之道”。</a:t>
            </a:r>
            <a:endParaRPr b="0" lang="en-US" sz="3200" spc="-1" strike="noStrike">
              <a:solidFill>
                <a:srgbClr val="0c0c0c"/>
              </a:solidFill>
              <a:latin typeface="黑体"/>
            </a:endParaRPr>
          </a:p>
        </p:txBody>
      </p:sp>
    </p:spTree>
  </p:cSld>
  <p:transition>
    <p:cover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0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2520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子曰：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饭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疏 食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饮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水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曲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肱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 而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枕 之，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乐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亦 在 其 中 矣。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不 义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而 富 且 贵，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于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 如浮 云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 Box 4"/>
          <p:cNvSpPr/>
          <p:nvPr/>
        </p:nvSpPr>
        <p:spPr>
          <a:xfrm>
            <a:off x="1112760" y="117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吃饭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98" name="Text Box 5"/>
          <p:cNvSpPr/>
          <p:nvPr/>
        </p:nvSpPr>
        <p:spPr>
          <a:xfrm>
            <a:off x="2336760" y="1089000"/>
            <a:ext cx="11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粗粮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99" name="Text Box 6"/>
          <p:cNvSpPr/>
          <p:nvPr/>
        </p:nvSpPr>
        <p:spPr>
          <a:xfrm>
            <a:off x="3873600" y="1089000"/>
            <a:ext cx="92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冷水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200" name="Text Box 7"/>
          <p:cNvSpPr/>
          <p:nvPr/>
        </p:nvSpPr>
        <p:spPr>
          <a:xfrm>
            <a:off x="4788000" y="127080"/>
            <a:ext cx="191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弯着胳膊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201" name="Text Box 11"/>
          <p:cNvSpPr/>
          <p:nvPr/>
        </p:nvSpPr>
        <p:spPr>
          <a:xfrm>
            <a:off x="6702480" y="2205000"/>
            <a:ext cx="183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对，对于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202" name="Line 4"/>
          <p:cNvSpPr/>
          <p:nvPr/>
        </p:nvSpPr>
        <p:spPr>
          <a:xfrm>
            <a:off x="2195640" y="1197000"/>
            <a:ext cx="10411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203" name="Rectangle 3"/>
          <p:cNvSpPr/>
          <p:nvPr/>
        </p:nvSpPr>
        <p:spPr>
          <a:xfrm>
            <a:off x="46080" y="3500280"/>
            <a:ext cx="909792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孔子说：“吃粗粮，喝冷水，弯着胳膊当枕头，乐趣也就在这中间了。用不正当的手段得来的富贵，对于我来讲就像是天上的浮云一样。” 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5435640" y="404640"/>
            <a:ext cx="846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20" rIns="15120" tIns="15120" bIns="15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5cd27"/>
                </a:solidFill>
                <a:latin typeface="黑体"/>
                <a:ea typeface="黑体"/>
              </a:rPr>
              <a:t>gōng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7" dur="500"/>
                                        <p:tgtEl>
                                          <p:spTgt spid="1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2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8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3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8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3" dur="500"/>
                                        <p:tgtEl>
                                          <p:spTgt spid="1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8" dur="500"/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c0c0c"/>
                </a:solidFill>
                <a:latin typeface="隶书"/>
                <a:ea typeface="隶书"/>
              </a:rPr>
              <a:t>内容解读</a:t>
            </a: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206" name="Rectangle 3"/>
          <p:cNvSpPr/>
          <p:nvPr/>
        </p:nvSpPr>
        <p:spPr>
          <a:xfrm>
            <a:off x="108000" y="2349360"/>
            <a:ext cx="881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c0c0c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c0c0c"/>
                </a:solidFill>
                <a:latin typeface="隶书"/>
                <a:ea typeface="隶书"/>
              </a:rPr>
              <a:t>本章大旨</a:t>
            </a:r>
            <a:r>
              <a:rPr b="1" lang="en-US" sz="3200" spc="-1" strike="noStrike">
                <a:solidFill>
                  <a:srgbClr val="0c0c0c"/>
                </a:solidFill>
                <a:latin typeface="隶书"/>
                <a:ea typeface="隶书"/>
              </a:rPr>
              <a:t>】</a:t>
            </a:r>
            <a:r>
              <a:rPr b="1" lang="zh-CN" sz="3200" spc="-1" strike="noStrike">
                <a:solidFill>
                  <a:srgbClr val="0c0c0c"/>
                </a:solidFill>
                <a:latin typeface="隶书"/>
                <a:ea typeface="隶书"/>
              </a:rPr>
              <a:t>这一章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安贫乐道</a:t>
            </a:r>
            <a:r>
              <a:rPr b="1" lang="zh-CN" sz="3200" spc="-1" strike="noStrike">
                <a:solidFill>
                  <a:srgbClr val="0c0c0c"/>
                </a:solidFill>
                <a:latin typeface="隶书"/>
                <a:ea typeface="隶书"/>
              </a:rPr>
              <a:t>精神的重要表述。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5" dur="500"/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AutoShape 7"/>
          <p:cNvSpPr/>
          <p:nvPr/>
        </p:nvSpPr>
        <p:spPr>
          <a:xfrm>
            <a:off x="5837400" y="0"/>
            <a:ext cx="3278160" cy="792000"/>
          </a:xfrm>
          <a:prstGeom prst="wedgeRoundRectCallout">
            <a:avLst>
              <a:gd name="adj1" fmla="val -1037"/>
              <a:gd name="adj2" fmla="val 71726"/>
              <a:gd name="adj3" fmla="val 16667"/>
            </a:avLst>
          </a:prstGeom>
          <a:solidFill>
            <a:srgbClr val="ffff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好的方面，优点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208" name="Text Box 8"/>
          <p:cNvSpPr/>
          <p:nvPr/>
        </p:nvSpPr>
        <p:spPr>
          <a:xfrm>
            <a:off x="404640" y="855720"/>
            <a:ext cx="83534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子曰： “三人行，必有我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择其</a:t>
            </a:r>
            <a:r>
              <a:rPr b="1" lang="zh-CN" sz="3200" spc="-1" strike="noStrike">
                <a:solidFill>
                  <a:srgbClr val="cc0066"/>
                </a:solidFill>
                <a:latin typeface="黑体"/>
                <a:ea typeface="黑体"/>
              </a:rPr>
              <a:t>善者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而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从之，其不善者而改之。”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209" name="Text Box 11"/>
          <p:cNvSpPr/>
          <p:nvPr/>
        </p:nvSpPr>
        <p:spPr>
          <a:xfrm>
            <a:off x="4581360" y="1522440"/>
            <a:ext cx="251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于此，意思是“在其中”。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210" name="Rectangle 6"/>
          <p:cNvSpPr/>
          <p:nvPr/>
        </p:nvSpPr>
        <p:spPr>
          <a:xfrm>
            <a:off x="179280" y="342900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孔子说：“几个人在一起，其中必定有我的老师。选择他们的优点学习，（发现自己也有）他们那些缺点就要改正。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0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2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5" dur="1000"/>
                                        <p:tgtEl>
                                          <p:spTgt spid="1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angle 3"/>
          <p:cNvSpPr/>
          <p:nvPr/>
        </p:nvSpPr>
        <p:spPr>
          <a:xfrm>
            <a:off x="395280" y="2060640"/>
            <a:ext cx="82296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c0c0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c0c"/>
                </a:solidFill>
                <a:latin typeface="华文仿宋"/>
                <a:ea typeface="华文仿宋"/>
              </a:rPr>
              <a:t>“</a:t>
            </a:r>
            <a:r>
              <a:rPr b="1" lang="zh-CN" sz="3200" spc="-1" strike="noStrike">
                <a:solidFill>
                  <a:srgbClr val="0c0c0c"/>
                </a:solidFill>
                <a:latin typeface="华文仿宋"/>
                <a:ea typeface="华文仿宋"/>
              </a:rPr>
              <a:t>三人行，必有我师焉。”孔子对弟子说这番话的目的是什么？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这是孔子从学习态度方面来谈的。告诫弟子要善于发现并学习别人的长处，取人之长，补己之短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无论何时何地都要虚心向别人学习。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c0c0c"/>
                </a:solidFill>
                <a:latin typeface="隶书"/>
                <a:ea typeface="隶书"/>
              </a:rPr>
              <a:t>内容解读</a:t>
            </a: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213" name="Rectangle 3"/>
          <p:cNvSpPr/>
          <p:nvPr/>
        </p:nvSpPr>
        <p:spPr>
          <a:xfrm>
            <a:off x="539640" y="1197000"/>
            <a:ext cx="822960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c0c0c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c0c0c"/>
                </a:solidFill>
                <a:latin typeface="隶书"/>
                <a:ea typeface="隶书"/>
              </a:rPr>
              <a:t>本章大旨</a:t>
            </a:r>
            <a:r>
              <a:rPr b="1" lang="en-US" sz="3200" spc="-1" strike="noStrike">
                <a:solidFill>
                  <a:srgbClr val="0c0c0c"/>
                </a:solidFill>
                <a:latin typeface="隶书"/>
                <a:ea typeface="隶书"/>
              </a:rPr>
              <a:t>】</a:t>
            </a:r>
            <a:r>
              <a:rPr b="1" lang="zh-CN" sz="3200" spc="-1" strike="noStrike">
                <a:solidFill>
                  <a:srgbClr val="0c0c0c"/>
                </a:solidFill>
                <a:latin typeface="隶书"/>
                <a:ea typeface="隶书"/>
              </a:rPr>
              <a:t>这一章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强调无论何时何地都要虚心向别人学习。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2" dur="5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7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18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子在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上曰：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者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斯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夫，不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昼夜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Text Box 4"/>
          <p:cNvSpPr/>
          <p:nvPr/>
        </p:nvSpPr>
        <p:spPr>
          <a:xfrm>
            <a:off x="1025640" y="139716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河，河流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216" name="Text Box 5"/>
          <p:cNvSpPr/>
          <p:nvPr/>
        </p:nvSpPr>
        <p:spPr>
          <a:xfrm>
            <a:off x="3235320" y="1413000"/>
            <a:ext cx="11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流逝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217" name="Text Box 7"/>
          <p:cNvSpPr/>
          <p:nvPr/>
        </p:nvSpPr>
        <p:spPr>
          <a:xfrm>
            <a:off x="6012000" y="15238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舍弃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218" name="AutoShape 7"/>
          <p:cNvSpPr/>
          <p:nvPr/>
        </p:nvSpPr>
        <p:spPr>
          <a:xfrm>
            <a:off x="4041720" y="679320"/>
            <a:ext cx="3278160" cy="792360"/>
          </a:xfrm>
          <a:prstGeom prst="wedgeRoundRectCallout">
            <a:avLst>
              <a:gd name="adj1" fmla="val -31138"/>
              <a:gd name="adj2" fmla="val 106541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这，指河水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219" name="Rectangle 3"/>
          <p:cNvSpPr/>
          <p:nvPr/>
        </p:nvSpPr>
        <p:spPr>
          <a:xfrm>
            <a:off x="442800" y="2924280"/>
            <a:ext cx="82296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孔子在河边感叹道：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一去不复返的时光就像这河水一样，日夜不停。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4" dur="5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9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4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3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8" dur="500"/>
                                        <p:tgtEl>
                                          <p:spTgt spid="1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angle 3"/>
          <p:cNvSpPr/>
          <p:nvPr/>
        </p:nvSpPr>
        <p:spPr>
          <a:xfrm>
            <a:off x="434880" y="2349360"/>
            <a:ext cx="82296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c0c0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c0c"/>
                </a:solidFill>
                <a:latin typeface="华文仿宋"/>
                <a:ea typeface="华文仿宋"/>
              </a:rPr>
              <a:t>本章运用了什么修辞？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比喻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用流水日夜不停、一去不返比喻时间的飞逝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指明时间的宝贵。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c0c0c"/>
                </a:solidFill>
                <a:latin typeface="隶书"/>
                <a:ea typeface="隶书"/>
              </a:rPr>
              <a:t>内容解读</a:t>
            </a: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222" name="Rectangle 3"/>
          <p:cNvSpPr/>
          <p:nvPr/>
        </p:nvSpPr>
        <p:spPr>
          <a:xfrm>
            <a:off x="611280" y="1469880"/>
            <a:ext cx="822960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c0c0c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c0c0c"/>
                </a:solidFill>
                <a:latin typeface="隶书"/>
                <a:ea typeface="隶书"/>
              </a:rPr>
              <a:t>本章大旨</a:t>
            </a:r>
            <a:r>
              <a:rPr b="1" lang="en-US" sz="3200" spc="-1" strike="noStrike">
                <a:solidFill>
                  <a:srgbClr val="0c0c0c"/>
                </a:solidFill>
                <a:latin typeface="隶书"/>
                <a:ea typeface="隶书"/>
              </a:rPr>
              <a:t>】</a:t>
            </a:r>
            <a:r>
              <a:rPr b="1" lang="zh-CN" sz="3200" spc="-1" strike="noStrike">
                <a:solidFill>
                  <a:srgbClr val="0c0c0c"/>
                </a:solidFill>
                <a:latin typeface="隶书"/>
                <a:ea typeface="隶书"/>
              </a:rPr>
              <a:t>这一章讲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时光易逝，应珍惜时间。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5" dur="500"/>
                                        <p:tgtEl>
                                          <p:spTgt spid="1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0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/>
          </p:nvPr>
        </p:nvSpPr>
        <p:spPr>
          <a:xfrm>
            <a:off x="250920" y="63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子曰：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三军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夺帅也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匹夫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可夺志也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Text Box 4"/>
          <p:cNvSpPr/>
          <p:nvPr/>
        </p:nvSpPr>
        <p:spPr>
          <a:xfrm>
            <a:off x="2050920" y="374760"/>
            <a:ext cx="110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军队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225" name="AutoShape 7"/>
          <p:cNvSpPr/>
          <p:nvPr/>
        </p:nvSpPr>
        <p:spPr>
          <a:xfrm>
            <a:off x="2043000" y="243000"/>
            <a:ext cx="1081080" cy="792000"/>
          </a:xfrm>
          <a:prstGeom prst="wedgeRoundRectCallout">
            <a:avLst>
              <a:gd name="adj1" fmla="val -31138"/>
              <a:gd name="adj2" fmla="val 106541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军队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226" name="AutoShape 7"/>
          <p:cNvSpPr/>
          <p:nvPr/>
        </p:nvSpPr>
        <p:spPr>
          <a:xfrm>
            <a:off x="4716360" y="2270160"/>
            <a:ext cx="3600720" cy="792000"/>
          </a:xfrm>
          <a:prstGeom prst="wedgeRoundRectCallout">
            <a:avLst>
              <a:gd name="adj1" fmla="val -37842"/>
              <a:gd name="adj2" fmla="val -100499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普通的人，男子汉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601560" y="4005360"/>
            <a:ext cx="822960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c0c"/>
                </a:solidFill>
                <a:latin typeface="Arial"/>
              </a:rPr>
              <a:t>孔子说：</a:t>
            </a:r>
            <a:r>
              <a:rPr b="1" lang="zh-CN" sz="3200" spc="-1" strike="noStrike">
                <a:solidFill>
                  <a:srgbClr val="0c0c0c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c0c0c"/>
                </a:solidFill>
                <a:latin typeface="Arial"/>
              </a:rPr>
              <a:t>军队的主帅可以改变，普通人的志气却不可改变。</a:t>
            </a:r>
            <a:r>
              <a:rPr b="1" lang="zh-CN" sz="3200" spc="-1" strike="noStrike">
                <a:solidFill>
                  <a:srgbClr val="0c0c0c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0c0c0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7" dur="500"/>
                                        <p:tgtEl>
                                          <p:spTgt spid="1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2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5" dur="500"/>
                                        <p:tgtEl>
                                          <p:spTgt spid="1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c0c0c"/>
                </a:solidFill>
                <a:latin typeface="隶书"/>
                <a:ea typeface="隶书"/>
              </a:rPr>
              <a:t>内容解读</a:t>
            </a: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229" name="Rectangle 3"/>
          <p:cNvSpPr/>
          <p:nvPr/>
        </p:nvSpPr>
        <p:spPr>
          <a:xfrm>
            <a:off x="611280" y="1469880"/>
            <a:ext cx="822960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c0c0c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c0c0c"/>
                </a:solidFill>
                <a:latin typeface="隶书"/>
                <a:ea typeface="隶书"/>
              </a:rPr>
              <a:t>本章大旨</a:t>
            </a:r>
            <a:r>
              <a:rPr b="1" lang="en-US" sz="3200" spc="-1" strike="noStrike">
                <a:solidFill>
                  <a:srgbClr val="0c0c0c"/>
                </a:solidFill>
                <a:latin typeface="隶书"/>
                <a:ea typeface="隶书"/>
              </a:rPr>
              <a:t>】</a:t>
            </a:r>
            <a:r>
              <a:rPr b="1" lang="zh-CN" sz="3200" spc="-1" strike="noStrike">
                <a:solidFill>
                  <a:srgbClr val="0c0c0c"/>
                </a:solidFill>
                <a:latin typeface="隶书"/>
                <a:ea typeface="隶书"/>
              </a:rPr>
              <a:t>这一章讲一个人应当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坚定信念、矢志不渝。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2" dur="500"/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/>
          </p:nvPr>
        </p:nvSpPr>
        <p:spPr>
          <a:xfrm>
            <a:off x="395280" y="11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子夏曰：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博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而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笃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志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切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问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而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近 思，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仁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 其 中 矣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4"/>
          <p:cNvSpPr/>
          <p:nvPr/>
        </p:nvSpPr>
        <p:spPr>
          <a:xfrm>
            <a:off x="2340000" y="260280"/>
            <a:ext cx="11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广泛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232" name="Text Box 6"/>
          <p:cNvSpPr/>
          <p:nvPr/>
        </p:nvSpPr>
        <p:spPr>
          <a:xfrm>
            <a:off x="4356000" y="2602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忠实，坚守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233" name="AutoShape 7"/>
          <p:cNvSpPr/>
          <p:nvPr/>
        </p:nvSpPr>
        <p:spPr>
          <a:xfrm>
            <a:off x="5076720" y="1844640"/>
            <a:ext cx="1793880" cy="792360"/>
          </a:xfrm>
          <a:prstGeom prst="wedgeRoundRectCallout">
            <a:avLst>
              <a:gd name="adj1" fmla="val 2171"/>
              <a:gd name="adj2" fmla="val -102333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恳切地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234" name="AutoShape 7"/>
          <p:cNvSpPr/>
          <p:nvPr/>
        </p:nvSpPr>
        <p:spPr>
          <a:xfrm>
            <a:off x="1263600" y="1413000"/>
            <a:ext cx="1079640" cy="576000"/>
          </a:xfrm>
          <a:prstGeom prst="wedgeRoundRectCallout">
            <a:avLst>
              <a:gd name="adj1" fmla="val -31138"/>
              <a:gd name="adj2" fmla="val 106541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仁德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235" name="Rectangle 3"/>
          <p:cNvSpPr/>
          <p:nvPr/>
        </p:nvSpPr>
        <p:spPr>
          <a:xfrm>
            <a:off x="324000" y="3573360"/>
            <a:ext cx="822960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c0c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c0c0c"/>
                </a:solidFill>
                <a:latin typeface="Arial"/>
              </a:rPr>
              <a:t>子夏说：“广泛地学习，坚守自己的志向，（遇不明事）能恳切地向别人提问，多考虑当前的事，仁德就在这里面了。”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9" dur="500"/>
                                        <p:tgtEl>
                                          <p:spTgt spid="1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4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9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2" dur="500"/>
                                        <p:tgtEl>
                                          <p:spTgt spid="1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c0c0c"/>
                </a:solidFill>
                <a:latin typeface="隶书"/>
                <a:ea typeface="隶书"/>
              </a:rPr>
              <a:t>板书设计</a:t>
            </a: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pic>
        <p:nvPicPr>
          <p:cNvPr id="1237" name="图示 1" descr=""/>
          <p:cNvPicPr/>
          <p:nvPr/>
        </p:nvPicPr>
        <p:blipFill>
          <a:blip r:embed="rId2"/>
          <a:stretch/>
        </p:blipFill>
        <p:spPr>
          <a:xfrm>
            <a:off x="1476360" y="1628640"/>
            <a:ext cx="622944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/>
          </p:nvPr>
        </p:nvSpPr>
        <p:spPr>
          <a:xfrm>
            <a:off x="-360" y="117360"/>
            <a:ext cx="5435640" cy="791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隶书"/>
              </a:rPr>
              <a:t>孔子</a:t>
            </a:r>
            <a:r>
              <a:rPr b="1" lang="zh-CN" sz="3200" spc="-1" strike="noStrike">
                <a:solidFill>
                  <a:srgbClr val="0c0c0c"/>
                </a:solidFill>
                <a:latin typeface="黑体"/>
              </a:rPr>
              <a:t>，名</a:t>
            </a:r>
            <a:r>
              <a:rPr b="1" lang="zh-CN" sz="3200" spc="-1" strike="noStrike" u="sng">
                <a:solidFill>
                  <a:srgbClr val="0c0c0c"/>
                </a:solidFill>
                <a:uFillTx/>
                <a:latin typeface="黑体"/>
              </a:rPr>
              <a:t>    </a:t>
            </a:r>
            <a:r>
              <a:rPr b="1" lang="en-US" sz="3200" spc="-1" strike="noStrike">
                <a:solidFill>
                  <a:srgbClr val="0c0c0c"/>
                </a:solidFill>
                <a:latin typeface="黑体"/>
              </a:rPr>
              <a:t>,</a:t>
            </a:r>
            <a:r>
              <a:rPr b="1" lang="zh-CN" sz="3200" spc="-1" strike="noStrike">
                <a:solidFill>
                  <a:srgbClr val="0c0c0c"/>
                </a:solidFill>
                <a:latin typeface="黑体"/>
              </a:rPr>
              <a:t>字</a:t>
            </a:r>
            <a:r>
              <a:rPr b="1" lang="zh-CN" sz="3200" spc="-1" strike="noStrike" u="sng">
                <a:solidFill>
                  <a:srgbClr val="0c0c0c"/>
                </a:solidFill>
                <a:uFillTx/>
                <a:latin typeface="黑体"/>
              </a:rPr>
              <a:t>      </a:t>
            </a:r>
            <a:r>
              <a:rPr b="1" lang="zh-CN" sz="3200" spc="-1" strike="noStrike">
                <a:solidFill>
                  <a:srgbClr val="0c0c0c"/>
                </a:solidFill>
                <a:latin typeface="黑体"/>
              </a:rPr>
              <a:t>，春秋末期鲁国陬邑</a:t>
            </a:r>
            <a:r>
              <a:rPr b="1" lang="en-US" sz="3200" spc="-1" strike="noStrike">
                <a:solidFill>
                  <a:srgbClr val="0c0c0c"/>
                </a:solidFill>
                <a:latin typeface="黑体"/>
              </a:rPr>
              <a:t>(</a:t>
            </a:r>
            <a:r>
              <a:rPr b="1" lang="zh-CN" sz="3200" spc="-1" strike="noStrike">
                <a:solidFill>
                  <a:srgbClr val="0c0c0c"/>
                </a:solidFill>
                <a:latin typeface="黑体"/>
              </a:rPr>
              <a:t>今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山东曲阜</a:t>
            </a:r>
            <a:r>
              <a:rPr b="1" lang="zh-CN" sz="3200" spc="-1" strike="noStrike">
                <a:solidFill>
                  <a:srgbClr val="0c0c0c"/>
                </a:solidFill>
                <a:latin typeface="黑体"/>
              </a:rPr>
              <a:t>市东南</a:t>
            </a:r>
            <a:r>
              <a:rPr b="1" lang="en-US" sz="3200" spc="-1" strike="noStrike">
                <a:solidFill>
                  <a:srgbClr val="0c0c0c"/>
                </a:solidFill>
                <a:latin typeface="黑体"/>
              </a:rPr>
              <a:t>)</a:t>
            </a:r>
            <a:r>
              <a:rPr b="1" lang="zh-CN" sz="3200" spc="-1" strike="noStrike">
                <a:solidFill>
                  <a:srgbClr val="0c0c0c"/>
                </a:solidFill>
                <a:latin typeface="黑体"/>
              </a:rPr>
              <a:t>人。他被称为“孔圣人”、“至圣”，与“亚圣”孟子合称</a:t>
            </a:r>
            <a:r>
              <a:rPr b="1" lang="zh-CN" sz="3200" spc="-1" strike="noStrike" u="sng">
                <a:solidFill>
                  <a:srgbClr val="0c0c0c"/>
                </a:solidFill>
                <a:uFillTx/>
                <a:latin typeface="黑体"/>
              </a:rPr>
              <a:t>      </a:t>
            </a:r>
            <a:r>
              <a:rPr b="1" lang="zh-CN" sz="3200" spc="-1" strike="noStrike">
                <a:solidFill>
                  <a:srgbClr val="0c0c0c"/>
                </a:solidFill>
                <a:latin typeface="黑体"/>
              </a:rPr>
              <a:t>。     他是我国古代著名的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</a:rPr>
              <a:t>思想家、教育家、政治家、</a:t>
            </a:r>
            <a:r>
              <a:rPr b="1" lang="zh-CN" sz="3200" spc="-1" strike="noStrike" u="sng">
                <a:solidFill>
                  <a:srgbClr val="0c0c0c"/>
                </a:solidFill>
                <a:uFillTx/>
                <a:latin typeface="黑体"/>
              </a:rPr>
              <a:t>       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学派</a:t>
            </a:r>
            <a:r>
              <a:rPr b="1" lang="zh-CN" sz="3200" spc="-1" strike="noStrike">
                <a:solidFill>
                  <a:srgbClr val="0c0c0c"/>
                </a:solidFill>
                <a:latin typeface="黑体"/>
              </a:rPr>
              <a:t>创始人。相传有弟子三千，贤者七十二人。</a:t>
            </a:r>
            <a:endParaRPr b="0" lang="en-US" sz="3200" spc="-1" strike="noStrike">
              <a:solidFill>
                <a:srgbClr val="0c0c0c"/>
              </a:solidFill>
              <a:latin typeface="黑体"/>
            </a:endParaRPr>
          </a:p>
        </p:txBody>
      </p:sp>
      <p:pic>
        <p:nvPicPr>
          <p:cNvPr id="1045" name="Picture 6" descr="无标题"/>
          <p:cNvPicPr/>
          <p:nvPr/>
        </p:nvPicPr>
        <p:blipFill>
          <a:blip r:embed="rId2"/>
          <a:stretch/>
        </p:blipFill>
        <p:spPr>
          <a:xfrm>
            <a:off x="5796000" y="765000"/>
            <a:ext cx="3005280" cy="5453280"/>
          </a:xfrm>
          <a:prstGeom prst="rect">
            <a:avLst/>
          </a:prstGeom>
          <a:ln w="0">
            <a:noFill/>
          </a:ln>
        </p:spPr>
      </p:pic>
      <p:sp>
        <p:nvSpPr>
          <p:cNvPr id="1046" name=""/>
          <p:cNvSpPr/>
          <p:nvPr/>
        </p:nvSpPr>
        <p:spPr>
          <a:xfrm>
            <a:off x="2124000" y="260280"/>
            <a:ext cx="7304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20" rIns="15120" tIns="15120" bIns="1512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丘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492360" y="260280"/>
            <a:ext cx="12240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20" rIns="15120" tIns="15120" bIns="1512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仲尼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4140360" y="4725720"/>
            <a:ext cx="12236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20" rIns="15120" tIns="15120" bIns="1512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儒家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3708360" y="3141360"/>
            <a:ext cx="12240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20" rIns="15120" tIns="15120" bIns="1512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孔孟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88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57,113,-7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88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57,113,-7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88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57,113,-7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88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57,113,-7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88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57,113,-7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88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57,113,-7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88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57,113,-7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88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57,113,-7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c0c0c"/>
                </a:solidFill>
                <a:latin typeface="隶书"/>
                <a:ea typeface="隶书"/>
              </a:rPr>
              <a:t>板书设计</a:t>
            </a: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pic>
        <p:nvPicPr>
          <p:cNvPr id="1239" name="图示 1" descr=""/>
          <p:cNvPicPr/>
          <p:nvPr/>
        </p:nvPicPr>
        <p:blipFill>
          <a:blip r:embed="rId2"/>
          <a:stretch/>
        </p:blipFill>
        <p:spPr>
          <a:xfrm>
            <a:off x="900000" y="1916280"/>
            <a:ext cx="928368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c0c0c"/>
                </a:solidFill>
                <a:latin typeface="隶书"/>
                <a:ea typeface="隶书"/>
              </a:rPr>
              <a:t>板书设计</a:t>
            </a: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grpSp>
        <p:nvGrpSpPr>
          <p:cNvPr id="1241" name=""/>
          <p:cNvGrpSpPr/>
          <p:nvPr/>
        </p:nvGrpSpPr>
        <p:grpSpPr>
          <a:xfrm>
            <a:off x="0" y="1916280"/>
            <a:ext cx="7058160" cy="3984480"/>
            <a:chOff x="0" y="1916280"/>
            <a:chExt cx="7058160" cy="3984480"/>
          </a:xfrm>
        </p:grpSpPr>
        <p:sp>
          <p:nvSpPr>
            <p:cNvPr id="1242" name="任意多边形 3"/>
            <p:cNvSpPr/>
            <p:nvPr/>
          </p:nvSpPr>
          <p:spPr>
            <a:xfrm>
              <a:off x="756720" y="3908520"/>
              <a:ext cx="587160" cy="853200"/>
            </a:xfrm>
            <a:custGeom>
              <a:avLst/>
              <a:gdLst/>
              <a:ahLst/>
              <a:rect l="l" t="t" r="r" b="b"/>
              <a:pathLst>
                <a:path w="587483" h="853297">
                  <a:moveTo>
                    <a:pt x="0" y="0"/>
                  </a:moveTo>
                  <a:lnTo>
                    <a:pt x="293741" y="0"/>
                  </a:lnTo>
                  <a:lnTo>
                    <a:pt x="293741" y="853297"/>
                  </a:lnTo>
                  <a:lnTo>
                    <a:pt x="587483" y="853297"/>
                  </a:lnTo>
                </a:path>
              </a:pathLst>
            </a:custGeom>
            <a:noFill/>
            <a:ln w="25560">
              <a:solidFill>
                <a:srgbClr val="0707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280440" rIns="280440" tIns="400680" bIns="400680" anchor="ctr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243" name="任意多边形 4"/>
            <p:cNvSpPr/>
            <p:nvPr/>
          </p:nvSpPr>
          <p:spPr>
            <a:xfrm>
              <a:off x="756720" y="3800160"/>
              <a:ext cx="614520" cy="108000"/>
            </a:xfrm>
            <a:custGeom>
              <a:avLst/>
              <a:gdLst/>
              <a:ahLst/>
              <a:rect l="l" t="t" r="r" b="b"/>
              <a:pathLst>
                <a:path w="614622" h="108278">
                  <a:moveTo>
                    <a:pt x="0" y="108278"/>
                  </a:moveTo>
                  <a:lnTo>
                    <a:pt x="307311" y="108278"/>
                  </a:lnTo>
                  <a:lnTo>
                    <a:pt x="307311" y="0"/>
                  </a:lnTo>
                  <a:lnTo>
                    <a:pt x="614622" y="0"/>
                  </a:lnTo>
                </a:path>
              </a:pathLst>
            </a:custGeom>
            <a:noFill/>
            <a:ln w="25560">
              <a:solidFill>
                <a:srgbClr val="0707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04200" rIns="304200" tIns="38520" bIns="38520" anchor="ctr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244" name="任意多边形 5"/>
            <p:cNvSpPr/>
            <p:nvPr/>
          </p:nvSpPr>
          <p:spPr>
            <a:xfrm>
              <a:off x="756720" y="2784960"/>
              <a:ext cx="587160" cy="1123200"/>
            </a:xfrm>
            <a:custGeom>
              <a:avLst/>
              <a:gdLst/>
              <a:ahLst/>
              <a:rect l="l" t="t" r="r" b="b"/>
              <a:pathLst>
                <a:path w="587483" h="1123337">
                  <a:moveTo>
                    <a:pt x="0" y="1123337"/>
                  </a:moveTo>
                  <a:lnTo>
                    <a:pt x="293741" y="1123337"/>
                  </a:lnTo>
                  <a:lnTo>
                    <a:pt x="293741" y="0"/>
                  </a:lnTo>
                  <a:lnTo>
                    <a:pt x="587483" y="0"/>
                  </a:lnTo>
                </a:path>
              </a:pathLst>
            </a:custGeom>
            <a:noFill/>
            <a:ln w="25560">
              <a:solidFill>
                <a:srgbClr val="0707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274680" rIns="274680" tIns="529920" bIns="529920" anchor="ctr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245" name="任意多边形 6"/>
            <p:cNvSpPr/>
            <p:nvPr/>
          </p:nvSpPr>
          <p:spPr>
            <a:xfrm rot="16200000">
              <a:off x="-1613520" y="3530160"/>
              <a:ext cx="3984480" cy="75672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0a0a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1749"/>
                </a:spcAft>
                <a:tabLst>
                  <a:tab algn="l" pos="0"/>
                  <a:tab algn="l" pos="1778040"/>
                  <a:tab algn="l" pos="3556080"/>
                  <a:tab algn="l" pos="5334120"/>
                  <a:tab algn="l" pos="7112160"/>
                  <a:tab algn="l" pos="8889840"/>
                  <a:tab algn="l" pos="10667880"/>
                </a:tabLst>
              </a:pPr>
              <a:r>
                <a:rPr b="1" lang="zh-CN" sz="4000" spc="-1" strike="noStrike">
                  <a:solidFill>
                    <a:srgbClr val="0c0c0c"/>
                  </a:solidFill>
                  <a:latin typeface="隶书"/>
                  <a:ea typeface="隶书"/>
                </a:rPr>
                <a:t>学习方法</a:t>
              </a:r>
              <a:endParaRPr b="0" lang="en-US" sz="40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246" name="任意多边形 7"/>
            <p:cNvSpPr/>
            <p:nvPr/>
          </p:nvSpPr>
          <p:spPr>
            <a:xfrm>
              <a:off x="1344240" y="2406600"/>
              <a:ext cx="5713920" cy="7570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0a0a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120" rIns="15120" tIns="15120" bIns="151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0c0c0c"/>
                  </a:solidFill>
                  <a:latin typeface="仿宋"/>
                  <a:ea typeface="仿宋"/>
                </a:rPr>
                <a:t>择其善者而从之，其不善者而改之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247" name="任意多边形 8"/>
            <p:cNvSpPr/>
            <p:nvPr/>
          </p:nvSpPr>
          <p:spPr>
            <a:xfrm>
              <a:off x="1371600" y="3421800"/>
              <a:ext cx="5569920" cy="7570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0a0a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zh-CN" sz="2800" spc="-1" strike="noStrike">
                  <a:solidFill>
                    <a:srgbClr val="0c0c0c"/>
                  </a:solidFill>
                  <a:latin typeface="仿宋"/>
                  <a:ea typeface="仿宋"/>
                </a:rPr>
                <a:t>学而时习之，不亦说乎</a:t>
              </a:r>
              <a:endParaRPr b="0" lang="en-US" sz="2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248" name="任意多边形 9"/>
            <p:cNvSpPr/>
            <p:nvPr/>
          </p:nvSpPr>
          <p:spPr>
            <a:xfrm>
              <a:off x="1344240" y="4383360"/>
              <a:ext cx="5569920" cy="7570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0a0a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zh-CN" sz="2800" spc="-1" strike="noStrike">
                  <a:solidFill>
                    <a:srgbClr val="0c0c0c"/>
                  </a:solidFill>
                  <a:latin typeface="仿宋"/>
                  <a:ea typeface="仿宋"/>
                </a:rPr>
                <a:t>温故而知新，可以为师矣</a:t>
              </a:r>
              <a:endParaRPr b="0" lang="en-US" sz="2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249" name=""/>
          <p:cNvSpPr/>
          <p:nvPr/>
        </p:nvSpPr>
        <p:spPr>
          <a:xfrm>
            <a:off x="1042920" y="4797360"/>
            <a:ext cx="0" cy="0"/>
          </a:xfrm>
          <a:prstGeom prst="line">
            <a:avLst/>
          </a:prstGeom>
          <a:ln w="2556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120" rIns="15120" tIns="-15120" bIns="-15120" anchor="ctr">
            <a:no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1042920" y="4724280"/>
            <a:ext cx="0" cy="1152720"/>
          </a:xfrm>
          <a:prstGeom prst="line">
            <a:avLst/>
          </a:prstGeom>
          <a:ln w="2556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120" rIns="15120" tIns="15120" bIns="15120" anchor="ctr">
            <a:no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1042920" y="5877000"/>
            <a:ext cx="360360" cy="0"/>
          </a:xfrm>
          <a:prstGeom prst="line">
            <a:avLst/>
          </a:prstGeom>
          <a:ln w="2556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120" rIns="15120" tIns="-15120" bIns="-15120" anchor="ctr">
            <a:no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403280" y="5516640"/>
            <a:ext cx="5473800" cy="41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120" rIns="15120" tIns="15120" bIns="15120" anchor="t">
            <a:spAutoFit/>
          </a:bodyPr>
          <a:p>
            <a:pPr algn="ctr"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800" spc="-1" strike="noStrike">
                <a:solidFill>
                  <a:srgbClr val="0c0c0c"/>
                </a:solidFill>
                <a:latin typeface="仿宋"/>
                <a:ea typeface="仿宋"/>
              </a:rPr>
              <a:t>学而不思则罔，思而不学则殆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c0c0c"/>
                </a:solidFill>
                <a:latin typeface="隶书"/>
                <a:ea typeface="隶书"/>
              </a:rPr>
              <a:t>板书设计</a:t>
            </a: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grpSp>
        <p:nvGrpSpPr>
          <p:cNvPr id="1254" name=""/>
          <p:cNvGrpSpPr/>
          <p:nvPr/>
        </p:nvGrpSpPr>
        <p:grpSpPr>
          <a:xfrm>
            <a:off x="1332000" y="476280"/>
            <a:ext cx="6049800" cy="6103800"/>
            <a:chOff x="1332000" y="476280"/>
            <a:chExt cx="6049800" cy="6103800"/>
          </a:xfrm>
        </p:grpSpPr>
        <p:sp>
          <p:nvSpPr>
            <p:cNvPr id="1255" name=""/>
            <p:cNvSpPr/>
            <p:nvPr/>
          </p:nvSpPr>
          <p:spPr>
            <a:xfrm>
              <a:off x="1332000" y="4581720"/>
              <a:ext cx="0" cy="0"/>
            </a:xfrm>
            <a:prstGeom prst="line">
              <a:avLst/>
            </a:prstGeom>
            <a:ln w="25560">
              <a:solidFill>
                <a:srgbClr val="0a0a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120" rIns="15120" tIns="-15120" bIns="-15120" anchor="ctr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332000" y="765360"/>
              <a:ext cx="0" cy="5688000"/>
            </a:xfrm>
            <a:prstGeom prst="line">
              <a:avLst/>
            </a:prstGeom>
            <a:ln w="25560">
              <a:solidFill>
                <a:srgbClr val="0a0a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120" rIns="15120" tIns="15120" bIns="15120" anchor="ctr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grpSp>
          <p:nvGrpSpPr>
            <p:cNvPr id="1257" name=""/>
            <p:cNvGrpSpPr/>
            <p:nvPr/>
          </p:nvGrpSpPr>
          <p:grpSpPr>
            <a:xfrm>
              <a:off x="1332000" y="6165720"/>
              <a:ext cx="6049800" cy="414360"/>
              <a:chOff x="1332000" y="6165720"/>
              <a:chExt cx="6049800" cy="414360"/>
            </a:xfrm>
          </p:grpSpPr>
          <p:sp>
            <p:nvSpPr>
              <p:cNvPr id="1258" name=""/>
              <p:cNvSpPr/>
              <p:nvPr/>
            </p:nvSpPr>
            <p:spPr>
              <a:xfrm>
                <a:off x="1332000" y="6453000"/>
                <a:ext cx="576360" cy="0"/>
              </a:xfrm>
              <a:prstGeom prst="line">
                <a:avLst/>
              </a:prstGeom>
              <a:ln w="25560">
                <a:solidFill>
                  <a:srgbClr val="0a0a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120" rIns="15120" tIns="-15120" bIns="-15120" anchor="ctr">
                <a:noAutofit/>
              </a:bodyPr>
              <a:p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1908360" y="6165720"/>
                <a:ext cx="5473440" cy="41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c0c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120" rIns="15120" tIns="15120" bIns="15120" anchor="t">
                <a:spAutoFit/>
              </a:bodyPr>
              <a:p>
                <a:pPr>
                  <a:lnSpc>
                    <a:spcPct val="90000"/>
                  </a:lnSpc>
                  <a:spcAft>
                    <a:spcPts val="1225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800" spc="-1" strike="noStrike">
                    <a:solidFill>
                      <a:srgbClr val="0c0c0c"/>
                    </a:solidFill>
                    <a:latin typeface="仿宋"/>
                    <a:ea typeface="仿宋"/>
                  </a:rPr>
                  <a:t>饭 疏 食 饮 水</a:t>
                </a:r>
                <a:r>
                  <a:rPr b="1" lang="en-US" sz="2800" spc="-1" strike="noStrike">
                    <a:solidFill>
                      <a:srgbClr val="0c0c0c"/>
                    </a:solidFill>
                    <a:latin typeface="仿宋"/>
                    <a:ea typeface="仿宋"/>
                  </a:rPr>
                  <a:t>…</a:t>
                </a:r>
                <a:r>
                  <a:rPr b="1" lang="zh-CN" sz="2800" spc="-1" strike="noStrike">
                    <a:solidFill>
                      <a:srgbClr val="0c0c0c"/>
                    </a:solidFill>
                    <a:latin typeface="仿宋"/>
                    <a:ea typeface="仿宋"/>
                  </a:rPr>
                  <a:t>于 我 如浮 云</a:t>
                </a:r>
                <a:endParaRPr b="0" lang="en-US" sz="2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</p:grpSp>
        <p:grpSp>
          <p:nvGrpSpPr>
            <p:cNvPr id="1260" name=""/>
            <p:cNvGrpSpPr/>
            <p:nvPr/>
          </p:nvGrpSpPr>
          <p:grpSpPr>
            <a:xfrm>
              <a:off x="1332000" y="1700280"/>
              <a:ext cx="6049800" cy="414360"/>
              <a:chOff x="1332000" y="1700280"/>
              <a:chExt cx="6049800" cy="414360"/>
            </a:xfrm>
          </p:grpSpPr>
          <p:sp>
            <p:nvSpPr>
              <p:cNvPr id="1261" name=""/>
              <p:cNvSpPr/>
              <p:nvPr/>
            </p:nvSpPr>
            <p:spPr>
              <a:xfrm>
                <a:off x="1332000" y="1987560"/>
                <a:ext cx="576360" cy="0"/>
              </a:xfrm>
              <a:prstGeom prst="line">
                <a:avLst/>
              </a:prstGeom>
              <a:ln w="25560">
                <a:solidFill>
                  <a:srgbClr val="0a0a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120" rIns="15120" tIns="-15120" bIns="-15120" anchor="ctr">
                <a:noAutofit/>
              </a:bodyPr>
              <a:p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908360" y="1700280"/>
                <a:ext cx="5473440" cy="41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c0c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120" rIns="15120" tIns="15120" bIns="15120" anchor="t">
                <a:spAutoFit/>
              </a:bodyPr>
              <a:p>
                <a:pPr>
                  <a:lnSpc>
                    <a:spcPct val="90000"/>
                  </a:lnSpc>
                  <a:spcAft>
                    <a:spcPts val="1225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800" spc="-1" strike="noStrike">
                    <a:solidFill>
                      <a:srgbClr val="0c0c0c"/>
                    </a:solidFill>
                    <a:latin typeface="仿宋"/>
                    <a:ea typeface="仿宋"/>
                  </a:rPr>
                  <a:t>博学而笃志，切问而近思，仁在其中矣</a:t>
                </a:r>
                <a:endParaRPr b="0" lang="en-US" sz="2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</p:grpSp>
        <p:grpSp>
          <p:nvGrpSpPr>
            <p:cNvPr id="1263" name=""/>
            <p:cNvGrpSpPr/>
            <p:nvPr/>
          </p:nvGrpSpPr>
          <p:grpSpPr>
            <a:xfrm>
              <a:off x="1332000" y="1125720"/>
              <a:ext cx="6049800" cy="414360"/>
              <a:chOff x="1332000" y="1125720"/>
              <a:chExt cx="6049800" cy="414360"/>
            </a:xfrm>
          </p:grpSpPr>
          <p:sp>
            <p:nvSpPr>
              <p:cNvPr id="1264" name=""/>
              <p:cNvSpPr/>
              <p:nvPr/>
            </p:nvSpPr>
            <p:spPr>
              <a:xfrm>
                <a:off x="1332000" y="1412640"/>
                <a:ext cx="576360" cy="0"/>
              </a:xfrm>
              <a:prstGeom prst="line">
                <a:avLst/>
              </a:prstGeom>
              <a:ln w="25560">
                <a:solidFill>
                  <a:srgbClr val="0a0a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120" rIns="15120" tIns="-15120" bIns="-15120" anchor="ctr">
                <a:noAutofit/>
              </a:bodyPr>
              <a:p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1908360" y="1125720"/>
                <a:ext cx="5473440" cy="41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c0c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120" rIns="15120" tIns="15120" bIns="15120" anchor="t">
                <a:spAutoFit/>
              </a:bodyPr>
              <a:p>
                <a:pPr>
                  <a:lnSpc>
                    <a:spcPct val="90000"/>
                  </a:lnSpc>
                  <a:spcAft>
                    <a:spcPts val="1225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800" spc="-1" strike="noStrike">
                    <a:solidFill>
                      <a:srgbClr val="0c0c0c"/>
                    </a:solidFill>
                    <a:latin typeface="仿宋"/>
                    <a:ea typeface="仿宋"/>
                  </a:rPr>
                  <a:t>三军可夺帅也，匹夫不可夺志也</a:t>
                </a:r>
                <a:endParaRPr b="0" lang="en-US" sz="2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</p:grpSp>
        <p:grpSp>
          <p:nvGrpSpPr>
            <p:cNvPr id="1266" name=""/>
            <p:cNvGrpSpPr/>
            <p:nvPr/>
          </p:nvGrpSpPr>
          <p:grpSpPr>
            <a:xfrm>
              <a:off x="1332000" y="476280"/>
              <a:ext cx="6049800" cy="414360"/>
              <a:chOff x="1332000" y="476280"/>
              <a:chExt cx="6049800" cy="414360"/>
            </a:xfrm>
          </p:grpSpPr>
          <p:sp>
            <p:nvSpPr>
              <p:cNvPr id="1267" name=""/>
              <p:cNvSpPr/>
              <p:nvPr/>
            </p:nvSpPr>
            <p:spPr>
              <a:xfrm>
                <a:off x="1332000" y="763560"/>
                <a:ext cx="576360" cy="0"/>
              </a:xfrm>
              <a:prstGeom prst="line">
                <a:avLst/>
              </a:prstGeom>
              <a:ln w="25560">
                <a:solidFill>
                  <a:srgbClr val="0a0a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120" rIns="15120" tIns="-15120" bIns="-15120" anchor="ctr">
                <a:noAutofit/>
              </a:bodyPr>
              <a:p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1908360" y="476280"/>
                <a:ext cx="5473440" cy="41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c0c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120" rIns="15120" tIns="15120" bIns="15120" anchor="t">
                <a:spAutoFit/>
              </a:bodyPr>
              <a:p>
                <a:pPr>
                  <a:lnSpc>
                    <a:spcPct val="90000"/>
                  </a:lnSpc>
                  <a:spcAft>
                    <a:spcPts val="1225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800" spc="-1" strike="noStrike">
                    <a:solidFill>
                      <a:srgbClr val="0c0c0c"/>
                    </a:solidFill>
                    <a:latin typeface="仿宋"/>
                    <a:ea typeface="仿宋"/>
                  </a:rPr>
                  <a:t>人不知而不愠，不亦君子乎</a:t>
                </a:r>
                <a:endParaRPr b="0" lang="en-US" sz="2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</p:grpSp>
        <p:grpSp>
          <p:nvGrpSpPr>
            <p:cNvPr id="1269" name=""/>
            <p:cNvGrpSpPr/>
            <p:nvPr/>
          </p:nvGrpSpPr>
          <p:grpSpPr>
            <a:xfrm>
              <a:off x="1332000" y="3718080"/>
              <a:ext cx="6049800" cy="798120"/>
              <a:chOff x="1332000" y="3718080"/>
              <a:chExt cx="6049800" cy="798120"/>
            </a:xfrm>
          </p:grpSpPr>
          <p:sp>
            <p:nvSpPr>
              <p:cNvPr id="1270" name=""/>
              <p:cNvSpPr/>
              <p:nvPr/>
            </p:nvSpPr>
            <p:spPr>
              <a:xfrm>
                <a:off x="1332000" y="4005360"/>
                <a:ext cx="576360" cy="0"/>
              </a:xfrm>
              <a:prstGeom prst="line">
                <a:avLst/>
              </a:prstGeom>
              <a:ln w="25560">
                <a:solidFill>
                  <a:srgbClr val="0a0a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120" rIns="15120" tIns="-15120" bIns="-15120" anchor="ctr">
                <a:noAutofit/>
              </a:bodyPr>
              <a:p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1908360" y="3718080"/>
                <a:ext cx="5473440" cy="7981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c0c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120" rIns="15120" tIns="15120" bIns="15120" anchor="t">
                <a:spAutoFit/>
              </a:bodyPr>
              <a:p>
                <a:pPr>
                  <a:lnSpc>
                    <a:spcPct val="90000"/>
                  </a:lnSpc>
                  <a:spcAft>
                    <a:spcPts val="1225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800" spc="-1" strike="noStrike">
                    <a:solidFill>
                      <a:srgbClr val="0c0c0c"/>
                    </a:solidFill>
                    <a:latin typeface="仿宋"/>
                    <a:ea typeface="仿宋"/>
                  </a:rPr>
                  <a:t>三十而立，四十而不惑，五十而知天命，六十而耳顺，七十而从心所欲，不逾矩</a:t>
                </a:r>
                <a:endParaRPr b="0" lang="en-US" sz="2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</p:grpSp>
        <p:grpSp>
          <p:nvGrpSpPr>
            <p:cNvPr id="1272" name=""/>
            <p:cNvGrpSpPr/>
            <p:nvPr/>
          </p:nvGrpSpPr>
          <p:grpSpPr>
            <a:xfrm>
              <a:off x="1332000" y="2708280"/>
              <a:ext cx="6049800" cy="414360"/>
              <a:chOff x="1332000" y="2708280"/>
              <a:chExt cx="6049800" cy="414360"/>
            </a:xfrm>
          </p:grpSpPr>
          <p:sp>
            <p:nvSpPr>
              <p:cNvPr id="1273" name=""/>
              <p:cNvSpPr/>
              <p:nvPr/>
            </p:nvSpPr>
            <p:spPr>
              <a:xfrm>
                <a:off x="1332000" y="2995560"/>
                <a:ext cx="576360" cy="0"/>
              </a:xfrm>
              <a:prstGeom prst="line">
                <a:avLst/>
              </a:prstGeom>
              <a:ln w="25560">
                <a:solidFill>
                  <a:srgbClr val="0a0a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120" rIns="15120" tIns="-15120" bIns="-15120" anchor="ctr">
                <a:noAutofit/>
              </a:bodyPr>
              <a:p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1908360" y="2708280"/>
                <a:ext cx="5473440" cy="41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c0c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120" rIns="15120" tIns="15120" bIns="15120" anchor="t">
                <a:spAutoFit/>
              </a:bodyPr>
              <a:p>
                <a:pPr>
                  <a:lnSpc>
                    <a:spcPct val="90000"/>
                  </a:lnSpc>
                  <a:spcAft>
                    <a:spcPts val="1225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800" spc="-1" strike="noStrike">
                    <a:solidFill>
                      <a:srgbClr val="0c0c0c"/>
                    </a:solidFill>
                    <a:latin typeface="仿宋"/>
                    <a:ea typeface="仿宋"/>
                  </a:rPr>
                  <a:t>一箪食，一瓢饮，在陋巷，人不堪其忧，回也不改其乐</a:t>
                </a:r>
                <a:endParaRPr b="0" lang="en-US" sz="2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</p:grpSp>
        <p:grpSp>
          <p:nvGrpSpPr>
            <p:cNvPr id="1275" name=""/>
            <p:cNvGrpSpPr/>
            <p:nvPr/>
          </p:nvGrpSpPr>
          <p:grpSpPr>
            <a:xfrm>
              <a:off x="1332000" y="5148360"/>
              <a:ext cx="6049800" cy="798120"/>
              <a:chOff x="1332000" y="5148360"/>
              <a:chExt cx="6049800" cy="798120"/>
            </a:xfrm>
          </p:grpSpPr>
          <p:sp>
            <p:nvSpPr>
              <p:cNvPr id="1276" name=""/>
              <p:cNvSpPr/>
              <p:nvPr/>
            </p:nvSpPr>
            <p:spPr>
              <a:xfrm>
                <a:off x="1332000" y="5435640"/>
                <a:ext cx="576360" cy="0"/>
              </a:xfrm>
              <a:prstGeom prst="line">
                <a:avLst/>
              </a:prstGeom>
              <a:ln w="25560">
                <a:solidFill>
                  <a:srgbClr val="0a0a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120" rIns="15120" tIns="-15120" bIns="-15120" anchor="ctr">
                <a:noAutofit/>
              </a:bodyPr>
              <a:p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1908360" y="5148360"/>
                <a:ext cx="5473440" cy="7981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c0c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120" rIns="15120" tIns="15120" bIns="15120" anchor="t">
                <a:spAutoFit/>
              </a:bodyPr>
              <a:p>
                <a:pPr>
                  <a:lnSpc>
                    <a:spcPct val="90000"/>
                  </a:lnSpc>
                  <a:spcAft>
                    <a:spcPts val="1225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800" spc="-1" strike="noStrike">
                    <a:solidFill>
                      <a:srgbClr val="0c0c0c"/>
                    </a:solidFill>
                    <a:latin typeface="仿宋"/>
                    <a:ea typeface="仿宋"/>
                  </a:rPr>
                  <a:t>吾日三省吾身：为人谋而不忠乎？与朋友交而不信乎？传不习乎？</a:t>
                </a:r>
                <a:endParaRPr b="0" lang="en-US" sz="2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</p:grpSp>
      </p:grpSp>
      <p:sp>
        <p:nvSpPr>
          <p:cNvPr id="1278" name=""/>
          <p:cNvSpPr/>
          <p:nvPr/>
        </p:nvSpPr>
        <p:spPr>
          <a:xfrm>
            <a:off x="248040" y="1773360"/>
            <a:ext cx="578880" cy="324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120" rIns="15120" tIns="15120" bIns="15120" anchor="t" vert="eaVer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spcAft>
                <a:spcPts val="17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000" spc="-1" strike="noStrike">
                <a:solidFill>
                  <a:srgbClr val="0c0c0c"/>
                </a:solidFill>
                <a:latin typeface="隶书"/>
                <a:ea typeface="隶书"/>
              </a:rPr>
              <a:t>修身做人</a:t>
            </a:r>
            <a:endParaRPr b="0" lang="en-US" sz="40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826920" y="3213000"/>
            <a:ext cx="505080" cy="0"/>
          </a:xfrm>
          <a:prstGeom prst="line">
            <a:avLst/>
          </a:prstGeom>
          <a:ln w="2556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120" rIns="15120" tIns="-15120" bIns="-15120" anchor="ctr">
            <a:no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 txBox="1"/>
          <p:nvPr/>
        </p:nvSpPr>
        <p:spPr>
          <a:xfrm>
            <a:off x="2484360" y="2668680"/>
            <a:ext cx="4608720" cy="2344680"/>
          </a:xfrm>
          <a:prstGeom prst="rect">
            <a:avLst/>
          </a:prstGeom>
        </p:spPr>
        <p:txBody>
          <a:bodyPr wrap="none" lIns="15120" rIns="15120" tIns="15120" bIns="1512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大家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1051" name="" descr=""/>
          <p:cNvPicPr/>
          <p:nvPr/>
        </p:nvPicPr>
        <p:blipFill>
          <a:blip r:embed="rId3"/>
          <a:stretch/>
        </p:blipFill>
        <p:spPr>
          <a:xfrm>
            <a:off x="4822920" y="1817640"/>
            <a:ext cx="4321080" cy="5040360"/>
          </a:xfrm>
          <a:prstGeom prst="rect">
            <a:avLst/>
          </a:prstGeom>
          <a:ln w="0">
            <a:noFill/>
          </a:ln>
        </p:spPr>
      </p:pic>
      <p:sp>
        <p:nvSpPr>
          <p:cNvPr id="1052" name=""/>
          <p:cNvSpPr/>
          <p:nvPr/>
        </p:nvSpPr>
        <p:spPr>
          <a:xfrm>
            <a:off x="4788000" y="0"/>
            <a:ext cx="435600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20" rIns="15120" tIns="15120" bIns="15120" anchor="t">
            <a:spAutoFit/>
          </a:bodyPr>
          <a:p>
            <a:pPr algn="ctr">
              <a:lnSpc>
                <a:spcPct val="90000"/>
              </a:lnSpc>
              <a:spcAft>
                <a:spcPts val="288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黑体"/>
                <a:ea typeface="黑体"/>
              </a:rPr>
              <a:t>孔   府</a:t>
            </a:r>
            <a:endParaRPr b="0" lang="en-US" sz="66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576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仿宋"/>
                <a:ea typeface="仿宋"/>
              </a:rPr>
              <a:t>孔子嫡系子孙居住地</a:t>
            </a:r>
            <a:endParaRPr b="0" lang="en-US" sz="36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221000"/>
          </a:xfrm>
          <a:prstGeom prst="rect">
            <a:avLst/>
          </a:prstGeom>
          <a:ln w="0">
            <a:noFill/>
          </a:ln>
        </p:spPr>
      </p:pic>
      <p:pic>
        <p:nvPicPr>
          <p:cNvPr id="1054" name="" descr=""/>
          <p:cNvPicPr/>
          <p:nvPr/>
        </p:nvPicPr>
        <p:blipFill>
          <a:blip r:embed="rId3"/>
          <a:stretch/>
        </p:blipFill>
        <p:spPr>
          <a:xfrm>
            <a:off x="4356000" y="3429000"/>
            <a:ext cx="4788000" cy="3429000"/>
          </a:xfrm>
          <a:prstGeom prst="rect">
            <a:avLst/>
          </a:prstGeom>
          <a:ln w="0">
            <a:noFill/>
          </a:ln>
        </p:spPr>
      </p:pic>
      <p:sp>
        <p:nvSpPr>
          <p:cNvPr id="1055" name=""/>
          <p:cNvSpPr/>
          <p:nvPr/>
        </p:nvSpPr>
        <p:spPr>
          <a:xfrm>
            <a:off x="0" y="4581360"/>
            <a:ext cx="4284720" cy="16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20" rIns="15120" tIns="15120" bIns="15120" anchor="t">
            <a:spAutoFit/>
          </a:bodyPr>
          <a:p>
            <a:pPr algn="ctr"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黑体"/>
                <a:ea typeface="黑体"/>
              </a:rPr>
              <a:t>孔庙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925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祭祀孔子的地方</a:t>
            </a:r>
            <a:endParaRPr b="0" lang="en-US" sz="44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" descr=""/>
          <p:cNvPicPr/>
          <p:nvPr/>
        </p:nvPicPr>
        <p:blipFill>
          <a:blip r:embed="rId2"/>
          <a:stretch/>
        </p:blipFill>
        <p:spPr>
          <a:xfrm>
            <a:off x="0" y="1916280"/>
            <a:ext cx="4659480" cy="4941720"/>
          </a:xfrm>
          <a:prstGeom prst="rect">
            <a:avLst/>
          </a:prstGeom>
          <a:ln w="0">
            <a:noFill/>
          </a:ln>
        </p:spPr>
      </p:pic>
      <p:pic>
        <p:nvPicPr>
          <p:cNvPr id="1057" name="" descr=""/>
          <p:cNvPicPr/>
          <p:nvPr/>
        </p:nvPicPr>
        <p:blipFill>
          <a:blip r:embed="rId3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1058" name=""/>
          <p:cNvSpPr/>
          <p:nvPr/>
        </p:nvSpPr>
        <p:spPr>
          <a:xfrm>
            <a:off x="0" y="0"/>
            <a:ext cx="4356000" cy="18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20" rIns="15120" tIns="15120" bIns="15120" anchor="t">
            <a:spAutoFit/>
          </a:bodyPr>
          <a:p>
            <a:pPr algn="ctr">
              <a:lnSpc>
                <a:spcPct val="90000"/>
              </a:lnSpc>
              <a:spcAft>
                <a:spcPts val="17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黑体"/>
                <a:ea typeface="黑体"/>
              </a:rPr>
              <a:t>孔林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孔子墓地</a:t>
            </a:r>
            <a:endParaRPr b="0" lang="en-US" sz="48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Picture 6" descr="longbj0"/>
          <p:cNvPicPr/>
          <p:nvPr/>
        </p:nvPicPr>
        <p:blipFill>
          <a:blip r:embed="rId2"/>
          <a:stretch/>
        </p:blipFill>
        <p:spPr>
          <a:xfrm>
            <a:off x="2411280" y="1628640"/>
            <a:ext cx="2857680" cy="23338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2" descr="论语"/>
          <p:cNvPicPr/>
          <p:nvPr/>
        </p:nvPicPr>
        <p:blipFill>
          <a:blip r:embed="rId3"/>
          <a:stretch/>
        </p:blipFill>
        <p:spPr>
          <a:xfrm>
            <a:off x="250920" y="3645000"/>
            <a:ext cx="3600360" cy="2781360"/>
          </a:xfrm>
          <a:prstGeom prst="rect">
            <a:avLst/>
          </a:prstGeom>
          <a:ln w="0">
            <a:noFill/>
          </a:ln>
        </p:spPr>
      </p:pic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4216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3366"/>
                </a:solidFill>
                <a:latin typeface="黑体"/>
                <a:ea typeface="隶书"/>
              </a:rPr>
              <a:t>——</a:t>
            </a:r>
            <a:r>
              <a:rPr b="1" i="1" lang="en-US" sz="7200" spc="-1" strike="noStrike">
                <a:solidFill>
                  <a:srgbClr val="003366"/>
                </a:solidFill>
                <a:latin typeface="黑体"/>
                <a:ea typeface="隶书"/>
              </a:rPr>
              <a:t>《</a:t>
            </a:r>
            <a:r>
              <a:rPr b="1" i="1" lang="zh-CN" sz="7200" spc="-1" strike="noStrike">
                <a:solidFill>
                  <a:srgbClr val="003366"/>
                </a:solidFill>
                <a:latin typeface="黑体"/>
                <a:ea typeface="隶书"/>
              </a:rPr>
              <a:t>论语</a:t>
            </a:r>
            <a:r>
              <a:rPr b="1" i="1" lang="en-US" sz="7200" spc="-1" strike="noStrike">
                <a:solidFill>
                  <a:srgbClr val="003366"/>
                </a:solidFill>
                <a:latin typeface="黑体"/>
                <a:ea typeface="隶书"/>
              </a:rPr>
              <a:t>》——</a:t>
            </a:r>
            <a:endParaRPr b="1" lang="en-US" sz="72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62" name="Rectangle 7"/>
          <p:cNvSpPr/>
          <p:nvPr/>
        </p:nvSpPr>
        <p:spPr>
          <a:xfrm>
            <a:off x="395280" y="105264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  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儒家的经典著作之一，由孔子弟子及再传弟子编撰而成。以</a:t>
            </a:r>
            <a:r>
              <a:rPr b="1" lang="zh-CN" sz="3600" spc="-1" strike="noStrike" u="sng">
                <a:solidFill>
                  <a:srgbClr val="0033cc"/>
                </a:solidFill>
                <a:uFillTx/>
                <a:latin typeface="Arial"/>
                <a:ea typeface="黑体"/>
              </a:rPr>
              <a:t>  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体 和</a:t>
            </a:r>
            <a:r>
              <a:rPr b="1" lang="zh-CN" sz="3600" spc="-1" strike="noStrike" u="sng">
                <a:solidFill>
                  <a:srgbClr val="0033cc"/>
                </a:solidFill>
                <a:uFillTx/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体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为主，记录了孔子及其弟子的言行。</a:t>
            </a:r>
            <a:endParaRPr b="0" lang="en-US" sz="3600" spc="-1" strike="noStrike">
              <a:solidFill>
                <a:srgbClr val="0c0c0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63" name="Rectangle 8"/>
          <p:cNvSpPr/>
          <p:nvPr/>
        </p:nvSpPr>
        <p:spPr>
          <a:xfrm>
            <a:off x="3924360" y="3429000"/>
            <a:ext cx="5364000" cy="30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buClr>
                <a:srgbClr val="b5713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四书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c0c0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5713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论语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》《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大学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endParaRPr b="0" lang="en-US" sz="3600" spc="-1" strike="noStrike">
              <a:solidFill>
                <a:srgbClr val="0c0c0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5713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中庸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》《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孟子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endParaRPr b="0" lang="en-US" sz="3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1332000" y="2205000"/>
            <a:ext cx="12240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20" rIns="15120" tIns="15120" bIns="1512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对话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372360" y="1628640"/>
            <a:ext cx="12240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20" rIns="15120" tIns="15120" bIns="1512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语录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88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57,113,-7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88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57,113,-7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88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57,113,-7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88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57,113,-7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0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403280" y="471600"/>
            <a:ext cx="734544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c0c0c"/>
                </a:solidFill>
                <a:latin typeface="宋体"/>
              </a:rPr>
              <a:t>六、课文讲解</a:t>
            </a:r>
            <a:r>
              <a:rPr b="1" lang="zh-CN" sz="2000" spc="-1" strike="noStrike">
                <a:solidFill>
                  <a:srgbClr val="0c0c0c"/>
                </a:solidFill>
                <a:latin typeface="黑体"/>
              </a:rPr>
              <a:t> </a:t>
            </a:r>
            <a:endParaRPr b="1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33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0fd3"/>
                </a:solidFill>
                <a:latin typeface="宋体"/>
                <a:ea typeface="仿宋_GB2312"/>
              </a:rPr>
              <a:t>1</a:t>
            </a:r>
            <a:r>
              <a:rPr b="1" lang="zh-CN" sz="3600" spc="-1" strike="noStrike">
                <a:solidFill>
                  <a:srgbClr val="500fd3"/>
                </a:solidFill>
                <a:latin typeface="宋体"/>
                <a:ea typeface="仿宋_GB2312"/>
              </a:rPr>
              <a:t>．课文朗读</a:t>
            </a:r>
            <a:endParaRPr b="0" lang="en-US" sz="3600" spc="-1" strike="noStrike">
              <a:solidFill>
                <a:srgbClr val="0c0c0c"/>
              </a:solidFill>
              <a:latin typeface="黑体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500fd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00fd3"/>
                </a:solidFill>
                <a:latin typeface="宋体"/>
                <a:ea typeface="仿宋_GB2312"/>
              </a:rPr>
              <a:t>听音频：学生体会语气、语调、停顿等</a:t>
            </a:r>
            <a:endParaRPr b="0" lang="en-US" sz="3600" spc="-1" strike="noStrike">
              <a:solidFill>
                <a:srgbClr val="0c0c0c"/>
              </a:solidFill>
              <a:latin typeface="黑体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500fd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00fd3"/>
                </a:solidFill>
                <a:latin typeface="宋体"/>
                <a:ea typeface="仿宋_GB2312"/>
              </a:rPr>
              <a:t>自读：学生自读课文。</a:t>
            </a:r>
            <a:endParaRPr b="0" lang="en-US" sz="3600" spc="-1" strike="noStrike">
              <a:solidFill>
                <a:srgbClr val="0c0c0c"/>
              </a:solidFill>
              <a:latin typeface="黑体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500fd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00fd3"/>
                </a:solidFill>
                <a:latin typeface="宋体"/>
                <a:ea typeface="仿宋_GB2312"/>
              </a:rPr>
              <a:t>感知：本文的内容包括学习的哪些方面？</a:t>
            </a:r>
            <a:endParaRPr b="0" lang="en-US" sz="36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00fd3"/>
                </a:solidFill>
                <a:latin typeface="Times New Roman"/>
                <a:ea typeface="仿宋_GB2312"/>
              </a:rPr>
              <a:t>        </a:t>
            </a:r>
            <a:r>
              <a:rPr b="0" lang="zh-CN" sz="3600" spc="-1" strike="noStrike">
                <a:solidFill>
                  <a:srgbClr val="500fd3"/>
                </a:solidFill>
                <a:latin typeface="宋体"/>
                <a:ea typeface="仿宋_GB2312"/>
              </a:rPr>
              <a:t>学生交流后，教师概述：本文主要包括学习的态度、方法和思想修养。</a:t>
            </a:r>
            <a:r>
              <a:rPr b="0" lang="zh-CN" sz="3600" spc="-1" strike="noStrike">
                <a:solidFill>
                  <a:srgbClr val="0c0c0c"/>
                </a:solidFill>
                <a:latin typeface="黑体"/>
              </a:rPr>
              <a:t> </a:t>
            </a:r>
            <a:endParaRPr b="0" lang="en-US" sz="3600" spc="-1" strike="noStrike">
              <a:solidFill>
                <a:srgbClr val="0c0c0c"/>
              </a:solidFill>
              <a:latin typeface="黑体"/>
            </a:endParaRPr>
          </a:p>
        </p:txBody>
      </p:sp>
      <p:pic>
        <p:nvPicPr>
          <p:cNvPr id="1068" name="" descr=""/>
          <p:cNvPicPr/>
          <p:nvPr/>
        </p:nvPicPr>
        <p:blipFill>
          <a:blip r:embed="rId2"/>
          <a:stretch/>
        </p:blipFill>
        <p:spPr>
          <a:xfrm>
            <a:off x="5724360" y="1197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0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0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evt="onClick">
                    <p:tgtEl>
                      <p:spTgt spid="1068"/>
                    </p:tgtEl>
                  </p:cond>
                </p:stCondLst>
                <p:childTnLst>
                  <p:par>
                    <p:cTn id="210" fill="hold">
                      <p:stCondLst>
                        <p:cond evt="onClick">
                          <p:tgtEl>
                            <p:spTgt spid="1068"/>
                          </p:tgtEl>
                        </p:cond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77419" fill="hold"/>
                                        <p:tgtEl>
                                          <p:spTgt spid="10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3:54:09Z</dcterms:created>
  <dc:creator>可可</dc:creator>
  <dc:description/>
  <cp:keywords/>
  <dc:language>en-US</dc:language>
  <cp:lastModifiedBy>微软中国</cp:lastModifiedBy>
  <dcterms:modified xsi:type="dcterms:W3CDTF">2013-09-30T01:15:32Z</dcterms:modified>
  <cp:revision>206</cp:revision>
  <dc:subject/>
  <dc:title>中国风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77</vt:lpwstr>
  </property>
</Properties>
</file>