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F81-A65E-49F4-A148-3BA8AFF9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71E-DE09-4441-89E1-725F9D2B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F1D-E61B-4493-9B34-FF3CEB0F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5F4-912C-4666-A881-6A818C13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B70-6D7F-46F4-9A29-44CFFB11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C3A-A4B4-48D7-B873-CBF84DEC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552-4E38-465A-AE33-63AFED21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16B-5E72-477C-8CEB-BD01BA71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135-3DB3-43A2-9E0D-6806EDB7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74E-3CF3-4473-8322-43F681F2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8C6-9000-4B13-A1BD-C5F76347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C7A-31C9-4F80-BA77-10395C84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75E6-50D1-498D-BC80-822A535D3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orbel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360" y="593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808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6220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949"/>
                </a:solidFill>
                <a:latin typeface="Candara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4949"/>
                </a:solidFill>
                <a:latin typeface="Candara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sus</dc:creator>
  <dc:description/>
  <dc:language>en-US</dc:language>
  <cp:lastModifiedBy/>
  <dcterms:modified xsi:type="dcterms:W3CDTF">2014-07-19T06:49:3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