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6FE-CF56-442D-9B02-8AD95D30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F61-768D-4940-8AF7-220DBCCB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110-23FA-4543-A7AF-90D9A371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DF0-B8C9-49F7-A35A-5352EC3E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9CF-EA9B-4AD4-BA90-45800509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3E1-82B1-42C1-8F90-97CA74A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2C7-44EA-4452-9CDA-BC60959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15D-FFB7-4842-B738-F28F5820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71F-A988-436A-8DDD-D50BCEA9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164-B71D-4876-916B-C4B3F6C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CD3-F9CE-4273-9A87-8B00823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108-29B4-4281-8382-1D594BB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6FE-A351-4F76-9435-3838F3DC3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eamkidland.cn/thhb/opc/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kidland.cn/thhb/opc/0.htm" TargetMode="External"/><Relationship Id="rId2" Type="http://schemas.openxmlformats.org/officeDocument/2006/relationships/hyperlink" Target="http://www.dreamkidland.cn/thhb/opc/0.htm" TargetMode="External"/><Relationship Id="rId3" Type="http://schemas.openxmlformats.org/officeDocument/2006/relationships/hyperlink" Target="http://www.dreamkidland.cn/thhb/opc/0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5481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867280" y="1728720"/>
            <a:ext cx="29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猫头鹰和小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德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尼尔 著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Le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伯内特 绘画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Bret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翻译：漪然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阅读年龄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69600" y="5804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到一片长着吊钟树的土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562640" y="0"/>
            <a:ext cx="458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6093000"/>
          <a:ext cx="7315200" cy="6714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2"/>
          <a:stretch/>
        </p:blipFill>
        <p:spPr>
          <a:xfrm>
            <a:off x="4556160" y="0"/>
            <a:ext cx="4552920" cy="5448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879480" y="559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95280" y="5667480"/>
            <a:ext cx="83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只戴假发的小猪在岛上站，他的鼻子上就套着一只订婚戒指，他的鼻子，他的鼻子，他的鼻子上就套着一只订婚戒指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756880" y="594936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亲爱的猪，你是否愿意用一个先令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售你的宝贝戒指？”小猪说道：“我很愿意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250000" y="58762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是他们接过了戒指，第二天就举行了婚礼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持婚礼的是住在山坡上的火鸡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9280" y="55296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细嚼慢咽着切成片的木梨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的餐具是一把叉匙①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叉匙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cible spo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种有三根阔齿的匙状食具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cib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英文单词是爱德华在这首荒诞诗歌里发明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0" y="0"/>
            <a:ext cx="45338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739520" y="5392800"/>
            <a:ext cx="18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着他们就手拉手走向沙滩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月光下面舞蹈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光呀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光呀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在月光下面舞蹈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5080" y="0"/>
            <a:ext cx="43909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338560" y="704880"/>
            <a:ext cx="4466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44360" y="537120"/>
            <a:ext cx="882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爱德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尼尔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ward Lear,18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是英国诗人，一个伦敦股票经纪人的小儿子。尼尔是一个以绘画风景和鸟类见长的画家。他曾经给维多利亚女王上过绘画课。但他却是以他的怪诞诗歌闻名于世。比如这一首：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从前有一个老人长着长长的胡子，他说：“它长得让我忧虑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两只猫头鹰和一只母鸡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四只云雀和一只鹪鹩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全都把自己的小窝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在我的胡子里建造！”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他最为著名的作品“猫头鹰和小猫”是一组系列诗歌，尼尔曾经写过一篇“猫头鹰和小猫的孩子们”作为结局，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他去世时，却没有留下完整的诗稿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和小猫的孩子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节选）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的妈妈是一只小猫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的爸爸是猫头鹰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所以我们既是小动物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又是小鸟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家里的弟兄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都穿着羽毛外套鸣叫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我们家里的姐妹却长着绒毛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还有一根长长的尾巴摇呀摇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4"/>
          <a:stretch/>
        </p:blipFill>
        <p:spPr>
          <a:xfrm>
            <a:off x="1440" y="0"/>
            <a:ext cx="4418280" cy="53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"/>
          <p:cNvPicPr/>
          <p:nvPr/>
        </p:nvPicPr>
        <p:blipFill>
          <a:blip r:embed="rId5"/>
          <a:stretch/>
        </p:blipFill>
        <p:spPr>
          <a:xfrm>
            <a:off x="4421160" y="0"/>
            <a:ext cx="4722840" cy="5300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325440" y="514512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品简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这是一本根据百年前流传下来的一首童诗画的图画书，讲的是发生在加勒比海的一只猫头鹰和一只猫的爱情故事。百年来，有十几位插画家为它配过画，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伯内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AN BRETT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这个版本是其中最好的之一。她的画象是一针一线绣出来的，每一个角落都细致入微，为了画这本书，她还专门去加勒比海考察当地的风光，穿着和特有的动植物。简在美国是非常有名的童书画家，她的书销量极大，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562640" y="0"/>
            <a:ext cx="4581360" cy="544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044720" y="6012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和小猫一起航海去在一只豌豆绿的小船上漂呀漂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4400" y="5681520"/>
          <a:ext cx="7315200" cy="9162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91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他们带上了一些蜂蜜，还有一些钱币特别是一张五英镑的钞票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4524480" cy="544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58920" y="5876280"/>
            <a:ext cx="56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猫头鹰仰头去看星星，一边弹奏起一把小小的吉他琴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5448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62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68360" y="55666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噢，可爱的小猫，噢，我心爱的小猫，你是一只多么美丽的小猫，你呀，你呀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一只多么美丽的小猫！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544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51800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5804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猫对猫头鹰说道：“你这高雅的小鸟，吟唱得多么美妙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600440" cy="544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4552920" y="0"/>
            <a:ext cx="45910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8200" y="56671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哦！让我们赶快结婚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宝贵的时间不该被白白消耗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我们的订婚戒指上哪儿才能弄到？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44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7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11280" y="58762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航行了一年零一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8"/>
          <a:stretch/>
        </p:blipFill>
        <p:spPr>
          <a:xfrm>
            <a:off x="0" y="0"/>
            <a:ext cx="4562640" cy="544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9"/>
          <a:stretch/>
        </p:blipFill>
        <p:spPr>
          <a:xfrm>
            <a:off x="4543560" y="0"/>
            <a:ext cx="4600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08:48:40Z</dcterms:created>
  <dc:creator>lenovo</dc:creator>
  <dc:description/>
  <dc:language>en-US</dc:language>
  <cp:lastModifiedBy>Sky123.Org</cp:lastModifiedBy>
  <dcterms:modified xsi:type="dcterms:W3CDTF">2015-08-05T01:45:47Z</dcterms:modified>
  <cp:revision>17</cp:revision>
  <dc:subject/>
  <dc:title>幻灯片 1</dc:title>
</cp:coreProperties>
</file>