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73958-E35D-48D8-B1C0-9305AFEBD6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C287F-7558-4A3B-996F-A478118E2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8B519-879C-4A10-850E-7E959E893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8D8E7-FC3C-4521-9487-674141533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8B4E-5327-41B8-89F4-1D1E7CECD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D6AF9-038F-4BEE-BC53-FF65D5627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1E61-7221-4ED0-B1E5-10D9F8FFB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ECCE4-BE65-48EE-B65F-E211977131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D1E3-0F11-4CE6-B88E-6D6D9AEE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4833-855B-4A44-8A51-83642F18B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DBA8-05F5-464B-A697-0B64759621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E40AC-CFF0-470F-9C9F-EC54F55BB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6AC4C-4013-4934-B66F-1199621FCE2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5143680" y="1643040"/>
            <a:ext cx="314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OWERPOI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4"/>
          <p:cNvSpPr/>
          <p:nvPr/>
        </p:nvSpPr>
        <p:spPr>
          <a:xfrm>
            <a:off x="5823000" y="2286000"/>
            <a:ext cx="24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抽象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Administrator</cp:lastModifiedBy>
  <dcterms:modified xsi:type="dcterms:W3CDTF">2015-02-15T02:01:44Z</dcterms:modified>
  <cp:revision>93</cp:revision>
  <dc:subject/>
  <dc:title>幻灯片 1</dc:title>
</cp:coreProperties>
</file>