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512-09F4-4A50-A20A-40F899A2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65E-9377-4377-BFA2-A2AF215F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F85-1561-4248-9D5E-ED68BF74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CDA-DDCC-4BCA-B636-E098CD6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203-8DBA-41C7-8EDB-AB22DA36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D16-6522-41FD-9B9D-66787BE4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E66-4093-4CB6-8BBC-1D53CE6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A7D-5565-4BEB-89B1-43761077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0C4-A93D-4FF1-ACC1-EDCAE988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D14-0F59-4C8F-8199-ABEF6CE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5EC-AFFF-4948-A1F7-2DD03B0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A29-A919-4B7B-B7E0-7E9C37D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AB22-F348-4A06-83C5-863B9C8EA0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143680" y="164304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23000" y="228600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15T02:01:44Z</dcterms:modified>
  <cp:revision>93</cp:revision>
  <dc:subject/>
  <dc:title>幻灯片 1</dc:title>
</cp:coreProperties>
</file>