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8B6-60F5-420F-8D63-AB4E6D72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E10-8A6A-4E31-BA80-20B31241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AB0-2640-4086-994F-B6EE1AB3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E02-8519-468C-B60D-C01EC79D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ED2-2B9B-45CE-A960-687034BB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17A-A0E0-417A-B6E0-3F1C44C5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4E0-0F02-4AB0-9720-F7167050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DFA-13C0-4331-A794-6FF9053F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C08-A95E-497D-9500-8A3F958B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CF7-4202-4B8E-98ED-F99D5CA9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593-C2CE-4C7B-AB29-469F3BB6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598-74BD-474C-AE4F-F2FA3569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0970-735D-4F54-91BE-146791F80E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n.xinhuanet.com/gov/2004-08/25/content_2746274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3.xinhuanet.com/photo/2003-08/19/content_1033328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dtv.gov.cn/newpage/column/16da/dbdh.as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难忘的一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围小学 李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选择合适的词语填空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难忘的（     ） 激动的（     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慈祥的（     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比一比，再组成词语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忘（      ） 爷（     ） 晨（     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忙（      ） 爸（     ） 辰（     ）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一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邓小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四川广安人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被选为中央第十一届中央委员会副主席、军委主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当选为政协全国委员会主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当选为中华人民共和国主席、中央军事委员会主席。“邓小平南巡”，是指他的武昌、深圳、珠海、上海之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邓小平同志在上海观看小学生操作电子计算机时说：“计算机的普及要从娃娃做起。”邓小平同志非常重视科学技术的作用，提出了“科学技术是第一生产力”的新观点，并强调抓技术的同时，必须同时抓教育。《春天的故事》就是一曲歌颂邓小平关于开放深圳决策的赞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20520"/>
            <a:ext cx="83818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学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，认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和本课生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理解课文，知道邓小平等国家领导人对青少年学习现代技术的关心和重视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正确、流利地朗读课文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4267080"/>
            <a:ext cx="388620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词语积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难忘：不容易忘记。如：张老师的一席话令我终生难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激动：感情冲动。如：胜利的消息令大家激动万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1911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单击查看大图--伟人足迹 百年小平 纪念邓小平同志诞辰100周年特辑1904-2004"/>
          <p:cNvPicPr/>
          <p:nvPr/>
        </p:nvPicPr>
        <p:blipFill>
          <a:blip r:embed="rId1"/>
          <a:stretch/>
        </p:blipFill>
        <p:spPr>
          <a:xfrm>
            <a:off x="236232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难句讲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计算机的普及要从娃娃抓起。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是说要让青少年学习计算机，在青少年中普遍推广计算机技术，要重视青少年的科技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863640"/>
            <a:ext cx="9144000" cy="599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91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难段讲析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文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然段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一段写的是“我”表演结束后的心情和这一天让“我”终身难忘。“我”出色地完成了表演，还得到了邓爷爷的赞许和鼓励，所以很“兴奋”，心情很舒畅，觉得“天格外蓝”“阳光更加灿烂”。“肩上担负责任”指的是邓爷爷的期望：能使我国青少年从小普及科技教育，将来成为建设祖国的人才。所以这一天令人“难忘”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疑难点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练习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道题是练习词语搭配，题中举例为“难忘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子”。搭配时要根据什么样的“心情”、什么样的“笑容”、怎样“看”、怎样“跳”、怎样“问”这个思路去思考，使我们可以更熟练、更准确地运用词语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4-08-26T04:09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