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741-7FAA-41C8-A805-8120DAF8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4DD-8A9A-4DB5-8045-4F808148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637-D9F6-4C54-8C4E-8E13430F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27A-96BD-44C3-8B4F-EBA825D1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90E-44C6-44F3-86B1-E8FCAD9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D57-AA46-4A4A-B6E3-79795F37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24A-CFEA-4E15-80DE-129C1C6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BDD-94A3-4611-A2D1-590EB1F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42D-D1A8-46A7-BB1F-B314E854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A97-E2BB-4029-B4DF-3991656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105-39CA-4FAD-8086-7406429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6E4-2BF1-4655-BF87-1F78186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730-9BB1-426B-AB9C-D8F3B24E528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E3D-49F4-4E31-9434-339503DE550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00Z</dcterms:created>
  <dc:creator>xiaoba ba</dc:creator>
  <dc:description/>
  <dc:language>en-US</dc:language>
  <cp:lastModifiedBy>zhnagsir</cp:lastModifiedBy>
  <dcterms:modified xsi:type="dcterms:W3CDTF">2015-07-07T01:35:4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