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FAA-0C58-4E5D-8DAC-15EA0619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ABE-EE9E-4AE8-93EC-3B9BFA5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471-C65D-40A6-B412-1493B7C0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002-D50A-47C4-BEBE-1C5B092A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6EF-B18C-4D13-A626-98E38F59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A1F-B9D4-4E58-B9E2-FB233851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30B-9015-4FCF-B7D0-E53C663A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804-A5BB-4953-B95C-32D676B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ACB-5A36-425F-9381-154696AA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B77-D4FC-4E91-854C-D4A221F3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AA1-CD9F-433F-BD6E-327A895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26C-299B-4969-BF90-080FDA3C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8C1E-F7F5-4963-A712-0ADDAE4783DE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DB17-82B6-4701-802F-398B72F8A32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792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5:32:00Z</dcterms:created>
  <dc:creator>xiaoba ba</dc:creator>
  <dc:description/>
  <dc:language>en-US</dc:language>
  <cp:lastModifiedBy>zhnagsir</cp:lastModifiedBy>
  <dcterms:modified xsi:type="dcterms:W3CDTF">2015-07-07T01:35:48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