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0AB9-FE19-441E-AF85-6F53EDCD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5A5-69E0-42C9-B5CB-DC50C3B4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056-C05A-4050-AF8A-A3B4D839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C25-12CF-4416-A7F9-AE276ADC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BAD-D270-4A99-8813-CAC521DC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902-F0C3-47E9-9EB3-DD3A363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492-0EDD-4CCE-9D4C-997AC59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B710-36A8-46C2-9F93-A6952339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DBA-C1E8-4866-A560-6646028C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CA4E-932E-4255-8D41-E6B5585A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043-58FE-4C9C-A658-577C962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6CD-19DA-4AC9-8351-5135820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02C4-9ECF-42B4-8865-6C65D3EE8D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762C-4390-4F5E-8F75-B99E859CA7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자유형 22"/>
          <p:cNvSpPr/>
          <p:nvPr/>
        </p:nvSpPr>
        <p:spPr>
          <a:xfrm>
            <a:off x="642960" y="3714840"/>
            <a:ext cx="3000240" cy="928440"/>
          </a:xfrm>
          <a:prstGeom prst="pi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자유형 28"/>
          <p:cNvSpPr/>
          <p:nvPr/>
        </p:nvSpPr>
        <p:spPr>
          <a:xfrm>
            <a:off x="1285920" y="3286080"/>
            <a:ext cx="3000240" cy="689040"/>
          </a:xfrm>
          <a:prstGeom prst="pi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자유형 31"/>
          <p:cNvSpPr/>
          <p:nvPr/>
        </p:nvSpPr>
        <p:spPr>
          <a:xfrm>
            <a:off x="1000080" y="2786040"/>
            <a:ext cx="2502000" cy="658800"/>
          </a:xfrm>
          <a:prstGeom prst="pi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86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88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91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93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96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98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01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03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17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19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3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25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7-31T06:39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