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137A-471C-494E-A11A-D8432F2FC1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内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语音合成技术原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讯飞语音产品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合成系统开发接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应用开发实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8A4-9F6D-4E57-8DA2-BED8D4B0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485-D11D-4CA2-A8EC-58F9C05A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079-654C-4ADD-9C52-0A7E4BEC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F20-A4D6-4E2E-99A1-FA4BC67A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7BD0-5ACD-4914-9DC2-153C9F90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0537-95A0-41D2-A19C-D31E1E19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CF9B-5BFA-46AF-A10D-57903BE9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D584-5791-4462-AF41-57F57828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8F5F-37DA-4FE3-8B71-C823C590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DDEB-2ABC-419B-994D-9BE7A741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E81B-D8CF-4E10-81D8-60E08041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D89-641F-443E-851C-2455718F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374E-BCBA-41EC-9A97-80164678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053E-91C2-4DF4-A4F3-4D98754F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7259-70FD-4A44-96D9-2A0AFF01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D53D-6B5B-43BA-AAB9-80454266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B1FB-5C54-4A89-A4CE-1BE4F66F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8E3-F73A-47EC-9D10-AC95F755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06B-CF83-41D3-B0EA-A7964DAC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F62-6DDF-43BD-9F4E-7859E660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EF1-B7BC-474D-B9C3-7E6D1FF0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17B-4761-4BC2-ADBF-2B3A3CDE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558-4B7A-4134-AFEF-B87EB57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7CD-2C6D-458B-B12B-4E0BEAC8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534E-B8C7-45F6-9631-766DC26E567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0679-223B-455F-8088-850F0942F7E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7667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普通话水平测试考生培训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5084640"/>
            <a:ext cx="61200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师范类中文毕业学生毕业时应达到二级甲等以上水平，其它专业应达到二级以上水平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一级可称为标准的普通话，二级可称为较标准的普通话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要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47640" y="2276640"/>
            <a:ext cx="5929560" cy="5522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流程</a:t>
            </a: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内容提纲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3429000"/>
            <a:ext cx="5929560" cy="552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操作流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4581360"/>
            <a:ext cx="5929560" cy="5526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注意事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易读错字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啮  穴  觇  辎  舐  槭  癣  呕  秸  拟  拔  拨  弦  惩  匹  佘  憎  讴  沤  抠  浙  拙  忖  瞥  疮  拈  蹿  瑰  矩  束  壤  龋  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易读错字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横财 匕首 悄然 符合 脊梁 成绩 瑰丽 矩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结束 体积 内讧 果脯 剽窃 脑髓 汲取 讣告 偌大 儒将 参与 瘙痒 狩猎 孑孓 嫉妒 花蕾 珐琅 侍侯 确凿 混浊 背包 吐痰 拮据 撇开 教诲 骨头 花骨朵     铜臭 角色 句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擂    佣     尽     牟     纤      沓     拓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呱    夹     帖     卡     轴      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桑葚   桑葚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声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31672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山西人学习普通话声母的主要难点是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普通话中的一些零声母字在山西方言中带了辅音声母，应该去掉，例如：“恩爱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ēn’ài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零声母音节前，山西方言往往有辅音声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翘舌音声母的发音以及它同平舌音的分辨。例如：资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ī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支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ī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材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ái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柴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hái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司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ī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ī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送气音声母和不送气音声母的分辨。例如：鼻子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bízi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皮子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pízi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肚子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dùzi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兔子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tùzi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很多方言中，这四个字都发成了送气音声母，造成了横线前后是同音词 再如：葡萄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pútao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铜钱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tóngqián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这两个词四个音节的声母，很多方言中，把这四个音节都读作不送气音声母，它们分别是“葡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萄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钱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j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的分辨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没有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声母，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声母字就用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声母来代替。例如：夫＝呼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hu 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佛＝活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huo 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逢＝红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hong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的分辨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普通话以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做声母的字，山西方言部分相混。例如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和开口呼、合口呼韵母相拼时就混淆了。把“男人”读做“蓝人”，“农民”读做“龙民”。高平，把普通话中的一些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声母齐齿呼字读成了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声母字。如把“洗脸”读成“洗碾”。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25360" y="660240"/>
            <a:ext cx="12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１、舌尖后音练习和舌尖前音练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628640"/>
            <a:ext cx="727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争  种植  政治 郑重 中转 壮志  茁壮  　      专职  　主张  　庄重  　专制  　制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床　超产　查抄  　拆除  　铲除  　长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产  长城  驰聘  　出差  　穿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实　史诗  适时  　山水  　少数　  设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  顺手  神圣　  声势 　 受伤 　 伤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柔软   仍然  容忍  荣辱  忍让  惹人  软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则   宗族  罪责  自尊  藏族  自作  祖宗  　      栽赃 　 在座 　 走卒 　 造作 　 自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差  苍翠  粗糙  草丛   层次  　从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仓促  摧残  猜测  措辞 　残存 　 匆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琐碎  松散  思索  色素  诉讼  洒扫  撕碎   搜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323440" y="476280"/>
            <a:ext cx="5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、翘舌音辨正训练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06064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矫正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音部位不准的偏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：舌尖伸平，顶住或接近上齿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错误：舌尖前伸，夹在两齿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错误：舌尖前伸，顶住或接近下齿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：舌身略向后缩，舌尖上翘，抵硬腭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错误：舌身未后缩，舌尖翘得不到位，抵上齿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错误：舌身后缩过多，舌尖卷起，发成“大舌头”卷舌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注意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这两组声母在发音方法上一一对应，区别在于发音部位的不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舌尖前音（平舌音）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发音时舌尖平伸，顶住或接近上齿背；舌尖后音（翘舌音）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z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c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发音时舌尖翘起，接触或接近硬腭前端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31880" y="907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对比训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916280"/>
            <a:ext cx="779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　的　对　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——zh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—找  自—治　 栽—摘  在—寨 　赃—张 　　 赞—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——ch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—翅  催—吹  错—绰  撮—戳  财—柴  蚕—缠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——sh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—衫  丧—尚  骚—烧  伞—陕  腮—筛  髓—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词　组　对　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——zh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  增长  自治  宗旨   总之   阻止   最终 　作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——z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在  指责  制造  中子   种族 　著作 　推测 　沼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——ch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财产  促成  残春  操持   彩超 　草场   存储   曹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——c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场次  储藏  纯粹  揣测   成才   差错   唱词   尺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——sh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射  丧失  私事  所属   虽说   随时   损伤   宿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——s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诉  　　　神色  　　　收缩 　　　 输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47640" y="2276640"/>
            <a:ext cx="5929560" cy="552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流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内容提纲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3429000"/>
            <a:ext cx="5929560" cy="552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评分标准</a:t>
            </a: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,</a:t>
            </a: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水平划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581360"/>
            <a:ext cx="5929560" cy="552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注意事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90560" y="6793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子训练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1700280"/>
            <a:ext cx="71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诞生于上个世纪三十年代的塑料袋，其家族包括用塑料袋制成的快餐饭盒、包装纸、餐用杯盘、饮料瓶、酸奶杯、雪糕杯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望着这些蚕执着地、勤奋的工作，我感到我和它们非常相似。像它们一样，我总是耐心地把自己的努力集中在一个目标上。我之所以如此，或许是因为有某种力量在鞭策着我——正如蚕被鞭策着去结茧一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41320" y="836640"/>
            <a:ext cx="12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２、平、翘舌音辨记方法举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84464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85920" indent="-37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）、利用普通话声韵调拼合规律类推记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如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ɑ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ɑ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ɑ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ɑ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）、记少不记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如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——e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，只有“怎”一个字，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——e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，真、珍、诊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３）、自编顺口溜记字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ɑ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ɑ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翘舌不用怕，松、耸、送翘不动（平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24800" y="62064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４）、利用形声字的声旁类推记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700280"/>
            <a:ext cx="867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丈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à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丈仗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ā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砖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ǎ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转身、转达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（轮子转动）传（传记）啭（传又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uán[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宣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枝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止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止芷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ō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（中央）忠钟盅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ǒ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（种子）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ò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（中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种（种植）仲（冲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ōng[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冲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òng[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冲劲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长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zhā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张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zhǎ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长（生长、班长）涨（涨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zhà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胀（头昏脑胀）帐涨（长又念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cháng[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长短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主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主拄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ù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住注炷驻蛀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正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ē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正（正月）怔征症（症结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ě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整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è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正证政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占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ā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沾毡粘（粘贴标语）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à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占战站（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砧念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zhē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　　　钻念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zuān[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钻研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]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，又念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zuàn[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钻石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只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ī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只（两只手、只身）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í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职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ǐ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只（只有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ì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帜（识念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í[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识别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炽念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hì[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炽热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召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āo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招昭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ǎo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ào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召（号召）诏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执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í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执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ì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贽挚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é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至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í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侄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ì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至郅致窒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贞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ē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贞侦祯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朱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zhū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朱诛侏茱珠铢蛛（殊念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ū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0020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36240" y="1341360"/>
            <a:ext cx="658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争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ē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争挣（挣扎）峥狰铮睁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è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诤挣（挣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志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志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（折跟头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（折磨）哲蛰（海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浙（折又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é[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棍子折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誓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ě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诸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渚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箸（储褚楮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值植殖（繁殖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智（痴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ē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ě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诊疹（趁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è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ē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ě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è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（慎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è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è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赈震（辰宸晨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é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章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ā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章漳彰嫜蟑（蟑螂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à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障嶂幛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啄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啄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42040" y="907920"/>
            <a:ext cx="6434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仔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匝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宗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ō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宗综（综合）棕踪鬃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ò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卒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卒（小卒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ù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责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责啧幘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兹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兹（兹定于）滋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沮阻组俎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咨姿资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造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à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造（糙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ā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尊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ū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尊遵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ē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（姓）憎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è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赠（曾又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éng[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经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ǎ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攒（积攒）趱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澡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ǎ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澡藻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à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噪燥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907920"/>
            <a:ext cx="741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叉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叉（鱼叉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叉（叉住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叉（叉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杈（树杈）衩（衣衩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ā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斥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坼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ā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拆（拆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绌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弛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产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ǎ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产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场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á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场（场院）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ǎ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场（会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à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é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诚城盛（盛东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抄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ā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抄吵（吵吵）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ǎ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吵（吵架）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辰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é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辰宸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ǔ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呈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éng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呈程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ěng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逞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昌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āng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昌阊猖鲳娼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àng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倡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垂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ú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垂陲捶锤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啜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u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啜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春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ū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春椿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ǔ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除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ú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除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绸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óu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惆（惆怅）绸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谗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ā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搀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á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馋谗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朝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á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朝（朝鲜）潮嘲（嘲笑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喘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uā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揣（怀揣）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uǎ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揣测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huǎ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32400" y="981000"/>
            <a:ext cx="63615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á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材财（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豺念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há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寸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ū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ǔ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忖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ù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仓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ā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仓伧沧苍舱（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伧又念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hen[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寒伧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]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创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　　疮的声母念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ō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（从容）枞（枞树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ó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（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ǎ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（采访）彩睬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à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ā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（参观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ē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（参差）（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参又念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hēn[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人参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渗念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hè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挫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挫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曹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á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曹漕嘈槽螬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崔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uī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崔催摧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u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窜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uā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撺蹿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uà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差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ī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差（参差）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u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搓磋（</a:t>
            </a:r>
            <a:r>
              <a:rPr b="1" i="1" lang="zh-CN" sz="2600" spc="-1" strike="noStrike">
                <a:solidFill>
                  <a:srgbClr val="ff3300"/>
                </a:solidFill>
                <a:latin typeface="Verdana"/>
              </a:rPr>
              <a:t>差又念</a:t>
            </a:r>
            <a:r>
              <a:rPr b="1" i="1" lang="zh-CN" sz="2600" spc="-1" strike="noStrike">
                <a:solidFill>
                  <a:srgbClr val="ff3300"/>
                </a:solidFill>
                <a:latin typeface="Verdana"/>
              </a:rPr>
              <a:t>chā[</a:t>
            </a:r>
            <a:r>
              <a:rPr b="1" i="1" lang="zh-CN" sz="2600" spc="-1" strike="noStrike">
                <a:solidFill>
                  <a:srgbClr val="ff3300"/>
                </a:solidFill>
                <a:latin typeface="Verdana"/>
              </a:rPr>
              <a:t>差别</a:t>
            </a:r>
            <a:r>
              <a:rPr b="1" i="1" lang="zh-CN" sz="2600" spc="-1" strike="noStrike">
                <a:solidFill>
                  <a:srgbClr val="ff3300"/>
                </a:solidFill>
                <a:latin typeface="Verdana"/>
              </a:rPr>
              <a:t>]chà[</a:t>
            </a:r>
            <a:r>
              <a:rPr b="1" i="1" lang="zh-CN" sz="2600" spc="-1" strike="noStrike">
                <a:solidFill>
                  <a:srgbClr val="ff3300"/>
                </a:solidFill>
                <a:latin typeface="Verdana"/>
              </a:rPr>
              <a:t>差不多</a:t>
            </a:r>
            <a:r>
              <a:rPr b="1" i="1" lang="zh-CN" sz="2600" spc="-1" strike="noStrike">
                <a:solidFill>
                  <a:srgbClr val="ff3300"/>
                </a:solidFill>
                <a:latin typeface="Verdana"/>
              </a:rPr>
              <a:t>]chāi[</a:t>
            </a:r>
            <a:r>
              <a:rPr b="1" i="1" lang="zh-CN" sz="2600" spc="-1" strike="noStrike">
                <a:solidFill>
                  <a:srgbClr val="ff3300"/>
                </a:solidFill>
                <a:latin typeface="Verdana"/>
              </a:rPr>
              <a:t>出差</a:t>
            </a:r>
            <a:r>
              <a:rPr b="1" i="1" lang="zh-CN" sz="2600" spc="-1" strike="noStrike">
                <a:solidFill>
                  <a:srgbClr val="ff3300"/>
                </a:solidFill>
                <a:latin typeface="Verdana"/>
              </a:rPr>
              <a:t>]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慈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í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慈糍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粹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ù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猝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ù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淬翠萃啐瘁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蔡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擦嚓（象声词）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à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醋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ù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粗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cu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措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测试简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0010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普通话水平测试分为四个部分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一部分读单音节字词，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个音节，限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3.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钟，共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二部分读多音节词语，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个音节，限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2.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钟，共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三部分朗读短文，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个音节，限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钟，共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四部分命题说话，不得少于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钟，共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53280" y="836640"/>
            <a:ext cx="8543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ā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讪汕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莎纱砂裟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（沙—沙，动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ǎ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（少数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à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（少年）（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娑念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u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柿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申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ē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申伸呻绅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é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ě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审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ē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牲胜（胜任）笙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è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胜（胜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召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á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苕（红苕）韶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à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召（姓）邵（姓）绍（介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试拭轼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ā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抒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ū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抒纾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诗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ī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诗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í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时鲥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ì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侍恃（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寺念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sì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叔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ū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叔淑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尚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ǎ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à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a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裳（衣裳）（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淌念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cháng[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淌洋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受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òu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受授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舍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á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啥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ě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舍（舍弃）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è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猞（猞猁）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è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舍（宿舍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刷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uā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uà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刷（刷白）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uà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珊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ā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删姗珊跚（蹒跚）（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册念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cè   zhà[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栅栏</a:t>
            </a:r>
            <a:r>
              <a:rPr b="1" i="1" lang="zh-CN" sz="2400" spc="-1" strike="noStrike">
                <a:solidFill>
                  <a:srgbClr val="ff3300"/>
                </a:solidFill>
                <a:latin typeface="Verdana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扇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ā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扇（动词）煽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shà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扇（扇子，两扇窗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94520" y="923760"/>
            <a:ext cx="6983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泗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伺饲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ū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荪狲（猢狲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ō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忪（惺忪）松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ò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颂忪（忪又念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zhōng[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怔忪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ā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腮鳃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叟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ǎ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ōu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溲搜馊飕艘（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瘦念</a:t>
            </a:r>
            <a:r>
              <a:rPr b="1" i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hòu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素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素愫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唆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ā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唆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桑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ā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ǎ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搡嗓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遂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遂（半身不遂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遂（遂心）隧燧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（撒手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（撒种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ǎ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（散漫）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（散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斯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斯厮澌撕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锁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ǒ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唢（唢呐）琐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57640" y="31680"/>
            <a:ext cx="10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３、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91628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仄 　 攒  　憎  　铡　　蘸　　褶  　斟 　 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浙  　炙  　冢  　赘 　 攥 　 幛 　 紫 　 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嘱  　砧  　蔗 　 诏  　拽  　郑  　肘  　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擦  　蔡  　拆 　 阐  　趁  　蓄 　 雌 　 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嘈  　噌  　茬 　 潺  　蟾  　剿  　押 　 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踹  　疮  　蹿  　戳  　聘  　淬  　篡  　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寺  　饲  　隋  　穗 　 索  　碎  　髓 　 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庶  　晌  　麝  　赦　　砷  　侍  　螫  　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3213000"/>
            <a:ext cx="889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17080" y="638172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读句子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　　　再说足球正在快速世界化，平日里各国球员频繁转会，往来随意，致使越来越多的国家联赛都具有国际的因素。球员们不论国籍，只效力于自己的俱乐部，他们比赛时的激情中完全没有爱国主义的因子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　　森林涵养水源，保持水土，防止水旱灾害的作用非常强大。据专家测算，一片十万亩面积的森林，相当于一个两百万立方米的水库，这正如农谚所说：“山上多栽树，等于修水库。雨多它能吞，雨少它能吐。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3760" y="765000"/>
            <a:ext cx="24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鼻音与边音的区别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19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同之处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是发音部位（舌尖中音：舌头——上齿龈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是声带 振动（浊音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同之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于发音方法中阻碍方式的不同：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舌尖及舌边均上举，顶住上齿龈，带动整个舌面的周围跟硬腭的周围密合，软腭下降，鼻孔出气，同时声带振动。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舌尖前端上举，顶住齿龈（不顶满），舌尖两边跟硬腭的两侧保持适当的间隙软腭上升，声带振动，气流从舌头两边透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发音练习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前字引导正音法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377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n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声母的前面加一个用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作韵尾的音节，两字连续；因发音部位相同，方法相近（只是除阻不除阻的区别），易于发准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声母。如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kàn——nɑ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看哪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x īn——niá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新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l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声母的前面加上一个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ɡ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k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音节，借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ɡ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发音时的舌跟抬高，相对限制了软腭下降，使它不使于发音鼻音而发边音。如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ɡè lèi         kē lì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颗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458136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音例词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力   利落   流利   履历   罗列   轮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音例词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奶牛   男女   恼怒   能耐   泥泞   农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95280" y="98100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鼻音和边音对比训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词的对比练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——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子—老子   男鞋—蓝鞋   大怒—大路   浓重—隆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客—旅客   内线—泪腺   黄泥—黄梨   一年—一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住—拦住   水牛—水流   无奈—无赖   南宁—兰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女—褴褛   小牛—小刘   留念—留恋   泥巴—篱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允诺—陨落   闹灾—涝灾   门内—门类   鸟雀—了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农—老龙   年内—劳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鼻边音组词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——l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奶酪  耐劳  脑力  内力  内陆  奴隶  女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流  尼龙  嫩绿  能力  能量  年历  年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龄  暖流  鸟类  农林  农历  努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——n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暖  留念  流年  老年  老衲  老娘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牛  老农  蓝鸟  林农  龙脑  历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9280" y="189000"/>
            <a:ext cx="8713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鼻音辨记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少不记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在字表中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母的字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母字少。记住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母声字，其余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母字可以大胆地类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形声字声旁类推记忆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字类推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2708280"/>
            <a:ext cx="655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乃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ǎi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奈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ài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奈萘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à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èi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讷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呐纳衲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宁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ínɡ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宁拧咛狞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ì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宁（宁可）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尼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尼泥呢（呢绒）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泥（拘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倪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倪猊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奴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奴孥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努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ó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脓农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7840" y="285120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那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ǎ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哪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那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uó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挪娜（婀娜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纽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iū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妞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i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扭忸钮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念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iǎ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ià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念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南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á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喃南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虐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ü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虐疟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懦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u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懦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捏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i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i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聂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i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聂蹑镊嗫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脑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nǎ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恼脑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测试流程：候测地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0010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参加普通话水平测试的考生应在规定测试时间之前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Verdana"/>
              </a:rPr>
              <a:t>三十分钟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到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Verdana"/>
              </a:rPr>
              <a:t>测试地点门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报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测试时间前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Verdana"/>
              </a:rPr>
              <a:t>十五分钟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考务人员通知考生准备测试，考生交验准考证和身份证（或学生证）后，按顺序抽取测试试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92360" y="1700280"/>
            <a:ext cx="655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è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历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历沥呖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粒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垃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厉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厉励疬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狸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理鲤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à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梨犁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俐痢莉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蜊（蛤蜊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漓篱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仑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ū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ú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仑伦沦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ù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拦栏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览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ǎ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览揽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榄（橄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ě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í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菱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í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凌陵菱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é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948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79120" y="285120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907920"/>
            <a:ext cx="87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练习（分清鼻边音，由慢到快反复练读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读句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鲁诺很不满意老板的不公正待遇。终于有一天他到老板那儿发牢骚了。老板一边耐心地听着他的抱怨，一边在心里盘算着怎样向他解释清楚他和阿诺德之间的差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17080" y="654372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620640"/>
            <a:ext cx="77263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区分鼻、边音（即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拿手  无奈  恼怒  恼人  男子  畏难  拉手  无赖  老路  门内  眼内  蓝布  拦住  兰陵  隆重  门类  眼泪  大怒  允诺  闺女  女客  你想  黄泥  大陆  陨落  宁乡  老娘  干娘  临湘  老梁  干粮  努力  奴隶  年龄  逆流  耐劳  哪里  那里  能力  农林  南楼  内陆  农历  逆料  脑力  暖流  男蓝  牛郎  女蓝  尼龙  南岭  牛奶  恼怒  泥泞  男女  能耐  农奴  南宁  那年  哪年  袅娜  扭捏  奶娘  泥牛  岭南  连年  来年  烂泥  两难  辽宁  奶牛  冷暖  留念  老年  路南  理论  力量  留恋  来历  拉拢  流利  玲珑  嘹亮  老练  罗列  冷落  浏览  联络  琳琅满目  花红绿柳   留恋忘返  流离失所  林茂粮丰  浪里行船   沉稳老练  力挽狂澜   量才录用  歌声嘹亮  雷厉风行  落花流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49960" y="765000"/>
            <a:ext cx="31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、分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发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91628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发音：下唇向上门齿靠拢，形成间隙，软腭上升，关闭鼻腔通路，使气流从唇齿的间隙摩擦而成声。发音例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丰富   肺腑    反复    非凡    吩咐     纷繁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法   芬芳    防范    蜂房    发放     仿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发音：舌面后部隆起接近硬腭和软腭的交界处，形成间隙，软腭上升，关闭鼻腔通路，使气流从形成的间隙摩擦通过而成声。发音例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航海    欢呼   黄河     缓和    悔恨    黄昏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浩瀚    含混   荷花     和好    横祸    呼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317080" y="654372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二、正音练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词语对比练习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发生—花生    公费—公会    斧背—虎背      复员—互援   防止—黄纸   废话—绘画   船夫—传呼      分发—昏花    犯病—患病   分钱—婚前   仿佛—恍惚      翻阅—欢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乏力—华丽     附注—互助    幅度—弧度      花费—花卉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词语训练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发挥   发火    繁华    反复    返航    返回   犯法    饭盒   方法      防范   防洪    妨害    仿佛    非法    绯红   废话    分红   分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纷繁   芬芳    焚毁    愤恨    风寒    烽火   凤凰    夫妇   俘获      耗费   好汉    辉煌    花粉    挥霍    火花   祸害    惶惑   火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24000" y="1989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扩展练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读下面一段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发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常想读书人是世间幸福人，因为他除了拥有现实的世界之外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拥有一个更为浩瀚也更为丰富的世界。现实的世界是人人都有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后一个世界却为读书人所独有。由此我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失去或不能阅读的人是多么的不幸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的丧失是不可补偿的。世间有诸多的不平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财富的不平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权利的不平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阅读能力的拥有或丧失却体现为精神的不平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44000" y="6308640"/>
            <a:ext cx="6285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返回</a:t>
            </a:r>
            <a:endParaRPr b="1" lang="en-US" sz="2400" spc="1" strike="noStrike">
              <a:ln w="9360">
                <a:solidFill>
                  <a:srgbClr val="336699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四、训练与自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扶拦     开发      公费      附近      斧头     废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湖南     开花      工会      互敬      虎头     会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纷乱     翻腾      泛滥      二伏      缝衣     换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肥瘦     防止      大夫      浮面      幅度     回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荒地     黄纸      大呼      湖面      弧度     富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放荡     白发      便服      包饭      追肥     绯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晃荡     白话      便壶      包换      追回     恢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发挥     防护      分会      凤凰      返回     繁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附和     焚毁      粉红      风化      飞花     复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恢复     划分      化肥      黄蜂      虎符     灰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会费     活佛      花粉      伙房      焕发     洪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防范     仿佛      非法      发放      肺腑     芬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韵母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音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韵母读音中圆唇音圆唇度明显不够，或开口度明显不够，或韵母舌位动程明显不够等；前后鼻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声调调形、调式基本正确，但调值明显偏低或偏高，方音重的受测人对阴平阳平不分，声调中音程长短、调值是否到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单韵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o[o]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发音时口腔半闭，舌头后缩，使舌面升至半高程度，嘴唇拢圆。例如：波、坡、磨、佛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e[ e ]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发音状况与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基本相同，但双唇要自然展开。例如：德、遮、责、哥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er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发音时舌面中央升到中间高度，舌头稍后缩，同时舌头卷起，对着硬腭，嘴唇略微展开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er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只能自成音节，不跟声母相拼。例如：儿、二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圆唇音主要是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ü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以及以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ü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开头的复韵母和鼻韵母，像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a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e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a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ang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eng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e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ü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üa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ou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iou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等等。山西人读这些圆唇音时往往会出现圆唇度不够的缺陷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α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e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α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ei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α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ou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iα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iou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各组复元音韵母发音时，主要元音的开口度偏大或偏小，读成介于两者之间的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复韵母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α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e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α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ou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α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e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iα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iou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的动程不明显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测试流程：备测地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7677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抽取试卷后，考生随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Verdana"/>
              </a:rPr>
              <a:t>考务人员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进入备测地点准备测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考生在备测地点准备试题内容，不得在备测地点大声喧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得到考务人员测试的通知后，进入测试室进行测试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60640"/>
            <a:ext cx="280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齐齿呼与撮口呼韵母辨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鸡—居     席—徐     李—吕     际—取     椅—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许—喜     举—几     趣—启     驴—梨     鱼—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宽窄韵母辨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a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ua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e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ue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辨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百—北     牌—陪     买—美     改—给     怀—回 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妹—麦     坠—拽     水—甩     溃—快     威—歪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ao(iao)—— ou(io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高—沟     考—口     豪—猴     靠—寇     袄—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邹—遭     叟—嫂     绸—潮     肉—绕     沤—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ie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üe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对比辨音练习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切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qi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实——确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qu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实　　列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li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表——略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lü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表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猎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li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取——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lü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取　　日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yè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日月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yu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竹叶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yè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逐月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yu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午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yè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五岳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yu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 谢绝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xièjué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决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uéli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解决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iějué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确切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quèqi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节略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iélü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学业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xuéy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学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xuéji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劫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iélü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血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xuèy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喋血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diéxu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节约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iéyu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协约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xiéyu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越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yuèji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月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yuèy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学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xuéjiě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ü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对比辨音练习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平津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īn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平均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ū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真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īn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真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ū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餐巾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īn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军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ū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攻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xīn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功勋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xū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金银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īnyín—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均匀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ūnyú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军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ūnxī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进军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jìnjū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熏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xūnxī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循进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xúnjì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云锦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yúnjǐ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阴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yīnyú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　寻衅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xúnxìn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　音讯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yīnxù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前后鼻韵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an-ang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安—昂    暂—葬    三—桑    含—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担心—当心  烂漫—浪漫  缠绵—长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en-eng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痕—横    分—风     陈—成    人—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申明—声明  诊治—整治   木盆—木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in-ing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音—应    贫—平    民—名    亲—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人民—人名  信服—幸福  金银—经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un-ong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轮—龙    东—吨    吞—通   准—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依存—依从  春风—冲锋  吞并—通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ün-iong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运—用    群—穷    寻—雄   菌—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运费—用费  晕车—用车  因循—英雄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具体方法：通过读“看哪” 归前鼻韵，通过读“灯火” 归后鼻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3516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前后鼻音韵母辨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a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ua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ia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a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ua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ia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辨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班—帮     蛮—忙     单—当     烂—浪     安—盎 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方—翻     瓤—然     航—韩     唐—谈     抗—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兼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­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疆     贤—祥     联—良     仙—香     烟—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枪—迁     象—献     两—脸     将—剑     养—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管—广     环—黄     专—装     船—床     弯—汪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晃—换     闯—喘     双—拴     逛—惯     壮—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en—e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辨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奔—蹦     盆—鹏     门—萌     分—风     痕—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根—耕     真—争     陈—程     人—仍     身—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in—in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辨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斌—兵     贫—平     民—名     紧—景     侵—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新—星     金—京     信—姓     邻—灵     银—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音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Verdana"/>
              </a:rPr>
              <a:t>上声的变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Verdana"/>
              </a:rPr>
              <a:t>   “</a:t>
            </a:r>
            <a:r>
              <a:rPr b="1" lang="zh-CN" sz="3000" spc="-1" strike="noStrike">
                <a:solidFill>
                  <a:srgbClr val="003366"/>
                </a:solidFill>
                <a:latin typeface="Verdana"/>
              </a:rPr>
              <a:t>一”、“不”的变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Verdana"/>
              </a:rPr>
              <a:t>儿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1" lang="zh-CN" sz="3000" spc="-1" strike="noStrike">
                <a:solidFill>
                  <a:srgbClr val="003366"/>
                </a:solidFill>
                <a:latin typeface="Verdana"/>
              </a:rPr>
              <a:t>啊”的音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33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一、上声的变调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普通话上声是降升调，调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上声只有在单独念或词句末尾时才读原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上声的特点是调值形式曲折，因此上声字在别的音节前面时都要发生变调，即由“曲调”（降升调）变为“直调”（降调或升调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</a:rPr>
              <a:t>训练要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上声变调的一般规则是“前变后不变”。即在语流中，上声作“前字”时变调，作“后字”（句末或较大停顿处）时不变调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上声的变调有两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上声在非上声前（即在阴平、阳平、去声、轻声前），由降升调变低降调（或称“半上”，只降不升），调值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十阴  北京  火车  普通  广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十阳  海防  导游  朗读  免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十去  武汉  广大  考试  省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十轻  耳朵  尾巴  奶奶  姐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两个上声相连，前一个上声由降升调变升调（阳平），调值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体  铁塔  感慨  手表  减少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品种  海岛  粉笔  理想  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上声变调的复杂化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三个上声相连，前两个字根据词语的结构变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词语结构是“双单格”时，前两个上声变阳平。如：展览馆  手写体  蒙古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词语结构是“单双格”时，前一个上声变降调（半上，调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第二个上声变阳平，如：纸老虎  小拇指  孔乙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一串上声相连，先根据语意或气息自然分节，再按照以上训练要领变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把／美好／理想／给领导／讲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你／给我／打点儿／洗脸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48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二、“一”、“不”的变调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”的本调是阴平，“不”的本调是去声。“一”、“不”念本调的条件是：单独念，或在词句末尾；以及“一”表日期或序数时念本调，“不”在非去声前念本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”的变调有三种，“不”的变调有两种，可以归纳记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  在去声前，“一”、“不”均变阳平。如“一切”、“不定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在非去声前，“－”变读去声，“不”仍读去声（本调）。如“一首”“不巧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一”、“不”夹在词语中间变读轻声。如“试一试”、“干不干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测试流程：测试室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考生进入测试室开始测试前报单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姓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题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测试过程中注意对准话筒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保证录音清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测试卷上不得有任何标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字正腔圆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吐字归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57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训练要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”和“不”的变调都是以它们后边的音节为变调条件，即“前变后不变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词语分类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读原调：统一   第一   偏不   不欢而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阳平（在去声前）：一定   一致   不对   不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读去声（非去声前）：一封   一条   不难   不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变轻声（词语中间）：读一读   说一说   好不好   去不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训练：先标出语句中“一”、“不”的声调（原调或调），然后作先读后说训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星期天一大早，我就看了一本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要不来，我也不去。信不信由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成语训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心一意  一丝一毫  不伦不类  不即不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三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儿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儿化，是指一个音节带上卷舌动作，韵母发生音变，成为卷舌韵母（儿化韵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“儿”指卷舌动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“化”是说卷舌动作应柔软地融化在前一个音节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儿化韵听觉上是一个音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：脸蛋儿、有点儿、味儿、倍儿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儿化发音的基本规则，取决于韵母的末尾音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否便于卷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一）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</a:rPr>
              <a:t>便于卷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是指韵母的末尾音素是舌位较低或较后的元音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儿化时原韵母不变，直接卷舌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小花儿、豆芽儿、打杂儿、酒窝儿、大伙儿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高个儿、打嗝儿、皮球儿、裤兜儿、白兔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二）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</a:rPr>
              <a:t>不便于卷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是指韵母的末尾音素是前、高元音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、舌尖元音（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或鼻韵尾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末尾音素的舌位与卷舌动作发生冲突。儿化时，原韵母变化再卷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54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不便于卷舌的韵母，儿化时发音要领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丢掉韵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主要元音卷舌。后鼻韵母丢掉韵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后，主要元音同时鼻化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i-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小孩儿、鞋带儿、一块儿、盖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i-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京味儿、椅子背儿、倍儿（棒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-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门槛儿、腰板儿、心眼儿、差点儿、好玩儿、人缘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-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嗓门儿、大婶儿、没准儿、三轮儿、打盹儿、冰棍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g-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帮忙儿、鼻梁儿、好样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g-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麻绳儿、板凳儿、门缝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主要元音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ün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i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去韵尾再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ü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玩意儿、米粒儿、差不离儿、金鱼儿、小曲儿、闺女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ü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皮筋儿、脚印儿、今儿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毛驴儿、小曲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g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电影儿、打鸣儿、火星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舌尖元音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前、后）换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 i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瓜子儿、棋子儿、小字儿、没词儿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事儿、果汁儿、年三十儿、树枝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四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,“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啊”的音变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气词“啊”用在句末或句中停顿处时，往往受前面音节的影响而产生连读音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啊”音变的发音取决于“啊”之前音节的末尾音素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音变规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一）“啊”之前音节的末尾音素是舌面元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，“啊”音变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呀）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画呀  真多呀  写呀  注意呀  争取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二）其他“啊”音变都是将“啊”之前音节的末尾音素作为“啊”的韵头或声母，连读成音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—wa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哇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好瘦哇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真巧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看哪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好人哪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小心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g—nga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声唱啊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行不行啊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冲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前）一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z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 几次啊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真自私啊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今天星期四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后）－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 是啊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什么事啊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谁值日啊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训练要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啊”的音变规律要在理解的基础上记忆和自然运用。书面上写成“啊”的，在读说时要注意按照规律变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宋体"/>
              </a:rPr>
              <a:t>训练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①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啊”音变基本训练：先将“啊”前面音节的末尾音素适度夸张延长，与后面的“啊”连读；然后自然念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：读书啊   写字啊   好人啊    行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话训练：以聊天儿的形式进行两人一组的对话，在句末自然地带上语气词“啊”的变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：你去哪儿啊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我上图书馆啊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借书啊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啊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结 语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043000" y="2499840"/>
            <a:ext cx="61293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Verdana"/>
              </a:rPr>
              <a:t>祝大家考试顺利！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250" autoRev="1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47640" y="2276640"/>
            <a:ext cx="5929560" cy="5522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流程</a:t>
            </a: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内容提纲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3429000"/>
            <a:ext cx="5929560" cy="5526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评分标准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水平划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4581360"/>
            <a:ext cx="5929560" cy="552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注意事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Verdana"/>
              <a:ea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88640"/>
            <a:ext cx="823896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普通话水平测试样卷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Verdana"/>
              </a:rPr>
              <a:t>单位                 姓名               成绩           测试员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读单音节字词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个音节，共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，限时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3.5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钟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按  防  梨  罚  特  匀  判  骏  克  摔  风  马  铅  筒  砸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粟  沮  捺  笨  该  庙  腔  驮  贼  锡  狂  挠  遍  刚  灭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琴  翁  增  熬  网  泡  冰  喊  您  操  隋  遮  怀  湍  涩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草  黑  牛  乳  瞎  枝  绝  诡  尚  愁  很  初  若  镶  终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旁  交  坡  食  押  眨  穿  皱  笙  虐  接  耍  优  瓷  眷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蚌  午  春  径  但  开  顺  余  凶  旋  点  佛  低  砍  胞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考  二  类  蛙  窘  镖  冷  猜  根  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错误扣分（每个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）缺陷扣分（每个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0.05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）超时扣分（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0.5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读多音节词语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个音节，共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，限时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2.5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钟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模样      被子      分配      辅导      反感      民意      轮廓      拔尖儿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松驰      年轻      墨水儿    等待      害怕      嘉奖      逆流      仍旧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而今      揣测      拙劣      祝贺      打针      高兴      好玩儿    宽广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拍摄      容许      遵从      铁拳      穷酸      痛快      非常      否定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作用      葵花      恰巧      学时      板擦儿    丝瓜      簸箕      能够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党员      隔壁      乐观      老爷      人群      装卸      存货      腾越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搜寻     小曲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错误扣分（每个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0.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）缺陷扣分（每个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0.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）超时扣分（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0.5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、朗读短文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个音节，共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，限时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钟）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命题说话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（请在下列话题中任选一个，共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，限时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分钟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我喜欢的节日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我喜爱的动物（或植物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水平划分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21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普通话水平分为三级六等：能说标准的普通话为一级，能说比较标准的普通话为二级，能说一般的普通话为三级，每级之中又分为甲乙两等。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各等级规定分数为：一级甲等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97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分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-10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分；一级乙等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92-96.9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分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二级甲等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87-91.9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分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二级乙等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80-86.9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分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三级甲等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70-79.9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分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三级乙等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60-69.9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分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41:48Z</dcterms:created>
  <dc:creator>jicky</dc:creator>
  <dc:description/>
  <dc:language>en-US</dc:language>
  <cp:lastModifiedBy>微软用户</cp:lastModifiedBy>
  <dcterms:modified xsi:type="dcterms:W3CDTF">2011-05-10T04:49:00Z</dcterms:modified>
  <cp:revision>119</cp:revision>
  <dc:subject/>
  <dc:title>口语评测系统培训之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9D179621765EFF4BAEA7892EB253F88EE4542100</vt:lpwstr>
  </property>
  <property fmtid="{D5CDD505-2E9C-101B-9397-08002B2CF9AE}" pid="3" name="_NewReviewCycle">
    <vt:lpwstr/>
  </property>
  <property fmtid="{D5CDD505-2E9C-101B-9397-08002B2CF9AE}" pid="4" name="_ReviewCycleID">
    <vt:r8>499656187</vt:r8>
  </property>
  <property fmtid="{D5CDD505-2E9C-101B-9397-08002B2CF9AE}" pid="5" name="_ReviewingToolsShownOnce">
    <vt:lpwstr/>
  </property>
</Properties>
</file>