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394-EA85-4285-AE21-1529FD81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FC4-8B14-4872-8B21-A410D6EF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FD5-E238-4B4B-99A7-3FC1988D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25F-3AFE-429E-874F-975B64A0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9F2-7024-4AAB-BEBC-1C6F3A03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AAB-42F5-46EF-A645-CFC7E463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063-1BCC-4542-89DC-B7ACFD87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DAA-7370-4FA8-AA95-92D0E514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7A5-C991-4240-AD0D-DCAAFBD4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C2B-110D-4868-9A87-75F69D91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F41-2B6A-416D-8A5B-398FEE2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C28-2DE7-4A80-B3A8-12811A56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EF80-3B8F-4623-B9C1-EBA446E6DF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693800" y="1214280"/>
            <a:ext cx="15210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987920" y="39265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405160" y="100008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100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426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7120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5426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069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32320" y="1000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211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2120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90360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071800" y="2357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4926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498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03600" y="1000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00016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2120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498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14072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0360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478620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3546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6855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211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90360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92880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671256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569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283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4283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1-03T01:02:51Z</dcterms:modified>
  <cp:revision>27</cp:revision>
  <dc:subject/>
  <dc:title>幻灯片 1</dc:title>
</cp:coreProperties>
</file>