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D38-3399-4DD1-901C-539E698C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553-6D07-467F-A11A-F2B75E4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C109-908E-4ABC-A247-C87C8C9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C8D8-EEF5-4B29-A9FE-23204C8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992DE-7005-4F84-AB43-77A959F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68CA-3F74-4A4F-B1F0-156EA64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B8DA-FADB-4760-B6D0-ACEE9EB6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D6A1-A942-444C-A897-47395CD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67B9-39FC-42D8-BBA9-9E0F216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6127-F902-476A-AC71-827CED58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0B85D-4A2E-4295-8BE8-1DE8704E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5AEF6-B8F7-46AF-9130-8315EE12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609-6AFD-4470-BA1C-CE40B7B2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EB5E1-77D4-4422-843A-8EE6EE2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4864D-F506-428A-A0AB-6FBDF50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3BF3-5AB0-4AF1-AD32-AEEBA15F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217ED-87C8-4E1C-BB03-C5CD639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37CBF-CD2E-4C1B-BA73-7575ECE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17303-B4BC-4AD4-8F0A-79B1762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9CD48-2169-4E5E-96D6-9868B71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2579A-B642-44B6-87E7-B91976E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4B339-893C-4EE5-8441-99BBD58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A8714-B026-4C82-A7F0-526F0B24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072-1B54-4611-9F2C-4FB3B7D0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C1B5E-1258-4921-9F1F-AAECD00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09AE-65BE-4C33-835B-6CC11FC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3A5A-E649-428A-BF69-99D5B87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089CB-847C-4C96-AACD-02856B8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C90D-C0A4-40F7-B013-BA8BD649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3B3CE-058C-4EFE-8B00-395315A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0A069-B71F-40AC-8225-DCB6694E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15CD0-87C7-40B4-8F50-293CB05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38CD7-DFA1-4B10-A29E-B1325A53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526A-8B2E-49FF-8143-C3FD7E2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4C50-97E3-4BBC-9671-D5B0DCAF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0C98-4ECA-4FF4-A56A-F01E9E2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435A-5960-433D-99A1-F1BBD43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13F06-6A0D-4240-9550-F1D515A9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74142-FA67-4A5A-A7C9-E153E45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215A6-C776-4471-A407-02D10AC0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2D69B-AAB2-498E-94FC-4223AB29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D4F6-64AA-42B1-86B0-95334BC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9B135-F3D6-4F7D-95D6-88B5724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22ECD-B10B-4805-9E64-2FD17E2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2FDCA-3455-4E42-8859-C6DA8BE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CBA6-5A55-4244-8AAD-401DAAF4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380EB-0A12-413B-B669-0018037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FDAD7-2DF0-4511-9F1E-4C73B48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AE1B-3C52-42E5-91F1-DD40CE8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314A8-482A-4C37-9718-68F374B9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6D5EF-ECA7-4CEE-8B5F-BE162501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BDFB-4866-4676-8024-C09E50C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EA81-DDF7-4C75-B656-6DB021A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084B-2E96-4738-B824-53F305FA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973D-CAE8-4267-9467-60D224E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1FF-2B5B-4364-9340-264948C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CC0-96FF-4E86-8AD2-1959D04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B33-8B24-4D03-AA61-6650289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2B25-5C1E-4D85-B544-EDD1F26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97F9-7FCD-436D-9FB8-9143721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190-AC62-4CE0-B119-2A96F797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33D-9AEE-495A-AE7B-E9DF3C2F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A852-94EC-4764-8A6A-FFEC73EE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A743-3BEF-4700-92E9-FF996B8E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6DC9-E32F-4408-9135-0DB23BC6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CD98-8E81-4022-BBAD-9B02AB8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EF87-E2E5-4148-8349-AD94E02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32D-1105-42DC-B674-AD2B601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1649-0F31-4AE4-9F50-D0A8C827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3C14-ED52-44C5-9F58-29EA3D1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C71E-BBEC-42C6-A533-E424ECA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A0CE-2643-4E6A-9C51-3AC601D7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E9B4-5741-44E2-8D13-4AF7718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43D6-7AF2-4FA5-8A04-D5E3CEA2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510D-795F-4CF8-8243-F18AF97F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CDC9-5EF2-44F9-A544-57418BEA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1E38-0C5F-421F-90EF-11F4BD1E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B516-2575-4D01-A4BD-2E7A259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A36-2917-4708-B345-CDE3BD2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483A-DA54-4A59-9280-DF42EAD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4BAB-4C18-43BD-B86D-A5013E8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F74A-CD08-4D74-BE96-C5C0FA7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B80B-F362-4349-B8DE-1957AA13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8431-3185-48A1-AC3B-ECE7237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4611-69C9-4FE4-959A-AC82E85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F1C1-CF38-4C29-9BC5-1BE4ADB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CD4B-564B-46B2-97D3-D2E62917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53FD-3EC2-4CBC-8900-6FC7D756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59F0-E8F9-4ACD-998B-584D03DD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711-9BC7-4B3D-8657-FD92AA3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765D-910C-4F3D-BCA8-29100F57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4EB5-F960-48E0-B532-70D7404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C9AF-AF0F-4B4D-987C-0FF312BA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ED5B-206A-4875-9303-D42256A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D75D-0004-4872-AC2A-C97C933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CB34-9038-4637-929A-418ADA7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D6BF-8E84-4101-B4DC-9375958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21FBB-B6FF-425C-9C65-F5DBCBE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3554-2B37-4557-B90C-36F95AB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7F4E-C3EA-49BB-A1CC-B1ED19DE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E9B-A51D-4B56-A166-80881BB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DA15-796B-4C58-AF40-F99912A0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E412-29E7-4917-B4FD-3EFE7445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EBDE-E5C3-47D3-8AD1-E62382B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51918-97BF-4432-991C-A8B9D9A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4A61-20C3-4770-9A5F-892FEBD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C2DB-C2E7-4750-90FA-C31F3246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AA92-48E2-4368-B9F5-3EA93C65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7391-9F06-4040-A347-D8C390E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8E69-8792-401F-9411-2454E3F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45B0-1743-4A71-A880-C0E5665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C19-059B-44FF-B116-BDA0E5E7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58FA-DC83-4C05-ADCA-6ABE944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DFDE-5259-4854-89E3-D6C8B957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3929-C021-4BAD-A23F-9EF8E54A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FE50-8CA4-46A5-B998-AA3EF6A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E8C5-BCE2-40C1-8A4A-59565F5C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EB7E-81E5-4134-817A-1FF68EA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7275-E109-41B6-9E2F-0C8C7BB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BCA7-BCA5-44FA-BAF5-5CE15CB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F4E8-CE4A-4D3B-AD54-1A60FBF7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51AF-EB7A-47F6-8545-5F0E1D5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89C-9177-4EDD-A633-834C707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6A3C-FB4C-4B28-A573-ACAB640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95B6-6542-4789-ACB3-C1C806A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1757-FC2E-4CAA-8EB1-4012CC26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EC755-A7D5-46E3-91BE-6D070AE8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A0093-340F-49CA-BB59-96C6290E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C9FB-7C11-4D2A-832A-1F329641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F3A39-EEBD-4571-9DD1-79C934A4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C6112-229A-4451-B907-71FED31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B389-D528-4CC3-9194-0752FA9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2C494-4DF0-45E4-AEBB-3F2FD81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0EE-5DF0-49D4-921C-EDBF30C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209E-D19B-4D04-9026-8ECD630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B611F-E034-4CFD-9130-05CF295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5DE6-029C-4131-8583-2E4CDCD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002A-3530-4108-BFF3-97203DC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34C56-7461-4EA7-A7A5-7A4ACAA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7811E-21A5-474B-B8E0-70D62454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6D98-D170-4707-B170-E4A31C92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9E836-5655-431E-8660-3CD6ACB1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F0389-1A72-4EA4-99DA-76B080D3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44D38-D1AC-41F1-9A42-68250F7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2305-3AE6-4F6D-A3D5-8C032CFA12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03A-64E7-474B-AB22-C62C82A3B7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92E-EED4-4048-82E6-8D2947D263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1BC-6435-4438-855A-9C700AD2AE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1E8-8495-4E53-AF60-02DCD556F7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C03-E0E9-4B4D-86D0-8BAD8D584F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61A4-DBCD-4FAE-B1A7-B5E2AC3D48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A84-373D-4F96-A1D6-AE06CC9C0A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E67-5C5A-4D39-9C9A-F64BAB64AB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C656-BCB5-4F15-B610-81C1C40F4A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8E5C-38D1-4AF1-9E1A-080A22E6FF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F99F-F50E-4CAA-9F91-EE853D4AA9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XXXXX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汽车销售服务有限公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01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年终总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23640" y="1125000"/>
            <a:ext cx="8507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                     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保证措施一、加强销售部内训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内容占位符 6"/>
          <p:cNvSpPr/>
          <p:nvPr/>
        </p:nvSpPr>
        <p:spPr>
          <a:xfrm>
            <a:off x="324000" y="4194000"/>
            <a:ext cx="850716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                     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保证措施二、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完善销售制度，建立一套明确系统的管理办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1692360" y="10526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保证措施三、加强客户关系维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436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保证措施四、大客户业务的开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内容占位符 2"/>
          <p:cNvSpPr/>
          <p:nvPr/>
        </p:nvSpPr>
        <p:spPr>
          <a:xfrm>
            <a:off x="468360" y="5013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2011</a:t>
            </a:r>
            <a:r>
              <a:rPr b="0" lang="zh-CN" sz="2500" spc="-1" strike="noStrike">
                <a:solidFill>
                  <a:srgbClr val="558ed5"/>
                </a:solidFill>
                <a:latin typeface="Calibri"/>
              </a:rPr>
              <a:t>年度目标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4"/>
          <p:cNvSpPr/>
          <p:nvPr/>
        </p:nvSpPr>
        <p:spPr>
          <a:xfrm>
            <a:off x="1465560" y="148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Calibri"/>
              </a:rPr>
              <a:t>二、售后服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有量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有量分布图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维修产值汇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进厂台次与单车产值年度汇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维修毛利润统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索赔产值汇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Calibri"/>
              </a:rPr>
              <a:t>年度备件库存种类及金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4"/>
          <p:cNvSpPr/>
          <p:nvPr/>
        </p:nvSpPr>
        <p:spPr>
          <a:xfrm>
            <a:off x="76140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Calibri"/>
              </a:rPr>
              <a:t>一、销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备件出入库金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备件毛利润统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2011</a:t>
            </a: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年度合计数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280" y="1844640"/>
            <a:ext cx="87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维修台次共计：    台次            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维修产值共计：    万元         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88.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平均单车产值：    元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/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台次      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0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养护品销售：         万元       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5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索赔产值共计：    万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平均维修毛利润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平均备件毛利润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事故车台次比例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产值比例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f81bd"/>
                </a:solidFill>
                <a:latin typeface="Calibri"/>
              </a:rPr>
              <a:t>售后服务部目前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24000" y="1844640"/>
            <a:ext cx="8820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f81bd"/>
                </a:solidFill>
                <a:latin typeface="Calibri"/>
              </a:rPr>
              <a:t>一、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2012</a:t>
            </a:r>
            <a:r>
              <a:rPr b="0" lang="zh-CN" sz="3200" spc="-1" strike="noStrike">
                <a:solidFill>
                  <a:srgbClr val="4f81bd"/>
                </a:solidFill>
                <a:latin typeface="Calibri"/>
              </a:rPr>
              <a:t>年度工作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证措施一、客户管理细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5280" y="1557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标题 4"/>
          <p:cNvSpPr/>
          <p:nvPr/>
        </p:nvSpPr>
        <p:spPr>
          <a:xfrm>
            <a:off x="611280" y="414972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证措施二、续保和预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内容占位符 6"/>
          <p:cNvSpPr/>
          <p:nvPr/>
        </p:nvSpPr>
        <p:spPr>
          <a:xfrm>
            <a:off x="324000" y="4941720"/>
            <a:ext cx="8507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250920" y="1915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证措施三、内部人员与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前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新车交付流程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被动预约流程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车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Calibri"/>
              </a:rPr>
              <a:t>备件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95280" y="2060640"/>
            <a:ext cx="8507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证措施四、精品与改装新业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车型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年销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9280" y="169992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201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全年销售共计：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201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年月均销售：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VIANO(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唯雅诺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进口车（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3.5 AVANTAGE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VITO (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威霆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SPRINTER(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</a:rPr>
              <a:t>凌特 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保证措施五、营销活动开展的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000" y="1484280"/>
            <a:ext cx="8505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179280" y="2060640"/>
            <a:ext cx="8785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2011</a:t>
            </a:r>
            <a:r>
              <a:rPr b="0" lang="zh-CN" sz="2500" spc="-1" strike="noStrike">
                <a:solidFill>
                  <a:srgbClr val="558ed5"/>
                </a:solidFill>
                <a:latin typeface="Calibri"/>
              </a:rPr>
              <a:t>年度目标：</a:t>
            </a: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1</a:t>
            </a:r>
            <a:r>
              <a:rPr b="0" lang="zh-CN" sz="2500" spc="-1" strike="noStrike">
                <a:solidFill>
                  <a:srgbClr val="558ed5"/>
                </a:solidFill>
                <a:latin typeface="Calibri"/>
              </a:rPr>
              <a:t>、销售满意度：不低于全国平均水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                                </a:t>
            </a: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2</a:t>
            </a:r>
            <a:r>
              <a:rPr b="0" lang="zh-CN" sz="2500" spc="-1" strike="noStrike">
                <a:solidFill>
                  <a:srgbClr val="558ed5"/>
                </a:solidFill>
                <a:latin typeface="Calibri"/>
              </a:rPr>
              <a:t>、售后满意度：不低于全国平均水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711000" y="1484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Calibri"/>
              </a:rPr>
              <a:t>三、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4681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售后硬性问题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车辆自身问题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14"/>
          <p:cNvSpPr/>
          <p:nvPr/>
        </p:nvSpPr>
        <p:spPr>
          <a:xfrm>
            <a:off x="395280" y="836640"/>
            <a:ext cx="45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宋体"/>
                <a:ea typeface="Arial"/>
              </a:rPr>
              <a:t>售后软性问题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  <a:ea typeface="Arial"/>
              </a:rPr>
              <a:t>(</a:t>
            </a:r>
            <a:r>
              <a:rPr b="0" lang="zh-CN" sz="2400" spc="-1" strike="noStrike">
                <a:solidFill>
                  <a:srgbClr val="0070c0"/>
                </a:solidFill>
                <a:latin typeface="宋体"/>
                <a:ea typeface="Arial"/>
              </a:rPr>
              <a:t>我店可改观问题</a:t>
            </a:r>
            <a:r>
              <a:rPr b="0" lang="en-US" sz="2400" spc="-1" strike="noStrike">
                <a:solidFill>
                  <a:srgbClr val="0070c0"/>
                </a:solidFill>
                <a:latin typeface="宋体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销售过程问题反馈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611280" y="1773360"/>
            <a:ext cx="7570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客户所反映问题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39607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70c0"/>
                </a:solidFill>
                <a:latin typeface="Calibri"/>
              </a:rPr>
              <a:t>客户关系部不足之处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50920" y="1267920"/>
            <a:ext cx="8424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9"/>
          <p:cNvSpPr/>
          <p:nvPr/>
        </p:nvSpPr>
        <p:spPr>
          <a:xfrm>
            <a:off x="83304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改进措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内容占位符 2"/>
          <p:cNvSpPr/>
          <p:nvPr/>
        </p:nvSpPr>
        <p:spPr>
          <a:xfrm>
            <a:off x="395280" y="4653000"/>
            <a:ext cx="835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年度目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说明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1470240" y="148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Calibri"/>
              </a:rPr>
              <a:t>四、费用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24000" y="1052280"/>
            <a:ext cx="83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</a:rPr>
              <a:t>2011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年重大事件回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年月度销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Calibri"/>
              </a:rPr>
              <a:t>月度人均销售台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4"/>
          <p:cNvSpPr/>
          <p:nvPr/>
        </p:nvSpPr>
        <p:spPr>
          <a:xfrm>
            <a:off x="82692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销售人员计算（含销售主管、销售顾问，大客户专员，不含实习销售顾问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2011</a:t>
            </a: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年选装件销售概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2011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年度合计数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98900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年度销量：台   月平均：台       目标 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全年精品销售共计： 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单车精品销售额：      元              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新车参保数：                 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新车参保率：       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                 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目标达成率：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续保数 ：                           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续保率：                  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销售部目前存在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50920" y="162828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1332000" y="1125000"/>
            <a:ext cx="6454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一、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2012</a:t>
            </a: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年销售工作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内容占位符 2"/>
          <p:cNvSpPr/>
          <p:nvPr/>
        </p:nvSpPr>
        <p:spPr>
          <a:xfrm>
            <a:off x="395280" y="2133720"/>
            <a:ext cx="8507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年度销量台，月均台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新车店内参保率：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%</a:t>
            </a: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Calibri"/>
              </a:rPr>
              <a:t>车均精品销售：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5:47:05Z</dcterms:created>
  <dc:creator>Service</dc:creator>
  <dc:description/>
  <dc:language>en-US</dc:language>
  <cp:lastModifiedBy>User</cp:lastModifiedBy>
  <dcterms:modified xsi:type="dcterms:W3CDTF">2015-08-21T08:56:25Z</dcterms:modified>
  <cp:revision>3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