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CAMERA.WAV" ContentType="audio/x-wav"/>
  <Override PartName="/ppt/media/TYPE.WAV" ContentType="audio/x-wav"/>
  <Override PartName="/ppt/media/image7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carbrake.wav" ContentType="audio/x-wav"/>
  <Override PartName="/ppt/media/image8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4793-B434-4702-A20D-7A5977AFF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C073-A7E8-425B-A126-4F2390231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DE3-A0FC-4F04-9863-372C47F2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10C-2A49-44D6-B862-AD0AAC15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F48-0B9E-4E85-B3C7-0D16C904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D79-65EA-4B51-87B5-0F732567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80EE-9108-4865-8825-5A1B6AEE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57C6-D2E2-4D26-85DC-982F1A0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4754-ACBD-4BE8-BB72-8ABCF9E0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2634-F8D6-42BD-B6A0-E12D6066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FE07-1937-443C-A675-A32EF754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2DD9-E170-445F-958D-E6255DAC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2068-59C1-4200-932B-B35173F2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763-75D6-45E1-8040-ED971F57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9FED-9705-4C63-8FEB-7A21E48F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5FB9-D1D5-44F8-B144-72B28AC5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8489-1A7E-4B2E-AC98-4055408A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4A8D-809F-4B97-A6CC-7C27737A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3111-9F69-4771-8420-DFB69702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B0A-61B1-47EE-BD58-9EFEF37A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221-0F59-429E-B86A-CB566602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6E7-0B3A-49F4-A502-BD1F7CF0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E0C-D534-46BF-A97B-CD45F81E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D76-B537-44AE-8151-2A70A00B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232-175A-40A5-A067-7ECB2419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79F-175F-4C61-A10D-14BF992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CBED-DA88-4A52-808A-F95AD3043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8C7F-7852-48DF-993F-3828C0A6B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68756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大学生求职简历制作</a:t>
            </a:r>
            <a:br>
              <a:rPr sz="54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面试技巧与礼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aa073f356f69a8858e65c79b9d5fcf38"/>
          <p:cNvPicPr/>
          <p:nvPr/>
        </p:nvPicPr>
        <p:blipFill>
          <a:blip r:embed="rId1"/>
          <a:stretch/>
        </p:blipFill>
        <p:spPr>
          <a:xfrm>
            <a:off x="0" y="333360"/>
            <a:ext cx="2195640" cy="1773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简历－－专业课程介绍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专业课程介绍指将大学所学的主要专业课程，进行罗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：课程不需全部列出，建议罗列主要专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好列与应聘岗位相关的课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简历－－专业及特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专业及特长指自身所学的专业以及特长结合到应聘岗位，二者揉在一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原则：结合应聘岗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1" lang="zh-CN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简历－－在校任职情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在校任职情况，指大学期间所担任的班级、学生会、社团组织担任何种职务的情况介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ff"/>
                </a:solidFill>
                <a:latin typeface="Arial"/>
              </a:rPr>
              <a:t>建议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添加任职期间一些具有代表性的事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‘语言简洁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简历－－社会实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会实践格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践时段         实习单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习岗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7.3-07.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人力资源专员或助理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（有联系电话更好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9999ff"/>
                </a:solidFill>
                <a:latin typeface="Arial"/>
              </a:rPr>
              <a:t>建议：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将实践经历时实习岗位的工作内容进行简短展开，并写明从中的收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简历－－自我评价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我评价是对自我个性特质、优点、自身能力的部分体现作一总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ff"/>
                </a:solidFill>
                <a:latin typeface="Arial"/>
              </a:rPr>
              <a:t>建议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把自己最优秀、最有特质的一面，用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简短文字表达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9680" y="258480"/>
            <a:ext cx="7947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简历－－专业证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大学期间，已经取得的专业资格证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：英语专业：英语专业八级证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ff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专业证书尽量结合应聘岗位罗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82072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简历－－外语</a:t>
            </a:r>
            <a:r>
              <a:rPr b="1" lang="en-US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/</a:t>
            </a:r>
            <a:r>
              <a:rPr b="1" lang="zh-CN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计算机能力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3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外语能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学习期间所掌握除母语语种以外的语言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0840" y="1599840"/>
            <a:ext cx="3883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计算机能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大学期间所掌握计算机的能力，可用考级来罗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华文中宋"/>
              </a:rPr>
              <a:t>    </a:t>
            </a:r>
            <a:r>
              <a:rPr b="1" lang="zh-CN" sz="4200" spc="-1" strike="noStrike">
                <a:solidFill>
                  <a:srgbClr val="ffffff"/>
                </a:solidFill>
                <a:latin typeface="Arial"/>
                <a:ea typeface="华文中宋"/>
              </a:rPr>
              <a:t>个人简历－－英文简历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文简历根据应聘单位及岗位添加，在此建议添加英文简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：英文简历建议只添加‘自荐书’、‘个人简历’部分即可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个人简历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简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内容完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真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简历整体美观，纸张、字体大小有规律，排 版格式统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语句是否通顺，段落是否清晰，避免出现错别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应聘广告、平面设计等岗位，建议制作有专业特色的简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忌用成本较高的纸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简历的组成－－自荐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制原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格式规范、语言流畅、段落清晰，围绕所学专业，结合应聘岗位，突出自身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讲座提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 大学生简历制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 面试技巧与礼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部分 几点启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自荐书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感谢语、祝福语、落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署名和日期不要遗漏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华文中宋"/>
              </a:rPr>
              <a:t>    </a:t>
            </a:r>
            <a:r>
              <a:rPr b="1" lang="zh-CN" sz="4200" spc="-1" strike="noStrike">
                <a:solidFill>
                  <a:srgbClr val="ffffff"/>
                </a:solidFill>
                <a:latin typeface="Arial"/>
                <a:ea typeface="华文中宋"/>
              </a:rPr>
              <a:t>简历的组成－－附件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附件种类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设计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专业资格证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具有代表性的获奖证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附件建议：</a:t>
            </a:r>
            <a:r>
              <a:rPr b="1" lang="zh-CN" sz="32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根据附件大小，通过扫描、缩小复印等式，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证书等集中在一个页面上，同时要注意排版美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9480" y="1685520"/>
            <a:ext cx="792504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制作完成后，建议再前后仔细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查一遍，确认无误后，再投递简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Arial"/>
              </a:rPr>
              <a:t>三、常见失误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打字或者语法错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缺乏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万能简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、关注责任而不是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、拖得过长或者减省得太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六、求职目标设定粗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七、缺乏吸引人的动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八、落掉重要的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九、视觉上太花哨或拥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、联系方式错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12196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Arial"/>
                <a:ea typeface="隶书"/>
              </a:rPr>
              <a:t>第二部分 面试技巧与礼仪</a:t>
            </a:r>
            <a:br>
              <a:rPr sz="4200"/>
            </a:br>
            <a:r>
              <a:rPr b="1" lang="zh-CN" sz="4200" spc="-1" strike="noStrike">
                <a:solidFill>
                  <a:srgbClr val="ffffff"/>
                </a:solidFill>
                <a:latin typeface="Arial"/>
                <a:ea typeface="隶书"/>
              </a:rPr>
              <a:t> </a:t>
            </a:r>
            <a:r>
              <a:rPr b="1" lang="zh-CN" sz="4900" spc="-1" strike="noStrike">
                <a:solidFill>
                  <a:srgbClr val="ff0000"/>
                </a:solidFill>
                <a:latin typeface="Arial"/>
              </a:rPr>
              <a:t>提纲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一、面试的两大基本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二、面试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三、面试仪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四、面试进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100" spc="-1" strike="noStrike">
                <a:solidFill>
                  <a:srgbClr val="ff0000"/>
                </a:solidFill>
                <a:latin typeface="Arial"/>
                <a:ea typeface="黑体"/>
              </a:rPr>
              <a:t>面试本身就是恰当的表演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展现真实的自我”可能是最糟的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顺其自然也许使你失去机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高手林立的环境中，你更应该扮演最优秀的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0000"/>
                </a:solidFill>
                <a:uFillTx/>
                <a:latin typeface="Arial"/>
              </a:rPr>
              <a:t>你准备好了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75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134100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ffff"/>
                </a:solidFill>
                <a:latin typeface="Arial"/>
                <a:ea typeface="隶书"/>
              </a:rPr>
              <a:t>一、面试的两大基本原则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知己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幼圆"/>
              </a:rPr>
              <a:t>---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了解自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知彼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幼圆"/>
              </a:rPr>
              <a:t>---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了解单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2133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000" spc="-1" strike="noStrike">
                <a:solidFill>
                  <a:srgbClr val="ffffff"/>
                </a:solidFill>
                <a:latin typeface="Arial"/>
              </a:rPr>
              <a:t>了解自我  </a:t>
            </a:r>
            <a:r>
              <a:rPr b="0" i="1" lang="zh-CN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企业想了解你的什么</a:t>
            </a:r>
            <a:r>
              <a:rPr b="1" lang="zh-CN" sz="29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4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这个应聘员是什么样的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非常希望来我公司工作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我对公司有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ject 4" descr=""/>
          <p:cNvPicPr/>
          <p:nvPr/>
        </p:nvPicPr>
        <p:blipFill>
          <a:blip r:embed="rId1"/>
          <a:stretch/>
        </p:blipFill>
        <p:spPr>
          <a:xfrm>
            <a:off x="4929120" y="1763640"/>
            <a:ext cx="349740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Line 5"/>
          <p:cNvSpPr/>
          <p:nvPr/>
        </p:nvSpPr>
        <p:spPr>
          <a:xfrm>
            <a:off x="2286000" y="160020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3200400" y="1828800"/>
            <a:ext cx="5715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2"/>
          <p:cNvGraphicFramePr/>
          <p:nvPr/>
        </p:nvGraphicFramePr>
        <p:xfrm>
          <a:off x="324000" y="0"/>
          <a:ext cx="10972800" cy="71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1097280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第一部分 大学生简历制作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提    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简历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简历的组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常见错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ff"/>
                </a:solidFill>
                <a:latin typeface="Arial"/>
                <a:ea typeface="隶书"/>
              </a:rPr>
              <a:t>你应该了解企业的十三方面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行业的前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企业在同行业的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企业业绩的推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地理位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企业规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企业资产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9432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企业的变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企业的特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工作强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营方针、理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来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企业的体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物质待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ject 5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37160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6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6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  <a:ea typeface="华文彩云"/>
              </a:rPr>
              <a:t>了解企业后幕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不是一次名义上的面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否职位早已给了内部人员，招聘只是走走形式而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司内部是否有重大的变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主持面试的人员当天心情如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面试人员接下来是否还有什么约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面试是否已进入了当天的最后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0000"/>
                </a:solidFill>
                <a:latin typeface="Arial"/>
                <a:ea typeface="黑体"/>
              </a:rPr>
              <a:t>二、面试类型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筛选型面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挑选型面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混合型面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筛选型面试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4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经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力资源部的人来面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是否符合标准，对候选人进行筛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心候选人是否可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9400" y="1599840"/>
            <a:ext cx="3884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潜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业务部门人员来进行面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认为标准已经符合，主要看候选人是否适合该职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心候选人是否能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筛选型面试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有关你的工作经历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有关你可转移（跨工种）的技能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，即完成不同工作的能力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询问你简历不连贯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（工作、学习经历的空白阶段）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旨在发现你是否在简历里撒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旨在发现你的为人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是否可靠、可信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，是否有协作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 u="sng">
                <a:solidFill>
                  <a:srgbClr val="ffffff"/>
                </a:solidFill>
                <a:uFillTx/>
                <a:latin typeface="Arial"/>
                <a:ea typeface="黑体"/>
              </a:rPr>
              <a:t>挑选型面试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现出来的优良个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资历和技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经历或所受教育的具体细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处理某项假定的工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ff"/>
                </a:solidFill>
                <a:latin typeface="Arial"/>
                <a:ea typeface="隶书"/>
              </a:rPr>
              <a:t>为另一种舞台表演形式而打扮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99640" y="414936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1187280" y="2924280"/>
            <a:ext cx="60962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三、面试仪表！</a:t>
            </a:r>
            <a:endParaRPr b="1" lang="en-US" sz="3200" spc="1" strike="noStrike">
              <a:ln w="19080">
                <a:solidFill>
                  <a:srgbClr val="0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0000"/>
                </a:solidFill>
                <a:latin typeface="Arial"/>
                <a:ea typeface="黑体"/>
              </a:rPr>
              <a:t>最最</a:t>
            </a:r>
            <a:r>
              <a:rPr b="1" lang="zh-CN" sz="3700" spc="-1" strike="noStrike">
                <a:solidFill>
                  <a:srgbClr val="ff0000"/>
                </a:solidFill>
                <a:latin typeface="Arial"/>
              </a:rPr>
              <a:t>重要的是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  <a:ea typeface="隶书"/>
              </a:rPr>
              <a:t>整洁、干净、清香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面试之前洗个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检查头发是否干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确保指甲修剪得整齐而干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检查呼吸的气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确保衣服干净整齐（华大的要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不要穿邋遢的鞋子（华大的要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不要使用香水，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或只用气味较淡的香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男性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隶书"/>
              </a:rPr>
              <a:t>成功仪容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修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本着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2438280" y="3962520"/>
            <a:ext cx="4800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应符合场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衬衫（西装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领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袜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鞋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ject 5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352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女性</a:t>
            </a:r>
            <a:r>
              <a:rPr b="1" lang="zh-CN" sz="4600" spc="-1" strike="noStrike">
                <a:solidFill>
                  <a:srgbClr val="ffffff"/>
                </a:solidFill>
                <a:latin typeface="Arial"/>
                <a:ea typeface="隶书"/>
              </a:rPr>
              <a:t>成功仪容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充分体现女性美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服装做工要精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鞋应和整体协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袜子不能有脱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763640" y="2276640"/>
            <a:ext cx="5867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企业公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服务型单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机关单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ject 5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2743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一、简历历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期名称“谒”。 所谓“谒”就是拜访者把名字和其它介绍文字写在竹片或木片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东汉末期，“谒”又被改称为“刺”， “刺”由竹木片改成了更便于携带的纸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宋拜访，必须先递“门状”，这时“刺”的名称也就被“门状”代替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明朝名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清朝名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汉鼎繁琥珀"/>
              </a:rPr>
              <a:t>什么是过分时髦性感？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幼圆"/>
              </a:rPr>
              <a:t>太短的裙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太低的领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幼圆"/>
              </a:rPr>
              <a:t>过于透明的布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紧身的服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无鞋跟的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带闪光的布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隶书"/>
              </a:rPr>
              <a:t>你的举止将是你气质修养的最好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隶书"/>
              </a:rPr>
              <a:t>体现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走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握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9400" y="2092320"/>
            <a:ext cx="388476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敲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关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递东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点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1295280" y="198108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129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cc0000"/>
                </a:solidFill>
                <a:latin typeface="Arial"/>
                <a:ea typeface="幼圆"/>
              </a:rPr>
              <a:t>四、面试进程</a:t>
            </a:r>
            <a:endParaRPr b="0" lang="en-US" sz="9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4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458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4920" y="129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cc0000"/>
                </a:solidFill>
                <a:latin typeface="Arial"/>
                <a:ea typeface="幼圆"/>
              </a:rPr>
              <a:t>1</a:t>
            </a:r>
            <a:r>
              <a:rPr b="1" lang="zh-CN" sz="6400" spc="-1" strike="noStrike">
                <a:solidFill>
                  <a:srgbClr val="cc0000"/>
                </a:solidFill>
                <a:latin typeface="Arial"/>
                <a:ea typeface="幼圆"/>
              </a:rPr>
              <a:t>面试的前一天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4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458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为作好一场精彩的表演，请你准备好以下</a:t>
            </a:r>
            <a:r>
              <a:rPr b="1" lang="zh-CN" sz="4300" spc="-1" strike="noStrike">
                <a:solidFill>
                  <a:srgbClr val="ff0000"/>
                </a:solidFill>
                <a:latin typeface="Arial"/>
                <a:ea typeface="隶书"/>
              </a:rPr>
              <a:t>清单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534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知道你所应聘的公司职员是如何着装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的面试服装是否干净、整齐、随手可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知道面试的地点以及路途要花费的时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事先对应聘的职位、公司做过调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是否背下推销自我的广告词以突出自身优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是否对可能问及的问题进行操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是否对该职位的工资行情进行过调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是否准备好一切必要的东西？（包括简历、钱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幼圆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幼圆"/>
              </a:rPr>
              <a:t>开始面试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幼圆"/>
              </a:rPr>
              <a:t>---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走进面试场，请你</a:t>
            </a:r>
            <a:r>
              <a:rPr b="1" lang="zh-CN" sz="5000" spc="-1" strike="noStrike">
                <a:solidFill>
                  <a:srgbClr val="ff0066"/>
                </a:solidFill>
                <a:latin typeface="Arial"/>
                <a:ea typeface="幼圆"/>
              </a:rPr>
              <a:t>牢记</a:t>
            </a: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所穿衣服应能使你看上去象是公司一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友好地对待所有办公室职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得到邀请后才坐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与面试者建立亲密关系，请注意办公室的个人物品，但千万别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突出正面的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气氛太紧张，可以问一个与工作相关的问题来展现你的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黑体"/>
              </a:rPr>
              <a:t>在没得到录用之前别谈钱的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注意面试者提出刺探性问题的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288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0000" spc="-1" strike="noStrike">
                <a:solidFill>
                  <a:srgbClr val="cc0000"/>
                </a:solidFill>
                <a:latin typeface="Arial"/>
              </a:rPr>
              <a:t>结束面试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Object 4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8458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面试的帷幕即将落下，你的表演仍应出色：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急不可耐的求职者最不可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善于捕捉面试者结束面试的暗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最后一次对面试者简要说明自身最突出的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造进一步联系的机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记下面试过程中掌握的新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每次面试都看成一次学习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2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7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2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第三部分 启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学期间的个人综合素质培养是决定职业生涯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让先进成为个性；让优秀成为习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丘校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恰当表现自我（选对池塘）</a:t>
            </a: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演练，远比真正的上舞台重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生的志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幸福的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3"/>
          <p:cNvSpPr/>
          <p:nvPr/>
        </p:nvSpPr>
        <p:spPr>
          <a:xfrm>
            <a:off x="0" y="1295280"/>
            <a:ext cx="9144000" cy="504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0000"/>
                </a:solidFill>
                <a:latin typeface="隶书"/>
                <a:ea typeface="隶书"/>
              </a:rPr>
              <a:t>祝您成功！</a:t>
            </a:r>
            <a:endParaRPr b="1" lang="en-US" sz="1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057400" y="3809880"/>
            <a:ext cx="5181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请多指教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谢谢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Arial"/>
                <a:ea typeface="华文中宋"/>
              </a:rPr>
              <a:t>二、简历的组成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◎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封   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◎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人简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◎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荐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◎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附  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华文中宋"/>
              </a:rPr>
              <a:t>    </a:t>
            </a:r>
            <a:r>
              <a:rPr b="1" lang="zh-CN" sz="4200" spc="-1" strike="noStrike">
                <a:solidFill>
                  <a:srgbClr val="ffffff"/>
                </a:solidFill>
                <a:latin typeface="Arial"/>
                <a:ea typeface="华文中宋"/>
              </a:rPr>
              <a:t>简历组成－－封 面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封面信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姓        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学专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业院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求职意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联系方式（注：手机异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华文中宋"/>
              </a:rPr>
              <a:t>   </a:t>
            </a:r>
            <a:r>
              <a:rPr b="1" lang="zh-CN" sz="4200" spc="-1" strike="noStrike">
                <a:solidFill>
                  <a:srgbClr val="ffffff"/>
                </a:solidFill>
                <a:latin typeface="Arial"/>
                <a:ea typeface="华文中宋"/>
              </a:rPr>
              <a:t>简历的组成－－个人简历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3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职意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育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业课程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业及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校任职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0840" y="1599840"/>
            <a:ext cx="3883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实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业资格证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获奖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华文中宋"/>
              </a:rPr>
              <a:t>    </a:t>
            </a:r>
            <a:r>
              <a:rPr b="1" lang="zh-CN" sz="4200" spc="-1" strike="noStrike">
                <a:solidFill>
                  <a:srgbClr val="ffffff"/>
                </a:solidFill>
                <a:latin typeface="Arial"/>
                <a:ea typeface="华文中宋"/>
              </a:rPr>
              <a:t>个人简历－－基本信息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基本信息：指个人基本情况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姓名                     政治面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别                    学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生年月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毕业院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9999ff"/>
                </a:solidFill>
                <a:latin typeface="Arial"/>
              </a:rPr>
              <a:t>（照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籍贯                     通讯地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健康状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联系电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注：贴粘一寸免冠照</a:t>
            </a:r>
            <a:r>
              <a:rPr b="1" lang="zh-CN" sz="2800" spc="-1" strike="noStrike">
                <a:solidFill>
                  <a:srgbClr val="9999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4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个人简历－－教育经历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育经历指以往教育的情况，自中学、高中到大学的学习情况介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育经历包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段                毕业学校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8.9-2001.7      **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学               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：排序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04:35:02Z</dcterms:created>
  <dc:creator>Lenovo User</dc:creator>
  <dc:description/>
  <dc:language>en-US</dc:language>
  <cp:lastModifiedBy>Administrator</cp:lastModifiedBy>
  <dcterms:modified xsi:type="dcterms:W3CDTF">2015-09-09T03:19:05Z</dcterms:modified>
  <cp:revision>120</cp:revision>
  <dc:subject/>
  <dc:title>简历制作与实务</dc:title>
</cp:coreProperties>
</file>