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FA307364-7843-4BDF-AF0D-70DD50E009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8008A7AD-AC3A-4276-A0B8-C23515384E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D2FAFDC5-9EB0-4CE8-9800-CAF8B8687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C59-D3B4-4B29-96FC-0321A554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791-C6CB-4B4A-AF17-F2CACDBE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A1E-D63A-41C7-AF52-9813DFCE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602-B66E-4F86-8E21-1507244F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79B-A843-4A7D-BCDA-E68A215C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3EF-83EE-42FD-B830-1B27DC86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A1B-91C8-4FBA-A328-316855EC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1C6-7FF4-4241-AE98-195FE5F8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E2D-657D-43B8-A64D-40F5004D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936-4D82-48E6-86DD-B4076BF9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B63-4E48-4B8C-AEDD-20A4CE0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776-7E3D-4772-9FCB-4B26729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694F6AD2-2A40-4F4E-A51C-F14E6923E285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E:\2010\七夕\未标题-2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:\2010\七夕\未标题-2.png"/>
          <p:cNvPicPr/>
          <p:nvPr/>
        </p:nvPicPr>
        <p:blipFill>
          <a:blip r:embed="rId3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E:\2010\七夕\未标题-3.png"/>
          <p:cNvPicPr/>
          <p:nvPr/>
        </p:nvPicPr>
        <p:blipFill>
          <a:blip r:embed="rId4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2010\七夕\未标题-2.png"/>
          <p:cNvPicPr/>
          <p:nvPr/>
        </p:nvPicPr>
        <p:blipFill>
          <a:blip r:embed="rId5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84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85" name="Picture 4" descr="E:\2010\七夕\未标题-4.png"/>
              <p:cNvPicPr/>
              <p:nvPr/>
            </p:nvPicPr>
            <p:blipFill>
              <a:blip r:embed="rId6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5" descr="E:\2010\七夕\未标题-5.png"/>
              <p:cNvPicPr/>
              <p:nvPr/>
            </p:nvPicPr>
            <p:blipFill>
              <a:blip r:embed="rId7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Picture 6" descr="E:\2010\七夕\未标题-6.png"/>
            <p:cNvPicPr/>
            <p:nvPr/>
          </p:nvPicPr>
          <p:blipFill>
            <a:blip r:embed="rId8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.png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16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14.png"/><Relationship Id="rId2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11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4633920" y="2602080"/>
            <a:ext cx="917640" cy="91584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3886200" y="5656320"/>
            <a:ext cx="452520" cy="45252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751200" y="809640"/>
            <a:ext cx="471600" cy="47160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2084400" y="2357280"/>
            <a:ext cx="836640" cy="83520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7554960" y="2519280"/>
            <a:ext cx="536400" cy="5367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4394160" y="3817800"/>
            <a:ext cx="615960" cy="615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5481720" y="2111400"/>
            <a:ext cx="836640" cy="83664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22"/>
          <p:cNvGrpSpPr/>
          <p:nvPr/>
        </p:nvGrpSpPr>
        <p:grpSpPr>
          <a:xfrm>
            <a:off x="1557360" y="166680"/>
            <a:ext cx="2257560" cy="2254320"/>
            <a:chOff x="1557360" y="166680"/>
            <a:chExt cx="2257560" cy="2254320"/>
          </a:xfrm>
        </p:grpSpPr>
        <p:sp>
          <p:nvSpPr>
            <p:cNvPr id="141" name="Freeform 13"/>
            <p:cNvSpPr/>
            <p:nvPr/>
          </p:nvSpPr>
          <p:spPr>
            <a:xfrm>
              <a:off x="1557360" y="166680"/>
              <a:ext cx="2257560" cy="225432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1734840" y="344160"/>
              <a:ext cx="1900440" cy="18990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2324160" y="931680"/>
              <a:ext cx="722160" cy="7239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05"/>
          <p:cNvGrpSpPr/>
          <p:nvPr/>
        </p:nvGrpSpPr>
        <p:grpSpPr>
          <a:xfrm>
            <a:off x="2459160" y="4029120"/>
            <a:ext cx="880920" cy="876240"/>
            <a:chOff x="2459160" y="4029120"/>
            <a:chExt cx="880920" cy="876240"/>
          </a:xfrm>
        </p:grpSpPr>
        <p:sp>
          <p:nvSpPr>
            <p:cNvPr id="145" name="Freeform 16"/>
            <p:cNvSpPr/>
            <p:nvPr/>
          </p:nvSpPr>
          <p:spPr>
            <a:xfrm>
              <a:off x="2459160" y="4029120"/>
              <a:ext cx="880920" cy="87624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531880" y="4097160"/>
              <a:ext cx="738360" cy="7383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759040" y="4325760"/>
              <a:ext cx="280800" cy="2826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200"/>
          <p:cNvGrpSpPr/>
          <p:nvPr/>
        </p:nvGrpSpPr>
        <p:grpSpPr>
          <a:xfrm>
            <a:off x="4730760" y="4479840"/>
            <a:ext cx="1173240" cy="1170000"/>
            <a:chOff x="4730760" y="4479840"/>
            <a:chExt cx="1173240" cy="1170000"/>
          </a:xfrm>
        </p:grpSpPr>
        <p:sp>
          <p:nvSpPr>
            <p:cNvPr id="149" name="Freeform 19"/>
            <p:cNvSpPr/>
            <p:nvPr/>
          </p:nvSpPr>
          <p:spPr>
            <a:xfrm>
              <a:off x="4730760" y="4479840"/>
              <a:ext cx="1173240" cy="117000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4822560" y="4571640"/>
              <a:ext cx="989280" cy="9860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5129280" y="4875120"/>
              <a:ext cx="374760" cy="3762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20"/>
          <p:cNvGrpSpPr/>
          <p:nvPr/>
        </p:nvGrpSpPr>
        <p:grpSpPr>
          <a:xfrm>
            <a:off x="4703760" y="1805040"/>
            <a:ext cx="847800" cy="842760"/>
            <a:chOff x="4703760" y="1805040"/>
            <a:chExt cx="847800" cy="842760"/>
          </a:xfrm>
        </p:grpSpPr>
        <p:sp>
          <p:nvSpPr>
            <p:cNvPr id="153" name="Freeform 22"/>
            <p:cNvSpPr/>
            <p:nvPr/>
          </p:nvSpPr>
          <p:spPr>
            <a:xfrm>
              <a:off x="4703760" y="1805040"/>
              <a:ext cx="847800" cy="84276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4770360" y="1869840"/>
              <a:ext cx="714600" cy="7128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4991040" y="2090520"/>
              <a:ext cx="272880" cy="2696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217"/>
          <p:cNvGrpSpPr/>
          <p:nvPr/>
        </p:nvGrpSpPr>
        <p:grpSpPr>
          <a:xfrm>
            <a:off x="6599160" y="328680"/>
            <a:ext cx="849240" cy="849240"/>
            <a:chOff x="6599160" y="328680"/>
            <a:chExt cx="849240" cy="849240"/>
          </a:xfrm>
        </p:grpSpPr>
        <p:sp>
          <p:nvSpPr>
            <p:cNvPr id="157" name="Freeform 25"/>
            <p:cNvSpPr/>
            <p:nvPr/>
          </p:nvSpPr>
          <p:spPr>
            <a:xfrm>
              <a:off x="6599160" y="328680"/>
              <a:ext cx="849240" cy="84924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>
              <a:off x="6663960" y="393480"/>
              <a:ext cx="716040" cy="7160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"/>
            <p:cNvSpPr/>
            <p:nvPr/>
          </p:nvSpPr>
          <p:spPr>
            <a:xfrm>
              <a:off x="6887880" y="614520"/>
              <a:ext cx="271440" cy="2746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28"/>
          <p:cNvSpPr/>
          <p:nvPr/>
        </p:nvSpPr>
        <p:spPr>
          <a:xfrm>
            <a:off x="3662280" y="1220760"/>
            <a:ext cx="1206720" cy="12063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1635120" y="3119400"/>
            <a:ext cx="1197000" cy="119232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5689440" y="1082520"/>
            <a:ext cx="328680" cy="330480"/>
          </a:xfrm>
          <a:prstGeom prst="pie">
            <a:avLst/>
          </a:prstGeom>
          <a:solidFill>
            <a:srgbClr val="2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18"/>
          <p:cNvGrpSpPr/>
          <p:nvPr/>
        </p:nvGrpSpPr>
        <p:grpSpPr>
          <a:xfrm>
            <a:off x="5010120" y="399960"/>
            <a:ext cx="1697040" cy="1697040"/>
            <a:chOff x="5010120" y="399960"/>
            <a:chExt cx="1697040" cy="1697040"/>
          </a:xfrm>
        </p:grpSpPr>
        <p:sp>
          <p:nvSpPr>
            <p:cNvPr id="164" name="Freeform 30"/>
            <p:cNvSpPr/>
            <p:nvPr/>
          </p:nvSpPr>
          <p:spPr>
            <a:xfrm>
              <a:off x="5010120" y="399960"/>
              <a:ext cx="1697040" cy="169704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2"/>
            <p:cNvSpPr/>
            <p:nvPr/>
          </p:nvSpPr>
          <p:spPr>
            <a:xfrm>
              <a:off x="5168880" y="564840"/>
              <a:ext cx="1370160" cy="13683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96"/>
          <p:cNvGrpSpPr/>
          <p:nvPr/>
        </p:nvGrpSpPr>
        <p:grpSpPr>
          <a:xfrm>
            <a:off x="4363920" y="6265800"/>
            <a:ext cx="422280" cy="422280"/>
            <a:chOff x="4363920" y="6265800"/>
            <a:chExt cx="422280" cy="422280"/>
          </a:xfrm>
        </p:grpSpPr>
        <p:sp>
          <p:nvSpPr>
            <p:cNvPr id="167" name="Freeform 33"/>
            <p:cNvSpPr/>
            <p:nvPr/>
          </p:nvSpPr>
          <p:spPr>
            <a:xfrm>
              <a:off x="4363920" y="6265800"/>
              <a:ext cx="422280" cy="42228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532040" y="6433920"/>
              <a:ext cx="82440" cy="824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403520" y="6305400"/>
              <a:ext cx="343080" cy="3430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33"/>
          <p:cNvGrpSpPr/>
          <p:nvPr/>
        </p:nvGrpSpPr>
        <p:grpSpPr>
          <a:xfrm>
            <a:off x="2739960" y="2279520"/>
            <a:ext cx="1944720" cy="1943280"/>
            <a:chOff x="2739960" y="2279520"/>
            <a:chExt cx="1944720" cy="1943280"/>
          </a:xfrm>
        </p:grpSpPr>
        <p:sp>
          <p:nvSpPr>
            <p:cNvPr id="171" name="Freeform 36"/>
            <p:cNvSpPr/>
            <p:nvPr/>
          </p:nvSpPr>
          <p:spPr>
            <a:xfrm>
              <a:off x="2739960" y="2279520"/>
              <a:ext cx="1944720" cy="194328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7"/>
            <p:cNvSpPr/>
            <p:nvPr/>
          </p:nvSpPr>
          <p:spPr>
            <a:xfrm>
              <a:off x="3549600" y="3098880"/>
              <a:ext cx="317520" cy="3142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213"/>
          <p:cNvGrpSpPr/>
          <p:nvPr/>
        </p:nvGrpSpPr>
        <p:grpSpPr>
          <a:xfrm>
            <a:off x="6545160" y="954000"/>
            <a:ext cx="1675080" cy="1675080"/>
            <a:chOff x="6545160" y="954000"/>
            <a:chExt cx="1675080" cy="1675080"/>
          </a:xfrm>
        </p:grpSpPr>
        <p:sp>
          <p:nvSpPr>
            <p:cNvPr id="174" name="Freeform 38"/>
            <p:cNvSpPr/>
            <p:nvPr/>
          </p:nvSpPr>
          <p:spPr>
            <a:xfrm>
              <a:off x="6545160" y="954000"/>
              <a:ext cx="1675080" cy="167508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>
              <a:off x="7181640" y="1596960"/>
              <a:ext cx="398520" cy="3985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0"/>
            <p:cNvSpPr/>
            <p:nvPr/>
          </p:nvSpPr>
          <p:spPr>
            <a:xfrm>
              <a:off x="6684840" y="1095120"/>
              <a:ext cx="1397520" cy="13975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98"/>
          <p:cNvGrpSpPr/>
          <p:nvPr/>
        </p:nvGrpSpPr>
        <p:grpSpPr>
          <a:xfrm>
            <a:off x="4327560" y="5410080"/>
            <a:ext cx="884160" cy="882720"/>
            <a:chOff x="4327560" y="5410080"/>
            <a:chExt cx="884160" cy="882720"/>
          </a:xfrm>
        </p:grpSpPr>
        <p:sp>
          <p:nvSpPr>
            <p:cNvPr id="178" name="Freeform 41"/>
            <p:cNvSpPr/>
            <p:nvPr/>
          </p:nvSpPr>
          <p:spPr>
            <a:xfrm>
              <a:off x="4327560" y="5410080"/>
              <a:ext cx="884160" cy="88272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>
              <a:off x="4664160" y="5744880"/>
              <a:ext cx="210960" cy="2109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4400280" y="5481360"/>
              <a:ext cx="738360" cy="7383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09"/>
          <p:cNvGrpSpPr/>
          <p:nvPr/>
        </p:nvGrpSpPr>
        <p:grpSpPr>
          <a:xfrm>
            <a:off x="6051600" y="2540160"/>
            <a:ext cx="1663560" cy="1663560"/>
            <a:chOff x="6051600" y="2540160"/>
            <a:chExt cx="1663560" cy="1663560"/>
          </a:xfrm>
        </p:grpSpPr>
        <p:sp>
          <p:nvSpPr>
            <p:cNvPr id="182" name="Freeform 44"/>
            <p:cNvSpPr/>
            <p:nvPr/>
          </p:nvSpPr>
          <p:spPr>
            <a:xfrm>
              <a:off x="6051600" y="2540160"/>
              <a:ext cx="1663560" cy="166356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6661080" y="3149640"/>
              <a:ext cx="444240" cy="4413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6"/>
            <p:cNvSpPr/>
            <p:nvPr/>
          </p:nvSpPr>
          <p:spPr>
            <a:xfrm>
              <a:off x="6195960" y="2684520"/>
              <a:ext cx="1374840" cy="13701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6724440" y="3627720"/>
              <a:ext cx="318960" cy="3157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6724440" y="2795760"/>
              <a:ext cx="318960" cy="3204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7059600" y="3395880"/>
              <a:ext cx="363240" cy="3632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6345000" y="2981520"/>
              <a:ext cx="361800" cy="3618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1"/>
            <p:cNvSpPr/>
            <p:nvPr/>
          </p:nvSpPr>
          <p:spPr>
            <a:xfrm>
              <a:off x="6345000" y="3395880"/>
              <a:ext cx="361800" cy="3632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7059600" y="2981520"/>
              <a:ext cx="363240" cy="3618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26"/>
          <p:cNvGrpSpPr/>
          <p:nvPr/>
        </p:nvGrpSpPr>
        <p:grpSpPr>
          <a:xfrm>
            <a:off x="884160" y="1860480"/>
            <a:ext cx="1157400" cy="1157400"/>
            <a:chOff x="884160" y="1860480"/>
            <a:chExt cx="1157400" cy="1157400"/>
          </a:xfrm>
        </p:grpSpPr>
        <p:sp>
          <p:nvSpPr>
            <p:cNvPr id="192" name="Freeform 53"/>
            <p:cNvSpPr/>
            <p:nvPr/>
          </p:nvSpPr>
          <p:spPr>
            <a:xfrm>
              <a:off x="884160" y="1860480"/>
              <a:ext cx="1157400" cy="115740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>
              <a:off x="1299960" y="2274840"/>
              <a:ext cx="325440" cy="3268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5"/>
            <p:cNvSpPr/>
            <p:nvPr/>
          </p:nvSpPr>
          <p:spPr>
            <a:xfrm>
              <a:off x="956880" y="1933200"/>
              <a:ext cx="1011600" cy="10116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6"/>
            <p:cNvSpPr/>
            <p:nvPr/>
          </p:nvSpPr>
          <p:spPr>
            <a:xfrm>
              <a:off x="1309680" y="2608200"/>
              <a:ext cx="233280" cy="2347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7"/>
            <p:cNvSpPr/>
            <p:nvPr/>
          </p:nvSpPr>
          <p:spPr>
            <a:xfrm>
              <a:off x="1380960" y="2038320"/>
              <a:ext cx="234720" cy="2332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8"/>
            <p:cNvSpPr/>
            <p:nvPr/>
          </p:nvSpPr>
          <p:spPr>
            <a:xfrm>
              <a:off x="1566720" y="2489040"/>
              <a:ext cx="250920" cy="2509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9"/>
            <p:cNvSpPr/>
            <p:nvPr/>
          </p:nvSpPr>
          <p:spPr>
            <a:xfrm>
              <a:off x="1108080" y="2139840"/>
              <a:ext cx="247680" cy="2509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0"/>
            <p:cNvSpPr/>
            <p:nvPr/>
          </p:nvSpPr>
          <p:spPr>
            <a:xfrm>
              <a:off x="1071360" y="2427120"/>
              <a:ext cx="250920" cy="2509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1"/>
            <p:cNvSpPr/>
            <p:nvPr/>
          </p:nvSpPr>
          <p:spPr>
            <a:xfrm>
              <a:off x="1603440" y="2203200"/>
              <a:ext cx="249120" cy="2509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08"/>
          <p:cNvGrpSpPr/>
          <p:nvPr/>
        </p:nvGrpSpPr>
        <p:grpSpPr>
          <a:xfrm>
            <a:off x="5000760" y="3330720"/>
            <a:ext cx="1222200" cy="1222200"/>
            <a:chOff x="5000760" y="3330720"/>
            <a:chExt cx="1222200" cy="1222200"/>
          </a:xfrm>
        </p:grpSpPr>
        <p:sp>
          <p:nvSpPr>
            <p:cNvPr id="202" name="Freeform 62"/>
            <p:cNvSpPr/>
            <p:nvPr/>
          </p:nvSpPr>
          <p:spPr>
            <a:xfrm>
              <a:off x="5000760" y="3330720"/>
              <a:ext cx="1222200" cy="122220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3"/>
            <p:cNvSpPr/>
            <p:nvPr/>
          </p:nvSpPr>
          <p:spPr>
            <a:xfrm>
              <a:off x="5451480" y="3781440"/>
              <a:ext cx="320400" cy="31896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4"/>
            <p:cNvSpPr/>
            <p:nvPr/>
          </p:nvSpPr>
          <p:spPr>
            <a:xfrm>
              <a:off x="5145120" y="3475080"/>
              <a:ext cx="936720" cy="9367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1"/>
          <p:cNvGrpSpPr/>
          <p:nvPr/>
        </p:nvGrpSpPr>
        <p:grpSpPr>
          <a:xfrm>
            <a:off x="920880" y="1204920"/>
            <a:ext cx="682560" cy="682560"/>
            <a:chOff x="920880" y="1204920"/>
            <a:chExt cx="682560" cy="682560"/>
          </a:xfrm>
        </p:grpSpPr>
        <p:sp>
          <p:nvSpPr>
            <p:cNvPr id="206" name="Freeform 65"/>
            <p:cNvSpPr/>
            <p:nvPr/>
          </p:nvSpPr>
          <p:spPr>
            <a:xfrm>
              <a:off x="920880" y="1204920"/>
              <a:ext cx="682560" cy="68256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6"/>
            <p:cNvSpPr/>
            <p:nvPr/>
          </p:nvSpPr>
          <p:spPr>
            <a:xfrm>
              <a:off x="1171800" y="1458720"/>
              <a:ext cx="177840" cy="17784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1000080" y="1287360"/>
              <a:ext cx="520920" cy="5176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227"/>
          <p:cNvGrpSpPr/>
          <p:nvPr/>
        </p:nvGrpSpPr>
        <p:grpSpPr>
          <a:xfrm>
            <a:off x="1233360" y="2984400"/>
            <a:ext cx="576360" cy="576360"/>
            <a:chOff x="1233360" y="2984400"/>
            <a:chExt cx="576360" cy="576360"/>
          </a:xfrm>
        </p:grpSpPr>
        <p:sp>
          <p:nvSpPr>
            <p:cNvPr id="210" name="Freeform 68"/>
            <p:cNvSpPr/>
            <p:nvPr/>
          </p:nvSpPr>
          <p:spPr>
            <a:xfrm>
              <a:off x="1233360" y="2984400"/>
              <a:ext cx="576360" cy="57636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9"/>
            <p:cNvSpPr/>
            <p:nvPr/>
          </p:nvSpPr>
          <p:spPr>
            <a:xfrm>
              <a:off x="1444320" y="3198600"/>
              <a:ext cx="150840" cy="14760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0"/>
            <p:cNvSpPr/>
            <p:nvPr/>
          </p:nvSpPr>
          <p:spPr>
            <a:xfrm>
              <a:off x="1299960" y="3052440"/>
              <a:ext cx="441360" cy="43848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06"/>
          <p:cNvGrpSpPr/>
          <p:nvPr/>
        </p:nvGrpSpPr>
        <p:grpSpPr>
          <a:xfrm>
            <a:off x="3178080" y="4200480"/>
            <a:ext cx="1528920" cy="1525680"/>
            <a:chOff x="3178080" y="4200480"/>
            <a:chExt cx="1528920" cy="1525680"/>
          </a:xfrm>
        </p:grpSpPr>
        <p:sp>
          <p:nvSpPr>
            <p:cNvPr id="214" name="Freeform 71"/>
            <p:cNvSpPr/>
            <p:nvPr/>
          </p:nvSpPr>
          <p:spPr>
            <a:xfrm>
              <a:off x="3178080" y="4200480"/>
              <a:ext cx="1528920" cy="152568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2"/>
            <p:cNvSpPr/>
            <p:nvPr/>
          </p:nvSpPr>
          <p:spPr>
            <a:xfrm>
              <a:off x="3744720" y="4763880"/>
              <a:ext cx="398520" cy="3985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3"/>
            <p:cNvSpPr/>
            <p:nvPr/>
          </p:nvSpPr>
          <p:spPr>
            <a:xfrm>
              <a:off x="3358800" y="4381200"/>
              <a:ext cx="1167120" cy="11671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03"/>
          <p:cNvGrpSpPr/>
          <p:nvPr/>
        </p:nvGrpSpPr>
        <p:grpSpPr>
          <a:xfrm>
            <a:off x="5996160" y="4100400"/>
            <a:ext cx="760320" cy="762120"/>
            <a:chOff x="5996160" y="4100400"/>
            <a:chExt cx="760320" cy="762120"/>
          </a:xfrm>
        </p:grpSpPr>
        <p:sp>
          <p:nvSpPr>
            <p:cNvPr id="218" name="Freeform 74"/>
            <p:cNvSpPr/>
            <p:nvPr/>
          </p:nvSpPr>
          <p:spPr>
            <a:xfrm>
              <a:off x="5996160" y="4100400"/>
              <a:ext cx="760320" cy="762120"/>
            </a:xfrm>
            <a:prstGeom prst="pie">
              <a:avLst/>
            </a:pr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5"/>
            <p:cNvSpPr/>
            <p:nvPr/>
          </p:nvSpPr>
          <p:spPr>
            <a:xfrm>
              <a:off x="6289920" y="4400280"/>
              <a:ext cx="166680" cy="168120"/>
            </a:xfrm>
            <a:prstGeom prst="pie">
              <a:avLst/>
            </a:pr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8"/>
          <p:cNvSpPr/>
          <p:nvPr/>
        </p:nvSpPr>
        <p:spPr>
          <a:xfrm>
            <a:off x="5668920" y="4473720"/>
            <a:ext cx="633600" cy="633240"/>
          </a:xfrm>
          <a:prstGeom prst="pie">
            <a:avLst/>
          </a:pr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9"/>
          <p:cNvSpPr/>
          <p:nvPr/>
        </p:nvSpPr>
        <p:spPr>
          <a:xfrm>
            <a:off x="7280280" y="812880"/>
            <a:ext cx="617400" cy="619200"/>
          </a:xfrm>
          <a:prstGeom prst="pie">
            <a:avLst/>
          </a:pr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219"/>
          <p:cNvGrpSpPr/>
          <p:nvPr/>
        </p:nvGrpSpPr>
        <p:grpSpPr>
          <a:xfrm>
            <a:off x="4630680" y="1046160"/>
            <a:ext cx="666720" cy="666720"/>
            <a:chOff x="4630680" y="1046160"/>
            <a:chExt cx="666720" cy="666720"/>
          </a:xfrm>
        </p:grpSpPr>
        <p:sp>
          <p:nvSpPr>
            <p:cNvPr id="223" name="Freeform 80"/>
            <p:cNvSpPr/>
            <p:nvPr/>
          </p:nvSpPr>
          <p:spPr>
            <a:xfrm>
              <a:off x="4630680" y="1046160"/>
              <a:ext cx="666720" cy="66672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1"/>
            <p:cNvSpPr/>
            <p:nvPr/>
          </p:nvSpPr>
          <p:spPr>
            <a:xfrm>
              <a:off x="4684680" y="1095120"/>
              <a:ext cx="558720" cy="56376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2"/>
            <p:cNvSpPr/>
            <p:nvPr/>
          </p:nvSpPr>
          <p:spPr>
            <a:xfrm>
              <a:off x="4856040" y="1270080"/>
              <a:ext cx="21276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11"/>
          <p:cNvGrpSpPr/>
          <p:nvPr/>
        </p:nvGrpSpPr>
        <p:grpSpPr>
          <a:xfrm>
            <a:off x="5197320" y="2806560"/>
            <a:ext cx="1081080" cy="1076400"/>
            <a:chOff x="5197320" y="2806560"/>
            <a:chExt cx="1081080" cy="1076400"/>
          </a:xfrm>
        </p:grpSpPr>
        <p:sp>
          <p:nvSpPr>
            <p:cNvPr id="227" name="Freeform 83"/>
            <p:cNvSpPr/>
            <p:nvPr/>
          </p:nvSpPr>
          <p:spPr>
            <a:xfrm>
              <a:off x="5197320" y="2806560"/>
              <a:ext cx="1081080" cy="107640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4"/>
            <p:cNvSpPr/>
            <p:nvPr/>
          </p:nvSpPr>
          <p:spPr>
            <a:xfrm>
              <a:off x="5283000" y="2892240"/>
              <a:ext cx="909720" cy="9097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5"/>
            <p:cNvSpPr/>
            <p:nvPr/>
          </p:nvSpPr>
          <p:spPr>
            <a:xfrm>
              <a:off x="5563800" y="3171600"/>
              <a:ext cx="345960" cy="34596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86"/>
          <p:cNvSpPr/>
          <p:nvPr/>
        </p:nvSpPr>
        <p:spPr>
          <a:xfrm>
            <a:off x="6707160" y="2446200"/>
            <a:ext cx="1206360" cy="1206720"/>
          </a:xfrm>
          <a:prstGeom prst="pie">
            <a:avLst/>
          </a:pr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7"/>
          <p:cNvSpPr/>
          <p:nvPr/>
        </p:nvSpPr>
        <p:spPr>
          <a:xfrm>
            <a:off x="1236600" y="433440"/>
            <a:ext cx="1693800" cy="1693800"/>
          </a:xfrm>
          <a:prstGeom prst="pie">
            <a:avLst/>
          </a:pr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16"/>
          <p:cNvGrpSpPr/>
          <p:nvPr/>
        </p:nvGrpSpPr>
        <p:grpSpPr>
          <a:xfrm>
            <a:off x="5748480" y="185760"/>
            <a:ext cx="1325520" cy="1325520"/>
            <a:chOff x="5748480" y="185760"/>
            <a:chExt cx="1325520" cy="1325520"/>
          </a:xfrm>
        </p:grpSpPr>
        <p:sp>
          <p:nvSpPr>
            <p:cNvPr id="233" name="Freeform 88"/>
            <p:cNvSpPr/>
            <p:nvPr/>
          </p:nvSpPr>
          <p:spPr>
            <a:xfrm>
              <a:off x="5748480" y="185760"/>
              <a:ext cx="1325520" cy="132552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9"/>
            <p:cNvSpPr/>
            <p:nvPr/>
          </p:nvSpPr>
          <p:spPr>
            <a:xfrm>
              <a:off x="6302520" y="746280"/>
              <a:ext cx="21420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99"/>
          <p:cNvGrpSpPr/>
          <p:nvPr/>
        </p:nvGrpSpPr>
        <p:grpSpPr>
          <a:xfrm>
            <a:off x="4848120" y="5284800"/>
            <a:ext cx="655920" cy="655560"/>
            <a:chOff x="4848120" y="5284800"/>
            <a:chExt cx="655920" cy="655560"/>
          </a:xfrm>
        </p:grpSpPr>
        <p:sp>
          <p:nvSpPr>
            <p:cNvPr id="236" name="Freeform 90"/>
            <p:cNvSpPr/>
            <p:nvPr/>
          </p:nvSpPr>
          <p:spPr>
            <a:xfrm>
              <a:off x="4848120" y="5284800"/>
              <a:ext cx="655920" cy="65556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1"/>
            <p:cNvSpPr/>
            <p:nvPr/>
          </p:nvSpPr>
          <p:spPr>
            <a:xfrm>
              <a:off x="5122800" y="5560920"/>
              <a:ext cx="104760" cy="10476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04"/>
          <p:cNvGrpSpPr/>
          <p:nvPr/>
        </p:nvGrpSpPr>
        <p:grpSpPr>
          <a:xfrm>
            <a:off x="2881440" y="3106800"/>
            <a:ext cx="2560680" cy="2563920"/>
            <a:chOff x="2881440" y="3106800"/>
            <a:chExt cx="2560680" cy="2563920"/>
          </a:xfrm>
        </p:grpSpPr>
        <p:sp>
          <p:nvSpPr>
            <p:cNvPr id="239" name="Freeform 92"/>
            <p:cNvSpPr/>
            <p:nvPr/>
          </p:nvSpPr>
          <p:spPr>
            <a:xfrm>
              <a:off x="2881440" y="3106800"/>
              <a:ext cx="2560680" cy="256392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3"/>
            <p:cNvSpPr/>
            <p:nvPr/>
          </p:nvSpPr>
          <p:spPr>
            <a:xfrm>
              <a:off x="3857760" y="4087800"/>
              <a:ext cx="609480" cy="609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4"/>
            <p:cNvSpPr/>
            <p:nvPr/>
          </p:nvSpPr>
          <p:spPr>
            <a:xfrm>
              <a:off x="3092400" y="3324240"/>
              <a:ext cx="2138400" cy="21384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07"/>
          <p:cNvGrpSpPr/>
          <p:nvPr/>
        </p:nvGrpSpPr>
        <p:grpSpPr>
          <a:xfrm>
            <a:off x="2014560" y="3665520"/>
            <a:ext cx="882720" cy="884160"/>
            <a:chOff x="2014560" y="3665520"/>
            <a:chExt cx="882720" cy="884160"/>
          </a:xfrm>
        </p:grpSpPr>
        <p:sp>
          <p:nvSpPr>
            <p:cNvPr id="243" name="Freeform 95"/>
            <p:cNvSpPr/>
            <p:nvPr/>
          </p:nvSpPr>
          <p:spPr>
            <a:xfrm>
              <a:off x="2014560" y="3665520"/>
              <a:ext cx="882720" cy="88416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2351160" y="4005000"/>
              <a:ext cx="210960" cy="2077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7"/>
            <p:cNvSpPr/>
            <p:nvPr/>
          </p:nvSpPr>
          <p:spPr>
            <a:xfrm>
              <a:off x="2087280" y="3741480"/>
              <a:ext cx="738360" cy="7351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12"/>
          <p:cNvGrpSpPr/>
          <p:nvPr/>
        </p:nvGrpSpPr>
        <p:grpSpPr>
          <a:xfrm>
            <a:off x="7380360" y="1768320"/>
            <a:ext cx="882720" cy="882720"/>
            <a:chOff x="7380360" y="1768320"/>
            <a:chExt cx="882720" cy="882720"/>
          </a:xfrm>
        </p:grpSpPr>
        <p:sp>
          <p:nvSpPr>
            <p:cNvPr id="247" name="Freeform 98"/>
            <p:cNvSpPr/>
            <p:nvPr/>
          </p:nvSpPr>
          <p:spPr>
            <a:xfrm>
              <a:off x="7380360" y="1768320"/>
              <a:ext cx="882720" cy="88272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7702560" y="2090520"/>
              <a:ext cx="237960" cy="241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Freeform 100"/>
          <p:cNvSpPr/>
          <p:nvPr/>
        </p:nvSpPr>
        <p:spPr>
          <a:xfrm>
            <a:off x="7402680" y="1793880"/>
            <a:ext cx="836280" cy="83808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28"/>
          <p:cNvGrpSpPr/>
          <p:nvPr/>
        </p:nvGrpSpPr>
        <p:grpSpPr>
          <a:xfrm>
            <a:off x="1649520" y="2700360"/>
            <a:ext cx="974520" cy="979560"/>
            <a:chOff x="1649520" y="2700360"/>
            <a:chExt cx="974520" cy="979560"/>
          </a:xfrm>
        </p:grpSpPr>
        <p:sp>
          <p:nvSpPr>
            <p:cNvPr id="251" name="Freeform 101"/>
            <p:cNvSpPr/>
            <p:nvPr/>
          </p:nvSpPr>
          <p:spPr>
            <a:xfrm>
              <a:off x="1649520" y="2700360"/>
              <a:ext cx="974520" cy="97956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2008080" y="3060720"/>
              <a:ext cx="257040" cy="25884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1735200" y="2786040"/>
              <a:ext cx="803160" cy="808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2044800" y="3340080"/>
              <a:ext cx="183960" cy="187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2044800" y="2852640"/>
              <a:ext cx="183960" cy="187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2241720" y="3205080"/>
              <a:ext cx="21096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1820880" y="2960640"/>
              <a:ext cx="20952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1820880" y="3205080"/>
              <a:ext cx="20952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2241720" y="2960640"/>
              <a:ext cx="210960" cy="2142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110"/>
          <p:cNvSpPr/>
          <p:nvPr/>
        </p:nvSpPr>
        <p:spPr>
          <a:xfrm>
            <a:off x="5607000" y="1490760"/>
            <a:ext cx="1416240" cy="1420560"/>
          </a:xfrm>
          <a:prstGeom prst="pie">
            <a:avLst/>
          </a:pr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1"/>
          <p:cNvSpPr/>
          <p:nvPr/>
        </p:nvSpPr>
        <p:spPr>
          <a:xfrm>
            <a:off x="6114960" y="2001960"/>
            <a:ext cx="401760" cy="39852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12"/>
          <p:cNvSpPr/>
          <p:nvPr/>
        </p:nvSpPr>
        <p:spPr>
          <a:xfrm>
            <a:off x="5695920" y="1579680"/>
            <a:ext cx="1238400" cy="124272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13"/>
          <p:cNvSpPr/>
          <p:nvPr/>
        </p:nvSpPr>
        <p:spPr>
          <a:xfrm>
            <a:off x="6127920" y="2408400"/>
            <a:ext cx="285480" cy="28872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14"/>
          <p:cNvSpPr/>
          <p:nvPr/>
        </p:nvSpPr>
        <p:spPr>
          <a:xfrm>
            <a:off x="6216480" y="1708200"/>
            <a:ext cx="285840" cy="28728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15"/>
          <p:cNvSpPr/>
          <p:nvPr/>
        </p:nvSpPr>
        <p:spPr>
          <a:xfrm>
            <a:off x="6443640" y="2262240"/>
            <a:ext cx="306360" cy="30636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16"/>
          <p:cNvSpPr/>
          <p:nvPr/>
        </p:nvSpPr>
        <p:spPr>
          <a:xfrm>
            <a:off x="5880240" y="1833480"/>
            <a:ext cx="306360" cy="30636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7"/>
          <p:cNvSpPr/>
          <p:nvPr/>
        </p:nvSpPr>
        <p:spPr>
          <a:xfrm>
            <a:off x="5834160" y="2185920"/>
            <a:ext cx="309600" cy="30636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18"/>
          <p:cNvSpPr/>
          <p:nvPr/>
        </p:nvSpPr>
        <p:spPr>
          <a:xfrm>
            <a:off x="6486480" y="1909800"/>
            <a:ext cx="309600" cy="309600"/>
          </a:xfrm>
          <a:prstGeom prst="pie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30"/>
          <p:cNvGrpSpPr/>
          <p:nvPr/>
        </p:nvGrpSpPr>
        <p:grpSpPr>
          <a:xfrm>
            <a:off x="2690640" y="1030320"/>
            <a:ext cx="2062440" cy="2062080"/>
            <a:chOff x="2690640" y="1030320"/>
            <a:chExt cx="2062440" cy="2062080"/>
          </a:xfrm>
        </p:grpSpPr>
        <p:grpSp>
          <p:nvGrpSpPr>
            <p:cNvPr id="270" name="组合 229"/>
            <p:cNvGrpSpPr/>
            <p:nvPr/>
          </p:nvGrpSpPr>
          <p:grpSpPr>
            <a:xfrm>
              <a:off x="2690640" y="1030320"/>
              <a:ext cx="2062440" cy="2062080"/>
              <a:chOff x="2690640" y="1030320"/>
              <a:chExt cx="2062440" cy="2062080"/>
            </a:xfrm>
          </p:grpSpPr>
          <p:sp>
            <p:nvSpPr>
              <p:cNvPr id="271" name="Freeform 119"/>
              <p:cNvSpPr/>
              <p:nvPr/>
            </p:nvSpPr>
            <p:spPr>
              <a:xfrm>
                <a:off x="2690640" y="1030320"/>
                <a:ext cx="2062440" cy="2062080"/>
              </a:xfrm>
              <a:prstGeom prst="pie">
                <a:avLst/>
              </a:pr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>
                <a:off x="2819160" y="1158840"/>
                <a:ext cx="1805400" cy="18050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>
                <a:off x="3448080" y="2360520"/>
                <a:ext cx="419040" cy="4190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>
                <a:off x="3576600" y="1342800"/>
                <a:ext cx="419040" cy="4190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>
                <a:off x="3909960" y="2151000"/>
                <a:ext cx="444600" cy="4442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>
                <a:off x="3089160" y="1527120"/>
                <a:ext cx="444600" cy="4460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>
                <a:off x="3022200" y="2038320"/>
                <a:ext cx="449280" cy="4442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>
                <a:off x="3971880" y="1639800"/>
                <a:ext cx="447480" cy="44424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120"/>
            <p:cNvSpPr/>
            <p:nvPr/>
          </p:nvSpPr>
          <p:spPr>
            <a:xfrm>
              <a:off x="3429000" y="1771560"/>
              <a:ext cx="582480" cy="57924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24"/>
          <p:cNvGrpSpPr/>
          <p:nvPr/>
        </p:nvGrpSpPr>
        <p:grpSpPr>
          <a:xfrm>
            <a:off x="3586320" y="588960"/>
            <a:ext cx="352440" cy="352440"/>
            <a:chOff x="3586320" y="588960"/>
            <a:chExt cx="352440" cy="352440"/>
          </a:xfrm>
        </p:grpSpPr>
        <p:sp>
          <p:nvSpPr>
            <p:cNvPr id="281" name="Freeform 128"/>
            <p:cNvSpPr/>
            <p:nvPr/>
          </p:nvSpPr>
          <p:spPr>
            <a:xfrm>
              <a:off x="3586320" y="588960"/>
              <a:ext cx="352440" cy="35244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9"/>
            <p:cNvSpPr/>
            <p:nvPr/>
          </p:nvSpPr>
          <p:spPr>
            <a:xfrm>
              <a:off x="3718080" y="720720"/>
              <a:ext cx="92160" cy="88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0"/>
            <p:cNvSpPr/>
            <p:nvPr/>
          </p:nvSpPr>
          <p:spPr>
            <a:xfrm>
              <a:off x="3629160" y="631800"/>
              <a:ext cx="270000" cy="26676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01"/>
          <p:cNvGrpSpPr/>
          <p:nvPr/>
        </p:nvGrpSpPr>
        <p:grpSpPr>
          <a:xfrm>
            <a:off x="6348240" y="3922560"/>
            <a:ext cx="671760" cy="673200"/>
            <a:chOff x="6348240" y="3922560"/>
            <a:chExt cx="671760" cy="673200"/>
          </a:xfrm>
        </p:grpSpPr>
        <p:sp>
          <p:nvSpPr>
            <p:cNvPr id="285" name="Freeform 131"/>
            <p:cNvSpPr/>
            <p:nvPr/>
          </p:nvSpPr>
          <p:spPr>
            <a:xfrm>
              <a:off x="6348240" y="3922560"/>
              <a:ext cx="671760" cy="67320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2"/>
            <p:cNvSpPr/>
            <p:nvPr/>
          </p:nvSpPr>
          <p:spPr>
            <a:xfrm>
              <a:off x="6595920" y="4173480"/>
              <a:ext cx="174600" cy="17460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3"/>
            <p:cNvSpPr/>
            <p:nvPr/>
          </p:nvSpPr>
          <p:spPr>
            <a:xfrm>
              <a:off x="6427440" y="4001760"/>
              <a:ext cx="514800" cy="51444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97"/>
          <p:cNvGrpSpPr/>
          <p:nvPr/>
        </p:nvGrpSpPr>
        <p:grpSpPr>
          <a:xfrm>
            <a:off x="4070520" y="5888160"/>
            <a:ext cx="510840" cy="509400"/>
            <a:chOff x="4070520" y="5888160"/>
            <a:chExt cx="510840" cy="509400"/>
          </a:xfrm>
        </p:grpSpPr>
        <p:sp>
          <p:nvSpPr>
            <p:cNvPr id="289" name="Freeform 134"/>
            <p:cNvSpPr/>
            <p:nvPr/>
          </p:nvSpPr>
          <p:spPr>
            <a:xfrm>
              <a:off x="4070520" y="5888160"/>
              <a:ext cx="510840" cy="509400"/>
            </a:xfrm>
            <a:prstGeom prst="pie">
              <a:avLst/>
            </a:pr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5"/>
            <p:cNvSpPr/>
            <p:nvPr/>
          </p:nvSpPr>
          <p:spPr>
            <a:xfrm>
              <a:off x="4278240" y="6091200"/>
              <a:ext cx="99720" cy="10296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225"/>
          <p:cNvGrpSpPr/>
          <p:nvPr/>
        </p:nvGrpSpPr>
        <p:grpSpPr>
          <a:xfrm>
            <a:off x="1922400" y="1900080"/>
            <a:ext cx="870120" cy="866880"/>
            <a:chOff x="1922400" y="1900080"/>
            <a:chExt cx="870120" cy="866880"/>
          </a:xfrm>
        </p:grpSpPr>
        <p:sp>
          <p:nvSpPr>
            <p:cNvPr id="292" name="Freeform 137"/>
            <p:cNvSpPr/>
            <p:nvPr/>
          </p:nvSpPr>
          <p:spPr>
            <a:xfrm>
              <a:off x="1922400" y="1900080"/>
              <a:ext cx="870120" cy="866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8"/>
            <p:cNvSpPr/>
            <p:nvPr/>
          </p:nvSpPr>
          <p:spPr>
            <a:xfrm>
              <a:off x="1992240" y="1968120"/>
              <a:ext cx="730440" cy="7290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39"/>
            <p:cNvSpPr/>
            <p:nvPr/>
          </p:nvSpPr>
          <p:spPr>
            <a:xfrm>
              <a:off x="2219400" y="2193840"/>
              <a:ext cx="276120" cy="27936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140"/>
          <p:cNvSpPr/>
          <p:nvPr/>
        </p:nvSpPr>
        <p:spPr>
          <a:xfrm>
            <a:off x="6342120" y="2151000"/>
            <a:ext cx="876240" cy="876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41"/>
          <p:cNvSpPr/>
          <p:nvPr/>
        </p:nvSpPr>
        <p:spPr>
          <a:xfrm>
            <a:off x="1322280" y="2262240"/>
            <a:ext cx="765360" cy="76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232"/>
          <p:cNvGrpSpPr/>
          <p:nvPr/>
        </p:nvGrpSpPr>
        <p:grpSpPr>
          <a:xfrm>
            <a:off x="2430360" y="2460600"/>
            <a:ext cx="1113120" cy="1112760"/>
            <a:chOff x="2430360" y="2460600"/>
            <a:chExt cx="1113120" cy="1112760"/>
          </a:xfrm>
        </p:grpSpPr>
        <p:sp>
          <p:nvSpPr>
            <p:cNvPr id="298" name="Freeform 142"/>
            <p:cNvSpPr/>
            <p:nvPr/>
          </p:nvSpPr>
          <p:spPr>
            <a:xfrm>
              <a:off x="2430360" y="2460600"/>
              <a:ext cx="1113120" cy="1112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3"/>
            <p:cNvSpPr/>
            <p:nvPr/>
          </p:nvSpPr>
          <p:spPr>
            <a:xfrm>
              <a:off x="2894040" y="2932200"/>
              <a:ext cx="182520" cy="1807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10"/>
          <p:cNvGrpSpPr/>
          <p:nvPr/>
        </p:nvGrpSpPr>
        <p:grpSpPr>
          <a:xfrm>
            <a:off x="5923080" y="2789280"/>
            <a:ext cx="566640" cy="566640"/>
            <a:chOff x="5923080" y="2789280"/>
            <a:chExt cx="566640" cy="566640"/>
          </a:xfrm>
        </p:grpSpPr>
        <p:sp>
          <p:nvSpPr>
            <p:cNvPr id="301" name="Freeform 144"/>
            <p:cNvSpPr/>
            <p:nvPr/>
          </p:nvSpPr>
          <p:spPr>
            <a:xfrm>
              <a:off x="5923080" y="2789280"/>
              <a:ext cx="566640" cy="566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5"/>
            <p:cNvSpPr/>
            <p:nvPr/>
          </p:nvSpPr>
          <p:spPr>
            <a:xfrm>
              <a:off x="6161040" y="3030480"/>
              <a:ext cx="91800" cy="918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214"/>
          <p:cNvGrpSpPr/>
          <p:nvPr/>
        </p:nvGrpSpPr>
        <p:grpSpPr>
          <a:xfrm>
            <a:off x="4624560" y="1230480"/>
            <a:ext cx="1806480" cy="1809720"/>
            <a:chOff x="4624560" y="1230480"/>
            <a:chExt cx="1806480" cy="1809720"/>
          </a:xfrm>
        </p:grpSpPr>
        <p:sp>
          <p:nvSpPr>
            <p:cNvPr id="304" name="Freeform 146"/>
            <p:cNvSpPr/>
            <p:nvPr/>
          </p:nvSpPr>
          <p:spPr>
            <a:xfrm>
              <a:off x="4624560" y="1230480"/>
              <a:ext cx="1806480" cy="1809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7"/>
            <p:cNvSpPr/>
            <p:nvPr/>
          </p:nvSpPr>
          <p:spPr>
            <a:xfrm>
              <a:off x="5313600" y="1922400"/>
              <a:ext cx="431640" cy="4316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8"/>
            <p:cNvSpPr/>
            <p:nvPr/>
          </p:nvSpPr>
          <p:spPr>
            <a:xfrm>
              <a:off x="4776840" y="1382760"/>
              <a:ext cx="1508040" cy="15098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231"/>
          <p:cNvGrpSpPr/>
          <p:nvPr/>
        </p:nvGrpSpPr>
        <p:grpSpPr>
          <a:xfrm>
            <a:off x="3484440" y="2301840"/>
            <a:ext cx="879480" cy="882720"/>
            <a:chOff x="3484440" y="2301840"/>
            <a:chExt cx="879480" cy="882720"/>
          </a:xfrm>
        </p:grpSpPr>
        <p:sp>
          <p:nvSpPr>
            <p:cNvPr id="308" name="Freeform 149"/>
            <p:cNvSpPr/>
            <p:nvPr/>
          </p:nvSpPr>
          <p:spPr>
            <a:xfrm>
              <a:off x="3484440" y="2301840"/>
              <a:ext cx="879480" cy="882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0"/>
            <p:cNvSpPr/>
            <p:nvPr/>
          </p:nvSpPr>
          <p:spPr>
            <a:xfrm>
              <a:off x="3803400" y="2625840"/>
              <a:ext cx="241200" cy="23976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1"/>
            <p:cNvSpPr/>
            <p:nvPr/>
          </p:nvSpPr>
          <p:spPr>
            <a:xfrm>
              <a:off x="3503160" y="2325600"/>
              <a:ext cx="838440" cy="8370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23"/>
          <p:cNvGrpSpPr/>
          <p:nvPr/>
        </p:nvGrpSpPr>
        <p:grpSpPr>
          <a:xfrm>
            <a:off x="1913040" y="920880"/>
            <a:ext cx="977760" cy="979200"/>
            <a:chOff x="1913040" y="920880"/>
            <a:chExt cx="977760" cy="979200"/>
          </a:xfrm>
        </p:grpSpPr>
        <p:sp>
          <p:nvSpPr>
            <p:cNvPr id="312" name="Freeform 152"/>
            <p:cNvSpPr/>
            <p:nvPr/>
          </p:nvSpPr>
          <p:spPr>
            <a:xfrm>
              <a:off x="1913040" y="920880"/>
              <a:ext cx="977760" cy="979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3"/>
            <p:cNvSpPr/>
            <p:nvPr/>
          </p:nvSpPr>
          <p:spPr>
            <a:xfrm>
              <a:off x="2271600" y="1281240"/>
              <a:ext cx="260280" cy="260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54"/>
            <p:cNvSpPr/>
            <p:nvPr/>
          </p:nvSpPr>
          <p:spPr>
            <a:xfrm>
              <a:off x="1998720" y="1006560"/>
              <a:ext cx="806400" cy="8078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5"/>
            <p:cNvSpPr/>
            <p:nvPr/>
          </p:nvSpPr>
          <p:spPr>
            <a:xfrm>
              <a:off x="2308320" y="1560600"/>
              <a:ext cx="187200" cy="187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6"/>
            <p:cNvSpPr/>
            <p:nvPr/>
          </p:nvSpPr>
          <p:spPr>
            <a:xfrm>
              <a:off x="2308320" y="1073160"/>
              <a:ext cx="187200" cy="187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57"/>
            <p:cNvSpPr/>
            <p:nvPr/>
          </p:nvSpPr>
          <p:spPr>
            <a:xfrm>
              <a:off x="2505240" y="1425600"/>
              <a:ext cx="214200" cy="214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8"/>
            <p:cNvSpPr/>
            <p:nvPr/>
          </p:nvSpPr>
          <p:spPr>
            <a:xfrm>
              <a:off x="2084400" y="1181160"/>
              <a:ext cx="214200" cy="214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9"/>
            <p:cNvSpPr/>
            <p:nvPr/>
          </p:nvSpPr>
          <p:spPr>
            <a:xfrm>
              <a:off x="2084400" y="1425600"/>
              <a:ext cx="214200" cy="214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0"/>
            <p:cNvSpPr/>
            <p:nvPr/>
          </p:nvSpPr>
          <p:spPr>
            <a:xfrm>
              <a:off x="2505240" y="1181160"/>
              <a:ext cx="214200" cy="214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202"/>
          <p:cNvGrpSpPr/>
          <p:nvPr/>
        </p:nvGrpSpPr>
        <p:grpSpPr>
          <a:xfrm>
            <a:off x="5656320" y="3821040"/>
            <a:ext cx="671400" cy="671760"/>
            <a:chOff x="5656320" y="3821040"/>
            <a:chExt cx="671400" cy="671760"/>
          </a:xfrm>
        </p:grpSpPr>
        <p:sp>
          <p:nvSpPr>
            <p:cNvPr id="322" name="Freeform 161"/>
            <p:cNvSpPr/>
            <p:nvPr/>
          </p:nvSpPr>
          <p:spPr>
            <a:xfrm>
              <a:off x="5656320" y="3821040"/>
              <a:ext cx="671400" cy="671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2"/>
            <p:cNvSpPr/>
            <p:nvPr/>
          </p:nvSpPr>
          <p:spPr>
            <a:xfrm>
              <a:off x="5904000" y="4068720"/>
              <a:ext cx="177840" cy="1778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3"/>
            <p:cNvSpPr/>
            <p:nvPr/>
          </p:nvSpPr>
          <p:spPr>
            <a:xfrm>
              <a:off x="5715000" y="3879720"/>
              <a:ext cx="554040" cy="5544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64"/>
            <p:cNvSpPr/>
            <p:nvPr/>
          </p:nvSpPr>
          <p:spPr>
            <a:xfrm>
              <a:off x="5925960" y="4262760"/>
              <a:ext cx="128520" cy="1285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5"/>
            <p:cNvSpPr/>
            <p:nvPr/>
          </p:nvSpPr>
          <p:spPr>
            <a:xfrm>
              <a:off x="5925960" y="3925800"/>
              <a:ext cx="128520" cy="1285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66"/>
            <p:cNvSpPr/>
            <p:nvPr/>
          </p:nvSpPr>
          <p:spPr>
            <a:xfrm>
              <a:off x="6064200" y="4167360"/>
              <a:ext cx="145800" cy="1476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67"/>
            <p:cNvSpPr/>
            <p:nvPr/>
          </p:nvSpPr>
          <p:spPr>
            <a:xfrm>
              <a:off x="5772240" y="3998880"/>
              <a:ext cx="147600" cy="1490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68"/>
            <p:cNvSpPr/>
            <p:nvPr/>
          </p:nvSpPr>
          <p:spPr>
            <a:xfrm>
              <a:off x="5772240" y="4167360"/>
              <a:ext cx="147600" cy="1476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9"/>
            <p:cNvSpPr/>
            <p:nvPr/>
          </p:nvSpPr>
          <p:spPr>
            <a:xfrm>
              <a:off x="6064200" y="3998880"/>
              <a:ext cx="145800" cy="1490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15"/>
          <p:cNvGrpSpPr/>
          <p:nvPr/>
        </p:nvGrpSpPr>
        <p:grpSpPr>
          <a:xfrm>
            <a:off x="5649840" y="681120"/>
            <a:ext cx="674640" cy="671400"/>
            <a:chOff x="5649840" y="681120"/>
            <a:chExt cx="674640" cy="671400"/>
          </a:xfrm>
        </p:grpSpPr>
        <p:sp>
          <p:nvSpPr>
            <p:cNvPr id="332" name="Freeform 170"/>
            <p:cNvSpPr/>
            <p:nvPr/>
          </p:nvSpPr>
          <p:spPr>
            <a:xfrm>
              <a:off x="5649840" y="681120"/>
              <a:ext cx="674640" cy="671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1"/>
            <p:cNvSpPr/>
            <p:nvPr/>
          </p:nvSpPr>
          <p:spPr>
            <a:xfrm>
              <a:off x="5900760" y="927000"/>
              <a:ext cx="174600" cy="1760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2"/>
            <p:cNvSpPr/>
            <p:nvPr/>
          </p:nvSpPr>
          <p:spPr>
            <a:xfrm>
              <a:off x="5732280" y="760320"/>
              <a:ext cx="514440" cy="51264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Freeform 173"/>
          <p:cNvSpPr/>
          <p:nvPr/>
        </p:nvSpPr>
        <p:spPr>
          <a:xfrm>
            <a:off x="2682720" y="1386000"/>
            <a:ext cx="1160640" cy="1160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4"/>
          <p:cNvSpPr/>
          <p:nvPr/>
        </p:nvSpPr>
        <p:spPr>
          <a:xfrm>
            <a:off x="3151080" y="1854360"/>
            <a:ext cx="227160" cy="226800"/>
          </a:xfrm>
          <a:prstGeom prst="pie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图文框 23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37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35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[久石让]久石让-summer2.wav" descr=""/>
          <p:cNvPicPr/>
          <p:nvPr/>
        </p:nvPicPr>
        <p:blipFill>
          <a:blip r:embed="rId1"/>
          <a:stretch/>
        </p:blipFill>
        <p:spPr>
          <a:xfrm>
            <a:off x="27147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6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6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" dur="6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6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6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6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6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6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6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" dur="6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" dur="6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6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6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6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6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" dur="6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6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3" dur="6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6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6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9" dur="6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1" dur="6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6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6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7" dur="6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6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1" dur="6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6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6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6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" dur="6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6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3" dur="6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6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6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9" dur="6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6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6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5" dur="6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6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9" dur="6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6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" dur="6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6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7" dur="6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6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" dur="6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6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6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6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6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1" dur="6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6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6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7" dur="6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6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6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" dur="6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6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6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1" dur="6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6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" dur="6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6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图文框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"/>
          <p:cNvSpPr/>
          <p:nvPr/>
        </p:nvSpPr>
        <p:spPr>
          <a:xfrm>
            <a:off x="2627280" y="23828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 Black"/>
              </a:rPr>
              <a:t>MADE IN HI-H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E:\新模板\logo定 [Converted].png"/>
          <p:cNvPicPr/>
          <p:nvPr/>
        </p:nvPicPr>
        <p:blipFill>
          <a:blip r:embed="rId1"/>
          <a:stretch/>
        </p:blipFill>
        <p:spPr>
          <a:xfrm>
            <a:off x="3220920" y="2952720"/>
            <a:ext cx="2702160" cy="952560"/>
          </a:xfrm>
          <a:prstGeom prst="rect">
            <a:avLst/>
          </a:prstGeom>
          <a:ln w="0">
            <a:noFill/>
          </a:ln>
        </p:spPr>
      </p:pic>
      <p:sp>
        <p:nvSpPr>
          <p:cNvPr id="345" name="矩形 9"/>
          <p:cNvSpPr/>
          <p:nvPr/>
        </p:nvSpPr>
        <p:spPr>
          <a:xfrm>
            <a:off x="-36360" y="2841480"/>
            <a:ext cx="9216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-36360" y="3994200"/>
            <a:ext cx="92167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E:\2010\七夕\未标题-22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306600" y="4106880"/>
            <a:ext cx="2529000" cy="2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63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32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16">
                                          <p:stCondLst>
                                            <p:cond delay="463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7">
                                          <p:stCondLst>
                                            <p:cond delay="58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9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58" fill="hold">
                                          <p:stCondLst>
                                            <p:cond delay="237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9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58" fill="hold">
                                          <p:stCondLst>
                                            <p:cond delay="4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9" fill="hold">
                                          <p:stCondLst>
                                            <p:cond delay="57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58" fill="hold">
                                          <p:stCondLst>
                                            <p:cond delay="58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9" fill="hold">
                                          <p:stCondLst>
                                            <p:cond delay="633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58" fill="hold">
                                          <p:stCondLst>
                                            <p:cond delay="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4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240"/>
                            </p:stCondLst>
                            <p:childTnLst>
                              <p:par>
                                <p:cTn id="178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240"/>
                            </p:stCondLst>
                            <p:childTnLst>
                              <p:par>
                                <p:cTn id="18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90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240"/>
                            </p:stCondLst>
                            <p:childTnLst>
                              <p:par>
                                <p:cTn id="1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81503E-006 L 0 0.46128 E">
                                      <p:cBhvr>
                                        <p:cTn id="20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32948E-006 L 0 -0.4615 E">
                                      <p:cBhvr>
                                        <p:cTn id="202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E:\2010\七夕\未标题-19.png"/>
          <p:cNvPicPr/>
          <p:nvPr/>
        </p:nvPicPr>
        <p:blipFill>
          <a:blip r:embed="rId2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7" descr="E:\2010\七夕\未标题-17.png"/>
          <p:cNvPicPr/>
          <p:nvPr/>
        </p:nvPicPr>
        <p:blipFill>
          <a:blip r:embed="rId3"/>
          <a:srcRect l="44597" t="21646" r="36626" b="34269"/>
          <a:stretch/>
        </p:blipFill>
        <p:spPr>
          <a:xfrm>
            <a:off x="4078440" y="1484280"/>
            <a:ext cx="1717560" cy="3024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E:\2010\七夕\未标题-2.png"/>
          <p:cNvPicPr/>
          <p:nvPr/>
        </p:nvPicPr>
        <p:blipFill>
          <a:blip r:embed="rId5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E:\2010\七夕\未标题-17.png"/>
          <p:cNvPicPr/>
          <p:nvPr/>
        </p:nvPicPr>
        <p:blipFill>
          <a:blip r:embed="rId6"/>
          <a:srcRect l="25584" t="21646" r="55249" b="34269"/>
          <a:stretch/>
        </p:blipFill>
        <p:spPr>
          <a:xfrm>
            <a:off x="2340000" y="1484280"/>
            <a:ext cx="1752480" cy="3024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E:\2010\七夕\未标题-20.png"/>
          <p:cNvPicPr/>
          <p:nvPr/>
        </p:nvPicPr>
        <p:blipFill>
          <a:blip r:embed="rId7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E:\2010\七夕\未标题-3.png"/>
          <p:cNvPicPr/>
          <p:nvPr/>
        </p:nvPicPr>
        <p:blipFill>
          <a:blip r:embed="rId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E:\2010\七夕\未标题-4.png"/>
          <p:cNvPicPr/>
          <p:nvPr/>
        </p:nvPicPr>
        <p:blipFill>
          <a:blip r:embed="rId9"/>
          <a:srcRect l="31095" t="78333" r="31114" b="10807"/>
          <a:stretch/>
        </p:blipFill>
        <p:spPr>
          <a:xfrm>
            <a:off x="2843280" y="5373720"/>
            <a:ext cx="3457440" cy="744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E:\2010\七夕\未标题-5.png"/>
          <p:cNvPicPr/>
          <p:nvPr/>
        </p:nvPicPr>
        <p:blipFill>
          <a:blip r:embed="rId10"/>
          <a:srcRect l="42908" t="78333" r="42924" b="11169"/>
          <a:stretch/>
        </p:blipFill>
        <p:spPr>
          <a:xfrm>
            <a:off x="3924360" y="537372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E:\2010\七夕\未标题-6.png"/>
          <p:cNvPicPr/>
          <p:nvPr/>
        </p:nvPicPr>
        <p:blipFill>
          <a:blip r:embed="rId11"/>
          <a:srcRect l="35035" t="88836" r="35051" b="6970"/>
          <a:stretch/>
        </p:blipFill>
        <p:spPr>
          <a:xfrm>
            <a:off x="3203640" y="6093000"/>
            <a:ext cx="2736720" cy="288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E:\2010\七夕\未标题-7.png"/>
          <p:cNvPicPr/>
          <p:nvPr/>
        </p:nvPicPr>
        <p:blipFill>
          <a:blip r:embed="rId12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E:\2010\七夕\未标题-8.png"/>
          <p:cNvPicPr/>
          <p:nvPr/>
        </p:nvPicPr>
        <p:blipFill>
          <a:blip r:embed="rId13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E:\2010\七夕\未标题-9.png"/>
          <p:cNvPicPr/>
          <p:nvPr/>
        </p:nvPicPr>
        <p:blipFill>
          <a:blip r:embed="rId14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E:\2010\七夕\未标题-10.png"/>
          <p:cNvPicPr/>
          <p:nvPr/>
        </p:nvPicPr>
        <p:blipFill>
          <a:blip r:embed="rId15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E:\2010\七夕\未标题-11.png"/>
          <p:cNvPicPr/>
          <p:nvPr/>
        </p:nvPicPr>
        <p:blipFill>
          <a:blip r:embed="rId16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E:\2010\七夕\未标题-12.png"/>
          <p:cNvPicPr/>
          <p:nvPr/>
        </p:nvPicPr>
        <p:blipFill>
          <a:blip r:embed="rId17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E:\2010\七夕\未标题-14.png"/>
          <p:cNvPicPr/>
          <p:nvPr/>
        </p:nvPicPr>
        <p:blipFill>
          <a:blip r:embed="rId18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:\2010\七夕\未标题-13.png"/>
          <p:cNvPicPr/>
          <p:nvPr/>
        </p:nvPicPr>
        <p:blipFill>
          <a:blip r:embed="rId19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6" descr="E:\2010\七夕\未标题-16.png"/>
          <p:cNvPicPr/>
          <p:nvPr/>
        </p:nvPicPr>
        <p:blipFill>
          <a:blip r:embed="rId20"/>
          <a:srcRect l="35035" t="35293" r="46073" b="57364"/>
          <a:stretch/>
        </p:blipFill>
        <p:spPr>
          <a:xfrm>
            <a:off x="3203640" y="2421000"/>
            <a:ext cx="1728720" cy="503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E:\2010\七夕\未标题-15.png"/>
          <p:cNvPicPr/>
          <p:nvPr/>
        </p:nvPicPr>
        <p:blipFill>
          <a:blip r:embed="rId21"/>
          <a:srcRect l="31095" t="39492" r="42137" b="54215"/>
          <a:stretch/>
        </p:blipFill>
        <p:spPr>
          <a:xfrm>
            <a:off x="2843280" y="2708280"/>
            <a:ext cx="2449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8" descr="E:\2010\七夕\未标题-18.png"/>
          <p:cNvPicPr/>
          <p:nvPr/>
        </p:nvPicPr>
        <p:blipFill>
          <a:blip r:embed="rId22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0\七夕\未标题-2.png"/>
          <p:cNvPicPr/>
          <p:nvPr/>
        </p:nvPicPr>
        <p:blipFill>
          <a:blip r:embed="rId23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E:\2010\七夕\未标题-10.png"/>
          <p:cNvPicPr/>
          <p:nvPr/>
        </p:nvPicPr>
        <p:blipFill>
          <a:blip r:embed="rId24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"/>
                            </p:stCondLst>
                            <p:childTnLst>
                              <p:par>
                                <p:cTn id="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40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2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6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65">
                                          <p:stCondLst>
                                            <p:cond delay="46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32">
                                          <p:stCondLst>
                                            <p:cond delay="92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15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18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16" fill="hold">
                                          <p:stCondLst>
                                            <p:cond delay="473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8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16" fill="hold">
                                          <p:stCondLst>
                                            <p:cond delay="93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18" fill="hold">
                                          <p:stCondLst>
                                            <p:cond delay="114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16" fill="hold">
                                          <p:stCondLst>
                                            <p:cond delay="11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18" fill="hold">
                                          <p:stCondLst>
                                            <p:cond delay="126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16" fill="hold">
                                          <p:stCondLst>
                                            <p:cond delay="128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400"/>
                            </p:stCondLst>
                            <p:childTnLst>
                              <p:par>
                                <p:cTn id="2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6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6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8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2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2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" descr="E:\2010\七夕\未标题-20.png"/>
          <p:cNvPicPr/>
          <p:nvPr/>
        </p:nvPicPr>
        <p:blipFill>
          <a:blip r:embed="rId2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E:\2010\七夕\未标题-19.png"/>
          <p:cNvPicPr/>
          <p:nvPr/>
        </p:nvPicPr>
        <p:blipFill>
          <a:blip r:embed="rId3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E:\2010\七夕\未标题-7.png"/>
          <p:cNvPicPr/>
          <p:nvPr/>
        </p:nvPicPr>
        <p:blipFill>
          <a:blip r:embed="rId5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E:\2010\七夕\未标题-9.png"/>
          <p:cNvPicPr/>
          <p:nvPr/>
        </p:nvPicPr>
        <p:blipFill>
          <a:blip r:embed="rId6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E:\2010\七夕\未标题-10.png"/>
          <p:cNvPicPr/>
          <p:nvPr/>
        </p:nvPicPr>
        <p:blipFill>
          <a:blip r:embed="rId7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E:\2010\七夕\未标题-11.png"/>
          <p:cNvPicPr/>
          <p:nvPr/>
        </p:nvPicPr>
        <p:blipFill>
          <a:blip r:embed="rId8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E:\2010\七夕\未标题-12.png"/>
          <p:cNvPicPr/>
          <p:nvPr/>
        </p:nvPicPr>
        <p:blipFill>
          <a:blip r:embed="rId9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E:\2010\七夕\未标题-14.png"/>
          <p:cNvPicPr/>
          <p:nvPr/>
        </p:nvPicPr>
        <p:blipFill>
          <a:blip r:embed="rId10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E:\2010\七夕\未标题-13.png"/>
          <p:cNvPicPr/>
          <p:nvPr/>
        </p:nvPicPr>
        <p:blipFill>
          <a:blip r:embed="rId11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383" name="组合 43"/>
          <p:cNvGrpSpPr/>
          <p:nvPr/>
        </p:nvGrpSpPr>
        <p:grpSpPr>
          <a:xfrm>
            <a:off x="2224080" y="1484280"/>
            <a:ext cx="3571920" cy="3024360"/>
            <a:chOff x="2224080" y="1484280"/>
            <a:chExt cx="3571920" cy="3024360"/>
          </a:xfrm>
        </p:grpSpPr>
        <p:pic>
          <p:nvPicPr>
            <p:cNvPr id="384" name="Picture 17" descr="E:\2010\七夕\未标题-17.png"/>
            <p:cNvPicPr/>
            <p:nvPr/>
          </p:nvPicPr>
          <p:blipFill>
            <a:blip r:embed="rId12"/>
            <a:srcRect l="24324" t="21646" r="36626" b="34269"/>
            <a:stretch/>
          </p:blipFill>
          <p:spPr>
            <a:xfrm>
              <a:off x="2224080" y="1484280"/>
              <a:ext cx="357192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6" descr="E:\2010\七夕\未标题-16.png"/>
            <p:cNvPicPr/>
            <p:nvPr/>
          </p:nvPicPr>
          <p:blipFill>
            <a:blip r:embed="rId13"/>
            <a:srcRect l="35035" t="35293" r="46073" b="57364"/>
            <a:stretch/>
          </p:blipFill>
          <p:spPr>
            <a:xfrm>
              <a:off x="3203280" y="2420280"/>
              <a:ext cx="17283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5" descr="E:\2010\七夕\未标题-15.png"/>
            <p:cNvPicPr/>
            <p:nvPr/>
          </p:nvPicPr>
          <p:blipFill>
            <a:blip r:embed="rId14"/>
            <a:srcRect l="31095" t="39492" r="42137" b="54215"/>
            <a:stretch/>
          </p:blipFill>
          <p:spPr>
            <a:xfrm>
              <a:off x="2843280" y="2708280"/>
              <a:ext cx="244872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18" descr="E:\2010\七夕\未标题-18.png"/>
          <p:cNvPicPr/>
          <p:nvPr/>
        </p:nvPicPr>
        <p:blipFill>
          <a:blip r:embed="rId15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E:\2010\七夕\未标题-10.png"/>
          <p:cNvPicPr/>
          <p:nvPr/>
        </p:nvPicPr>
        <p:blipFill>
          <a:blip r:embed="rId16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2010\七夕\未标题-2.png"/>
          <p:cNvPicPr/>
          <p:nvPr/>
        </p:nvPicPr>
        <p:blipFill>
          <a:blip r:embed="rId17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2010\七夕\未标题-3.png"/>
          <p:cNvPicPr/>
          <p:nvPr/>
        </p:nvPicPr>
        <p:blipFill>
          <a:blip r:embed="rId1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grpSp>
        <p:nvGrpSpPr>
          <p:cNvPr id="391" name="组合 31"/>
          <p:cNvGrpSpPr/>
          <p:nvPr/>
        </p:nvGrpSpPr>
        <p:grpSpPr>
          <a:xfrm>
            <a:off x="2843280" y="5373720"/>
            <a:ext cx="3457440" cy="1008000"/>
            <a:chOff x="2843280" y="5373720"/>
            <a:chExt cx="3457440" cy="1008000"/>
          </a:xfrm>
        </p:grpSpPr>
        <p:grpSp>
          <p:nvGrpSpPr>
            <p:cNvPr id="392" name="组合 29"/>
            <p:cNvGrpSpPr/>
            <p:nvPr/>
          </p:nvGrpSpPr>
          <p:grpSpPr>
            <a:xfrm>
              <a:off x="2843280" y="5373720"/>
              <a:ext cx="3457440" cy="745200"/>
              <a:chOff x="2843280" y="5373720"/>
              <a:chExt cx="3457440" cy="745200"/>
            </a:xfrm>
          </p:grpSpPr>
          <p:pic>
            <p:nvPicPr>
              <p:cNvPr id="393" name="Picture 4" descr="E:\2010\七夕\未标题-4.png"/>
              <p:cNvPicPr/>
              <p:nvPr/>
            </p:nvPicPr>
            <p:blipFill>
              <a:blip r:embed="rId19"/>
              <a:srcRect l="31095" t="78333" r="31114" b="10807"/>
              <a:stretch/>
            </p:blipFill>
            <p:spPr>
              <a:xfrm>
                <a:off x="2843280" y="5373720"/>
                <a:ext cx="3457440" cy="74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5" descr="E:\2010\七夕\未标题-5.png"/>
              <p:cNvPicPr/>
              <p:nvPr/>
            </p:nvPicPr>
            <p:blipFill>
              <a:blip r:embed="rId20"/>
              <a:srcRect l="42908" t="78333" r="42924" b="11169"/>
              <a:stretch/>
            </p:blipFill>
            <p:spPr>
              <a:xfrm>
                <a:off x="3923640" y="5373720"/>
                <a:ext cx="1296360" cy="72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5" name="Picture 6" descr="E:\2010\七夕\未标题-6.png"/>
            <p:cNvPicPr/>
            <p:nvPr/>
          </p:nvPicPr>
          <p:blipFill>
            <a:blip r:embed="rId21"/>
            <a:srcRect l="35035" t="88836" r="35051" b="6970"/>
            <a:stretch/>
          </p:blipFill>
          <p:spPr>
            <a:xfrm>
              <a:off x="3203280" y="6093720"/>
              <a:ext cx="2737080" cy="2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6" name="Picture 2" descr="E:\2010\七夕\未标题-2.png"/>
          <p:cNvPicPr/>
          <p:nvPr/>
        </p:nvPicPr>
        <p:blipFill>
          <a:blip r:embed="rId22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398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399" name="Picture 4" descr="E:\2010\七夕\未标题-4.png"/>
              <p:cNvPicPr/>
              <p:nvPr/>
            </p:nvPicPr>
            <p:blipFill>
              <a:blip r:embed="rId23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5" descr="E:\2010\七夕\未标题-5.png"/>
              <p:cNvPicPr/>
              <p:nvPr/>
            </p:nvPicPr>
            <p:blipFill>
              <a:blip r:embed="rId24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Picture 6" descr="E:\2010\七夕\未标题-6.png"/>
            <p:cNvPicPr/>
            <p:nvPr/>
          </p:nvPicPr>
          <p:blipFill>
            <a:blip r:embed="rId25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2" name="Picture 8" descr="E:\2010\七夕\未标题-8.png"/>
          <p:cNvPicPr/>
          <p:nvPr/>
        </p:nvPicPr>
        <p:blipFill>
          <a:blip r:embed="rId26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6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6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6" dur="6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8" dur="6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00"/>
                            </p:stCondLst>
                            <p:childTnLst>
                              <p:par>
                                <p:cTn id="41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8958 0.07084 E">
                                      <p:cBhvr>
                                        <p:cTn id="418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E:\2010\七夕\未标题-24.png"/>
          <p:cNvPicPr/>
          <p:nvPr/>
        </p:nvPicPr>
        <p:blipFill>
          <a:blip r:embed="rId1"/>
          <a:srcRect l="33402" t="22276" r="33760" b="69583"/>
          <a:stretch/>
        </p:blipFill>
        <p:spPr>
          <a:xfrm>
            <a:off x="3397320" y="5462640"/>
            <a:ext cx="3003480" cy="558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E:\2010\七夕\未标题-24.png"/>
          <p:cNvPicPr/>
          <p:nvPr/>
        </p:nvPicPr>
        <p:blipFill>
          <a:blip r:embed="rId2"/>
          <a:srcRect l="12707" t="17463" r="67024" b="69583"/>
          <a:stretch/>
        </p:blipFill>
        <p:spPr>
          <a:xfrm>
            <a:off x="1504800" y="5132520"/>
            <a:ext cx="1854360" cy="88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E:\2010\七夕\未标题-25.png"/>
          <p:cNvPicPr/>
          <p:nvPr/>
        </p:nvPicPr>
        <p:blipFill>
          <a:blip r:embed="rId3"/>
          <a:stretch/>
        </p:blipFill>
        <p:spPr>
          <a:xfrm>
            <a:off x="6464160" y="5522760"/>
            <a:ext cx="52560" cy="474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E:\2010\七夕\未标题-25.png"/>
          <p:cNvPicPr/>
          <p:nvPr/>
        </p:nvPicPr>
        <p:blipFill>
          <a:blip r:embed="rId4"/>
          <a:stretch/>
        </p:blipFill>
        <p:spPr>
          <a:xfrm rot="1155000">
            <a:off x="6648120" y="5527440"/>
            <a:ext cx="5400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E:\2010\七夕\未标题-25.png"/>
          <p:cNvPicPr/>
          <p:nvPr/>
        </p:nvPicPr>
        <p:blipFill>
          <a:blip r:embed="rId5"/>
          <a:stretch/>
        </p:blipFill>
        <p:spPr>
          <a:xfrm rot="1612200">
            <a:off x="6837480" y="5546880"/>
            <a:ext cx="52200" cy="474480"/>
          </a:xfrm>
          <a:prstGeom prst="rect">
            <a:avLst/>
          </a:prstGeom>
          <a:ln w="0">
            <a:noFill/>
          </a:ln>
        </p:spPr>
      </p:pic>
      <p:grpSp>
        <p:nvGrpSpPr>
          <p:cNvPr id="408" name="组合 129"/>
          <p:cNvGrpSpPr/>
          <p:nvPr/>
        </p:nvGrpSpPr>
        <p:grpSpPr>
          <a:xfrm>
            <a:off x="7364520" y="523800"/>
            <a:ext cx="282600" cy="4108680"/>
            <a:chOff x="7364520" y="523800"/>
            <a:chExt cx="282600" cy="4108680"/>
          </a:xfrm>
        </p:grpSpPr>
        <p:grpSp>
          <p:nvGrpSpPr>
            <p:cNvPr id="409" name="矩形 29"/>
            <p:cNvGrpSpPr/>
            <p:nvPr/>
          </p:nvGrpSpPr>
          <p:grpSpPr>
            <a:xfrm>
              <a:off x="7364520" y="523800"/>
              <a:ext cx="282600" cy="4108680"/>
              <a:chOff x="7364520" y="523800"/>
              <a:chExt cx="282600" cy="4108680"/>
            </a:xfrm>
          </p:grpSpPr>
          <p:pic>
            <p:nvPicPr>
              <p:cNvPr id="410" name="矩形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64520" y="523800"/>
                <a:ext cx="282600" cy="41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7377480" y="541080"/>
                <a:ext cx="40320" cy="39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心形 35"/>
            <p:cNvSpPr/>
            <p:nvPr/>
          </p:nvSpPr>
          <p:spPr>
            <a:xfrm>
              <a:off x="7387560" y="434736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心形 36"/>
            <p:cNvSpPr/>
            <p:nvPr/>
          </p:nvSpPr>
          <p:spPr>
            <a:xfrm>
              <a:off x="7387560" y="4114080"/>
              <a:ext cx="205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心形 37"/>
            <p:cNvSpPr/>
            <p:nvPr/>
          </p:nvSpPr>
          <p:spPr>
            <a:xfrm>
              <a:off x="7387560" y="3880800"/>
              <a:ext cx="205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心形 40"/>
            <p:cNvSpPr/>
            <p:nvPr/>
          </p:nvSpPr>
          <p:spPr>
            <a:xfrm>
              <a:off x="7387560" y="36460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心形 41"/>
            <p:cNvSpPr/>
            <p:nvPr/>
          </p:nvSpPr>
          <p:spPr>
            <a:xfrm>
              <a:off x="7387560" y="341316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心形 42"/>
            <p:cNvSpPr/>
            <p:nvPr/>
          </p:nvSpPr>
          <p:spPr>
            <a:xfrm>
              <a:off x="7387560" y="31798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心形 43"/>
            <p:cNvSpPr/>
            <p:nvPr/>
          </p:nvSpPr>
          <p:spPr>
            <a:xfrm>
              <a:off x="7387560" y="2946600"/>
              <a:ext cx="205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心形 44"/>
            <p:cNvSpPr/>
            <p:nvPr/>
          </p:nvSpPr>
          <p:spPr>
            <a:xfrm>
              <a:off x="7387560" y="2713680"/>
              <a:ext cx="205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心形 45"/>
            <p:cNvSpPr/>
            <p:nvPr/>
          </p:nvSpPr>
          <p:spPr>
            <a:xfrm>
              <a:off x="7387560" y="247896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心形 46"/>
            <p:cNvSpPr/>
            <p:nvPr/>
          </p:nvSpPr>
          <p:spPr>
            <a:xfrm>
              <a:off x="7387560" y="22456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心形 47"/>
            <p:cNvSpPr/>
            <p:nvPr/>
          </p:nvSpPr>
          <p:spPr>
            <a:xfrm>
              <a:off x="7387560" y="201240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心形 48"/>
            <p:cNvSpPr/>
            <p:nvPr/>
          </p:nvSpPr>
          <p:spPr>
            <a:xfrm>
              <a:off x="7387560" y="17794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心形 49"/>
            <p:cNvSpPr/>
            <p:nvPr/>
          </p:nvSpPr>
          <p:spPr>
            <a:xfrm>
              <a:off x="7387560" y="1546200"/>
              <a:ext cx="205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心形 50"/>
            <p:cNvSpPr/>
            <p:nvPr/>
          </p:nvSpPr>
          <p:spPr>
            <a:xfrm>
              <a:off x="7387560" y="13114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心形 51"/>
            <p:cNvSpPr/>
            <p:nvPr/>
          </p:nvSpPr>
          <p:spPr>
            <a:xfrm>
              <a:off x="7387560" y="107856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心形 52"/>
            <p:cNvSpPr/>
            <p:nvPr/>
          </p:nvSpPr>
          <p:spPr>
            <a:xfrm>
              <a:off x="7387560" y="845280"/>
              <a:ext cx="2052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128"/>
          <p:cNvGrpSpPr/>
          <p:nvPr/>
        </p:nvGrpSpPr>
        <p:grpSpPr>
          <a:xfrm>
            <a:off x="6626160" y="2630520"/>
            <a:ext cx="282600" cy="2001960"/>
            <a:chOff x="6626160" y="2630520"/>
            <a:chExt cx="282600" cy="2001960"/>
          </a:xfrm>
        </p:grpSpPr>
        <p:grpSp>
          <p:nvGrpSpPr>
            <p:cNvPr id="429" name="矩形 28"/>
            <p:cNvGrpSpPr/>
            <p:nvPr/>
          </p:nvGrpSpPr>
          <p:grpSpPr>
            <a:xfrm>
              <a:off x="6626160" y="2630520"/>
              <a:ext cx="282600" cy="2001960"/>
              <a:chOff x="6626160" y="2630520"/>
              <a:chExt cx="282600" cy="2001960"/>
            </a:xfrm>
          </p:grpSpPr>
          <p:pic>
            <p:nvPicPr>
              <p:cNvPr id="430" name="矩形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6160" y="2630520"/>
                <a:ext cx="282600" cy="200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6647400" y="2644920"/>
                <a:ext cx="66240" cy="18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心形 53"/>
            <p:cNvSpPr/>
            <p:nvPr/>
          </p:nvSpPr>
          <p:spPr>
            <a:xfrm>
              <a:off x="6663960" y="4354920"/>
              <a:ext cx="3348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心形 54"/>
            <p:cNvSpPr/>
            <p:nvPr/>
          </p:nvSpPr>
          <p:spPr>
            <a:xfrm>
              <a:off x="6663960" y="4128120"/>
              <a:ext cx="334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心形 55"/>
            <p:cNvSpPr/>
            <p:nvPr/>
          </p:nvSpPr>
          <p:spPr>
            <a:xfrm>
              <a:off x="6663960" y="3900960"/>
              <a:ext cx="334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心形 56"/>
            <p:cNvSpPr/>
            <p:nvPr/>
          </p:nvSpPr>
          <p:spPr>
            <a:xfrm>
              <a:off x="6663960" y="3672720"/>
              <a:ext cx="3348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心形 57"/>
            <p:cNvSpPr/>
            <p:nvPr/>
          </p:nvSpPr>
          <p:spPr>
            <a:xfrm>
              <a:off x="6663960" y="3445920"/>
              <a:ext cx="3348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心形 58"/>
            <p:cNvSpPr/>
            <p:nvPr/>
          </p:nvSpPr>
          <p:spPr>
            <a:xfrm>
              <a:off x="6663960" y="3218760"/>
              <a:ext cx="3348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心形 59"/>
            <p:cNvSpPr/>
            <p:nvPr/>
          </p:nvSpPr>
          <p:spPr>
            <a:xfrm>
              <a:off x="6663960" y="2991960"/>
              <a:ext cx="3348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心形 60"/>
            <p:cNvSpPr/>
            <p:nvPr/>
          </p:nvSpPr>
          <p:spPr>
            <a:xfrm>
              <a:off x="6663960" y="2765160"/>
              <a:ext cx="334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127"/>
          <p:cNvGrpSpPr/>
          <p:nvPr/>
        </p:nvGrpSpPr>
        <p:grpSpPr>
          <a:xfrm>
            <a:off x="5888160" y="3133800"/>
            <a:ext cx="282600" cy="1498680"/>
            <a:chOff x="5888160" y="3133800"/>
            <a:chExt cx="282600" cy="1498680"/>
          </a:xfrm>
        </p:grpSpPr>
        <p:grpSp>
          <p:nvGrpSpPr>
            <p:cNvPr id="441" name="矩形 27"/>
            <p:cNvGrpSpPr/>
            <p:nvPr/>
          </p:nvGrpSpPr>
          <p:grpSpPr>
            <a:xfrm>
              <a:off x="5888160" y="3133800"/>
              <a:ext cx="282600" cy="1498680"/>
              <a:chOff x="5888160" y="3133800"/>
              <a:chExt cx="282600" cy="1498680"/>
            </a:xfrm>
          </p:grpSpPr>
          <p:pic>
            <p:nvPicPr>
              <p:cNvPr id="442" name="矩形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5888160" y="3133800"/>
                <a:ext cx="282600" cy="149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5913360" y="3151080"/>
                <a:ext cx="78480" cy="13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心形 69"/>
            <p:cNvSpPr/>
            <p:nvPr/>
          </p:nvSpPr>
          <p:spPr>
            <a:xfrm>
              <a:off x="5932440" y="4360320"/>
              <a:ext cx="39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心形 70"/>
            <p:cNvSpPr/>
            <p:nvPr/>
          </p:nvSpPr>
          <p:spPr>
            <a:xfrm>
              <a:off x="5932440" y="4137840"/>
              <a:ext cx="3960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心形 71"/>
            <p:cNvSpPr/>
            <p:nvPr/>
          </p:nvSpPr>
          <p:spPr>
            <a:xfrm>
              <a:off x="5932440" y="3913920"/>
              <a:ext cx="39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心形 72"/>
            <p:cNvSpPr/>
            <p:nvPr/>
          </p:nvSpPr>
          <p:spPr>
            <a:xfrm>
              <a:off x="5932440" y="3691440"/>
              <a:ext cx="39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心形 73"/>
            <p:cNvSpPr/>
            <p:nvPr/>
          </p:nvSpPr>
          <p:spPr>
            <a:xfrm>
              <a:off x="5932440" y="3468960"/>
              <a:ext cx="39600" cy="13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心形 74"/>
            <p:cNvSpPr/>
            <p:nvPr/>
          </p:nvSpPr>
          <p:spPr>
            <a:xfrm>
              <a:off x="5932440" y="3246840"/>
              <a:ext cx="3960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26"/>
          <p:cNvGrpSpPr/>
          <p:nvPr/>
        </p:nvGrpSpPr>
        <p:grpSpPr>
          <a:xfrm>
            <a:off x="5149800" y="3351240"/>
            <a:ext cx="282600" cy="1281240"/>
            <a:chOff x="5149800" y="3351240"/>
            <a:chExt cx="282600" cy="1281240"/>
          </a:xfrm>
        </p:grpSpPr>
        <p:grpSp>
          <p:nvGrpSpPr>
            <p:cNvPr id="451" name="矩形 26"/>
            <p:cNvGrpSpPr/>
            <p:nvPr/>
          </p:nvGrpSpPr>
          <p:grpSpPr>
            <a:xfrm>
              <a:off x="5149800" y="3351240"/>
              <a:ext cx="282600" cy="1281240"/>
              <a:chOff x="5149800" y="3351240"/>
              <a:chExt cx="282600" cy="1281240"/>
            </a:xfrm>
          </p:grpSpPr>
          <p:pic>
            <p:nvPicPr>
              <p:cNvPr id="452" name="矩形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149800" y="3351240"/>
                <a:ext cx="282600" cy="12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5176800" y="3366360"/>
                <a:ext cx="84960" cy="11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心形 75"/>
            <p:cNvSpPr/>
            <p:nvPr/>
          </p:nvSpPr>
          <p:spPr>
            <a:xfrm>
              <a:off x="5197680" y="4363200"/>
              <a:ext cx="4284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心形 76"/>
            <p:cNvSpPr/>
            <p:nvPr/>
          </p:nvSpPr>
          <p:spPr>
            <a:xfrm>
              <a:off x="5197680" y="4143240"/>
              <a:ext cx="42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心形 77"/>
            <p:cNvSpPr/>
            <p:nvPr/>
          </p:nvSpPr>
          <p:spPr>
            <a:xfrm>
              <a:off x="5197680" y="3923280"/>
              <a:ext cx="42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心形 78"/>
            <p:cNvSpPr/>
            <p:nvPr/>
          </p:nvSpPr>
          <p:spPr>
            <a:xfrm>
              <a:off x="5197680" y="3702960"/>
              <a:ext cx="42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心形 79"/>
            <p:cNvSpPr/>
            <p:nvPr/>
          </p:nvSpPr>
          <p:spPr>
            <a:xfrm>
              <a:off x="5197680" y="3481560"/>
              <a:ext cx="4284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25"/>
          <p:cNvGrpSpPr/>
          <p:nvPr/>
        </p:nvGrpSpPr>
        <p:grpSpPr>
          <a:xfrm>
            <a:off x="4411800" y="2414520"/>
            <a:ext cx="282600" cy="2217960"/>
            <a:chOff x="4411800" y="2414520"/>
            <a:chExt cx="282600" cy="2217960"/>
          </a:xfrm>
        </p:grpSpPr>
        <p:grpSp>
          <p:nvGrpSpPr>
            <p:cNvPr id="460" name="矩形 25"/>
            <p:cNvGrpSpPr/>
            <p:nvPr/>
          </p:nvGrpSpPr>
          <p:grpSpPr>
            <a:xfrm>
              <a:off x="4411800" y="2414520"/>
              <a:ext cx="282600" cy="2217960"/>
              <a:chOff x="4411800" y="2414520"/>
              <a:chExt cx="282600" cy="2217960"/>
            </a:xfrm>
          </p:grpSpPr>
          <p:pic>
            <p:nvPicPr>
              <p:cNvPr id="461" name="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11800" y="2414520"/>
                <a:ext cx="282600" cy="221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4431600" y="2432160"/>
                <a:ext cx="62280" cy="21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心形 80"/>
            <p:cNvSpPr/>
            <p:nvPr/>
          </p:nvSpPr>
          <p:spPr>
            <a:xfrm>
              <a:off x="4446720" y="435384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心形 81"/>
            <p:cNvSpPr/>
            <p:nvPr/>
          </p:nvSpPr>
          <p:spPr>
            <a:xfrm>
              <a:off x="4446720" y="4125960"/>
              <a:ext cx="31320" cy="13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心形 82"/>
            <p:cNvSpPr/>
            <p:nvPr/>
          </p:nvSpPr>
          <p:spPr>
            <a:xfrm>
              <a:off x="4446720" y="3898440"/>
              <a:ext cx="31320" cy="13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心形 83"/>
            <p:cNvSpPr/>
            <p:nvPr/>
          </p:nvSpPr>
          <p:spPr>
            <a:xfrm>
              <a:off x="4446720" y="366912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心形 84"/>
            <p:cNvSpPr/>
            <p:nvPr/>
          </p:nvSpPr>
          <p:spPr>
            <a:xfrm>
              <a:off x="4446720" y="344124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心形 85"/>
            <p:cNvSpPr/>
            <p:nvPr/>
          </p:nvSpPr>
          <p:spPr>
            <a:xfrm>
              <a:off x="4446720" y="321372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心形 86"/>
            <p:cNvSpPr/>
            <p:nvPr/>
          </p:nvSpPr>
          <p:spPr>
            <a:xfrm>
              <a:off x="4446720" y="298584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心形 87"/>
            <p:cNvSpPr/>
            <p:nvPr/>
          </p:nvSpPr>
          <p:spPr>
            <a:xfrm>
              <a:off x="4446720" y="2757960"/>
              <a:ext cx="31320" cy="13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心形 88"/>
            <p:cNvSpPr/>
            <p:nvPr/>
          </p:nvSpPr>
          <p:spPr>
            <a:xfrm>
              <a:off x="4446720" y="2530440"/>
              <a:ext cx="31320" cy="13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24"/>
          <p:cNvGrpSpPr/>
          <p:nvPr/>
        </p:nvGrpSpPr>
        <p:grpSpPr>
          <a:xfrm>
            <a:off x="3673440" y="2198520"/>
            <a:ext cx="282600" cy="2433960"/>
            <a:chOff x="3673440" y="2198520"/>
            <a:chExt cx="282600" cy="2433960"/>
          </a:xfrm>
        </p:grpSpPr>
        <p:grpSp>
          <p:nvGrpSpPr>
            <p:cNvPr id="473" name="矩形 24"/>
            <p:cNvGrpSpPr/>
            <p:nvPr/>
          </p:nvGrpSpPr>
          <p:grpSpPr>
            <a:xfrm>
              <a:off x="3673440" y="2198520"/>
              <a:ext cx="282600" cy="2433960"/>
              <a:chOff x="3673440" y="2198520"/>
              <a:chExt cx="282600" cy="2433960"/>
            </a:xfrm>
          </p:grpSpPr>
          <p:pic>
            <p:nvPicPr>
              <p:cNvPr id="474" name="矩形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73440" y="2198520"/>
                <a:ext cx="282600" cy="24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3691800" y="2214000"/>
                <a:ext cx="58680" cy="23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心形 90"/>
            <p:cNvSpPr/>
            <p:nvPr/>
          </p:nvSpPr>
          <p:spPr>
            <a:xfrm>
              <a:off x="3706200" y="435240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心形 91"/>
            <p:cNvSpPr/>
            <p:nvPr/>
          </p:nvSpPr>
          <p:spPr>
            <a:xfrm>
              <a:off x="3706200" y="4123440"/>
              <a:ext cx="2952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心形 92"/>
            <p:cNvSpPr/>
            <p:nvPr/>
          </p:nvSpPr>
          <p:spPr>
            <a:xfrm>
              <a:off x="3706200" y="3894480"/>
              <a:ext cx="2952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心形 93"/>
            <p:cNvSpPr/>
            <p:nvPr/>
          </p:nvSpPr>
          <p:spPr>
            <a:xfrm>
              <a:off x="3706200" y="366372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心形 94"/>
            <p:cNvSpPr/>
            <p:nvPr/>
          </p:nvSpPr>
          <p:spPr>
            <a:xfrm>
              <a:off x="3706200" y="343476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心形 95"/>
            <p:cNvSpPr/>
            <p:nvPr/>
          </p:nvSpPr>
          <p:spPr>
            <a:xfrm>
              <a:off x="3706200" y="320580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心形 96"/>
            <p:cNvSpPr/>
            <p:nvPr/>
          </p:nvSpPr>
          <p:spPr>
            <a:xfrm>
              <a:off x="3706200" y="297684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心形 97"/>
            <p:cNvSpPr/>
            <p:nvPr/>
          </p:nvSpPr>
          <p:spPr>
            <a:xfrm>
              <a:off x="3706200" y="2747880"/>
              <a:ext cx="2952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心形 98"/>
            <p:cNvSpPr/>
            <p:nvPr/>
          </p:nvSpPr>
          <p:spPr>
            <a:xfrm>
              <a:off x="3706200" y="2518920"/>
              <a:ext cx="2952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心形 99"/>
            <p:cNvSpPr/>
            <p:nvPr/>
          </p:nvSpPr>
          <p:spPr>
            <a:xfrm>
              <a:off x="3706200" y="2289600"/>
              <a:ext cx="2952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123"/>
          <p:cNvGrpSpPr/>
          <p:nvPr/>
        </p:nvGrpSpPr>
        <p:grpSpPr>
          <a:xfrm>
            <a:off x="2935440" y="2486160"/>
            <a:ext cx="282600" cy="2146320"/>
            <a:chOff x="2935440" y="2486160"/>
            <a:chExt cx="282600" cy="2146320"/>
          </a:xfrm>
        </p:grpSpPr>
        <p:grpSp>
          <p:nvGrpSpPr>
            <p:cNvPr id="487" name="矩形 22"/>
            <p:cNvGrpSpPr/>
            <p:nvPr/>
          </p:nvGrpSpPr>
          <p:grpSpPr>
            <a:xfrm>
              <a:off x="2935440" y="2486160"/>
              <a:ext cx="282600" cy="2146320"/>
              <a:chOff x="2935440" y="2486160"/>
              <a:chExt cx="282600" cy="2146320"/>
            </a:xfrm>
          </p:grpSpPr>
          <p:pic>
            <p:nvPicPr>
              <p:cNvPr id="488" name="矩形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35440" y="2486160"/>
                <a:ext cx="282600" cy="21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2955240" y="2502360"/>
                <a:ext cx="63360" cy="20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心形 100"/>
            <p:cNvSpPr/>
            <p:nvPr/>
          </p:nvSpPr>
          <p:spPr>
            <a:xfrm>
              <a:off x="2971080" y="4354200"/>
              <a:ext cx="3204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心形 101"/>
            <p:cNvSpPr/>
            <p:nvPr/>
          </p:nvSpPr>
          <p:spPr>
            <a:xfrm>
              <a:off x="2971080" y="4126680"/>
              <a:ext cx="32040" cy="13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心形 102"/>
            <p:cNvSpPr/>
            <p:nvPr/>
          </p:nvSpPr>
          <p:spPr>
            <a:xfrm>
              <a:off x="2971080" y="3899160"/>
              <a:ext cx="32040" cy="13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心形 103"/>
            <p:cNvSpPr/>
            <p:nvPr/>
          </p:nvSpPr>
          <p:spPr>
            <a:xfrm>
              <a:off x="2971080" y="3670200"/>
              <a:ext cx="3204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心形 104"/>
            <p:cNvSpPr/>
            <p:nvPr/>
          </p:nvSpPr>
          <p:spPr>
            <a:xfrm>
              <a:off x="2971080" y="3442680"/>
              <a:ext cx="3204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心形 105"/>
            <p:cNvSpPr/>
            <p:nvPr/>
          </p:nvSpPr>
          <p:spPr>
            <a:xfrm>
              <a:off x="2971080" y="3215160"/>
              <a:ext cx="3204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心形 106"/>
            <p:cNvSpPr/>
            <p:nvPr/>
          </p:nvSpPr>
          <p:spPr>
            <a:xfrm>
              <a:off x="2971080" y="2987280"/>
              <a:ext cx="32040" cy="13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心形 107"/>
            <p:cNvSpPr/>
            <p:nvPr/>
          </p:nvSpPr>
          <p:spPr>
            <a:xfrm>
              <a:off x="2971080" y="2759760"/>
              <a:ext cx="32040" cy="13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心形 108"/>
            <p:cNvSpPr/>
            <p:nvPr/>
          </p:nvSpPr>
          <p:spPr>
            <a:xfrm>
              <a:off x="2971080" y="2530800"/>
              <a:ext cx="3204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22"/>
          <p:cNvGrpSpPr/>
          <p:nvPr/>
        </p:nvGrpSpPr>
        <p:grpSpPr>
          <a:xfrm>
            <a:off x="2197080" y="2701800"/>
            <a:ext cx="282600" cy="1930680"/>
            <a:chOff x="2197080" y="2701800"/>
            <a:chExt cx="282600" cy="1930680"/>
          </a:xfrm>
        </p:grpSpPr>
        <p:grpSp>
          <p:nvGrpSpPr>
            <p:cNvPr id="500" name="矩形 21"/>
            <p:cNvGrpSpPr/>
            <p:nvPr/>
          </p:nvGrpSpPr>
          <p:grpSpPr>
            <a:xfrm>
              <a:off x="2197080" y="2701800"/>
              <a:ext cx="282600" cy="1930680"/>
              <a:chOff x="2197080" y="2701800"/>
              <a:chExt cx="282600" cy="1930680"/>
            </a:xfrm>
          </p:grpSpPr>
          <p:pic>
            <p:nvPicPr>
              <p:cNvPr id="501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97080" y="2701800"/>
                <a:ext cx="282600" cy="19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2219400" y="2720160"/>
                <a:ext cx="67320" cy="18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心形 109"/>
            <p:cNvSpPr/>
            <p:nvPr/>
          </p:nvSpPr>
          <p:spPr>
            <a:xfrm>
              <a:off x="2235960" y="435600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心形 110"/>
            <p:cNvSpPr/>
            <p:nvPr/>
          </p:nvSpPr>
          <p:spPr>
            <a:xfrm>
              <a:off x="2235960" y="4129920"/>
              <a:ext cx="33840" cy="13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心形 111"/>
            <p:cNvSpPr/>
            <p:nvPr/>
          </p:nvSpPr>
          <p:spPr>
            <a:xfrm>
              <a:off x="2235960" y="390240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心形 112"/>
            <p:cNvSpPr/>
            <p:nvPr/>
          </p:nvSpPr>
          <p:spPr>
            <a:xfrm>
              <a:off x="2235960" y="367668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心形 113"/>
            <p:cNvSpPr/>
            <p:nvPr/>
          </p:nvSpPr>
          <p:spPr>
            <a:xfrm>
              <a:off x="2235960" y="345060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心形 114"/>
            <p:cNvSpPr/>
            <p:nvPr/>
          </p:nvSpPr>
          <p:spPr>
            <a:xfrm>
              <a:off x="2235960" y="322452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心形 115"/>
            <p:cNvSpPr/>
            <p:nvPr/>
          </p:nvSpPr>
          <p:spPr>
            <a:xfrm>
              <a:off x="2235960" y="2998440"/>
              <a:ext cx="33840" cy="13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心形 116"/>
            <p:cNvSpPr/>
            <p:nvPr/>
          </p:nvSpPr>
          <p:spPr>
            <a:xfrm>
              <a:off x="2235960" y="2770920"/>
              <a:ext cx="3384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组合 121"/>
          <p:cNvGrpSpPr/>
          <p:nvPr/>
        </p:nvGrpSpPr>
        <p:grpSpPr>
          <a:xfrm>
            <a:off x="1460520" y="3567240"/>
            <a:ext cx="280800" cy="1065240"/>
            <a:chOff x="1460520" y="3567240"/>
            <a:chExt cx="280800" cy="1065240"/>
          </a:xfrm>
        </p:grpSpPr>
        <p:grpSp>
          <p:nvGrpSpPr>
            <p:cNvPr id="512" name="矩形 20"/>
            <p:cNvGrpSpPr/>
            <p:nvPr/>
          </p:nvGrpSpPr>
          <p:grpSpPr>
            <a:xfrm>
              <a:off x="1460520" y="3567240"/>
              <a:ext cx="280800" cy="1065240"/>
              <a:chOff x="1460520" y="3567240"/>
              <a:chExt cx="280800" cy="1065240"/>
            </a:xfrm>
          </p:grpSpPr>
          <p:pic>
            <p:nvPicPr>
              <p:cNvPr id="513" name="矩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60520" y="3567240"/>
                <a:ext cx="2808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1489320" y="3584520"/>
                <a:ext cx="91080" cy="95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心形 117"/>
            <p:cNvSpPr/>
            <p:nvPr/>
          </p:nvSpPr>
          <p:spPr>
            <a:xfrm>
              <a:off x="1511280" y="4368240"/>
              <a:ext cx="4680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心形 118"/>
            <p:cNvSpPr/>
            <p:nvPr/>
          </p:nvSpPr>
          <p:spPr>
            <a:xfrm>
              <a:off x="1511280" y="4152240"/>
              <a:ext cx="4680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心形 119"/>
            <p:cNvSpPr/>
            <p:nvPr/>
          </p:nvSpPr>
          <p:spPr>
            <a:xfrm>
              <a:off x="1511280" y="3936240"/>
              <a:ext cx="4680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心形 120"/>
            <p:cNvSpPr/>
            <p:nvPr/>
          </p:nvSpPr>
          <p:spPr>
            <a:xfrm>
              <a:off x="1511280" y="3720240"/>
              <a:ext cx="4680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Picture 17" descr="E:\2010\七夕\未标题-17.png"/>
          <p:cNvPicPr/>
          <p:nvPr/>
        </p:nvPicPr>
        <p:blipFill>
          <a:blip r:embed="rId15"/>
          <a:srcRect l="24322" t="21655" r="36629" b="34261"/>
          <a:stretch/>
        </p:blipFill>
        <p:spPr>
          <a:xfrm>
            <a:off x="2820960" y="234144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7" descr="E:\2010\七夕\未标题-17.png"/>
          <p:cNvPicPr/>
          <p:nvPr/>
        </p:nvPicPr>
        <p:blipFill>
          <a:blip r:embed="rId16"/>
          <a:srcRect l="24322" t="21639" r="36629" b="34266"/>
          <a:stretch/>
        </p:blipFill>
        <p:spPr>
          <a:xfrm>
            <a:off x="1344600" y="3422520"/>
            <a:ext cx="482760" cy="4082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7" descr="E:\2010\七夕\未标题-17.png"/>
          <p:cNvPicPr/>
          <p:nvPr/>
        </p:nvPicPr>
        <p:blipFill>
          <a:blip r:embed="rId17"/>
          <a:srcRect l="24322" t="21655" r="36629" b="34261"/>
          <a:stretch/>
        </p:blipFill>
        <p:spPr>
          <a:xfrm>
            <a:off x="2082960" y="2557440"/>
            <a:ext cx="482400" cy="409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7" descr="E:\2010\七夕\未标题-17.png"/>
          <p:cNvPicPr/>
          <p:nvPr/>
        </p:nvPicPr>
        <p:blipFill>
          <a:blip r:embed="rId18"/>
          <a:srcRect l="24322" t="21639" r="36629" b="34266"/>
          <a:stretch/>
        </p:blipFill>
        <p:spPr>
          <a:xfrm>
            <a:off x="3559320" y="2054160"/>
            <a:ext cx="482400" cy="4078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7" descr="E:\2010\七夕\未标题-17.png"/>
          <p:cNvPicPr/>
          <p:nvPr/>
        </p:nvPicPr>
        <p:blipFill>
          <a:blip r:embed="rId19"/>
          <a:srcRect l="24322" t="21655" r="36629" b="34261"/>
          <a:stretch/>
        </p:blipFill>
        <p:spPr>
          <a:xfrm>
            <a:off x="4297320" y="227016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7" descr="E:\2010\七夕\未标题-17.png"/>
          <p:cNvPicPr/>
          <p:nvPr/>
        </p:nvPicPr>
        <p:blipFill>
          <a:blip r:embed="rId20"/>
          <a:srcRect l="24322" t="21655" r="36629" b="34261"/>
          <a:stretch/>
        </p:blipFill>
        <p:spPr>
          <a:xfrm>
            <a:off x="5035680" y="321804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7" descr="E:\2010\七夕\未标题-17.png"/>
          <p:cNvPicPr/>
          <p:nvPr/>
        </p:nvPicPr>
        <p:blipFill>
          <a:blip r:embed="rId21"/>
          <a:srcRect l="24322" t="21655" r="36629" b="34261"/>
          <a:stretch/>
        </p:blipFill>
        <p:spPr>
          <a:xfrm>
            <a:off x="5773680" y="3013200"/>
            <a:ext cx="482760" cy="409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7" descr="E:\2010\七夕\未标题-17.png"/>
          <p:cNvPicPr/>
          <p:nvPr/>
        </p:nvPicPr>
        <p:blipFill>
          <a:blip r:embed="rId22"/>
          <a:srcRect l="24322" t="21655" r="36629" b="34261"/>
          <a:stretch/>
        </p:blipFill>
        <p:spPr>
          <a:xfrm>
            <a:off x="6512040" y="248616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7" descr="E:\2010\七夕\未标题-17.png"/>
          <p:cNvPicPr/>
          <p:nvPr/>
        </p:nvPicPr>
        <p:blipFill>
          <a:blip r:embed="rId23"/>
          <a:srcRect l="24322" t="21655" r="36629" b="34261"/>
          <a:stretch/>
        </p:blipFill>
        <p:spPr>
          <a:xfrm>
            <a:off x="7250040" y="379440"/>
            <a:ext cx="482760" cy="409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2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2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2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00"/>
                            </p:stCondLst>
                            <p:childTnLst>
                              <p:par>
                                <p:cTn id="5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3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任意多边形 33"/>
          <p:cNvSpPr/>
          <p:nvPr/>
        </p:nvSpPr>
        <p:spPr>
          <a:xfrm rot="21091200">
            <a:off x="1719360" y="1344240"/>
            <a:ext cx="7240320" cy="286236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198c"/>
              </a:gs>
            </a:gsLst>
            <a:lin ang="2310000"/>
          </a:gradFill>
          <a:ln w="38160">
            <a:solidFill>
              <a:srgbClr val="febe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2"/>
          <p:cNvGrpSpPr/>
          <p:nvPr/>
        </p:nvGrpSpPr>
        <p:grpSpPr>
          <a:xfrm>
            <a:off x="2195640" y="3065400"/>
            <a:ext cx="1071360" cy="908280"/>
            <a:chOff x="2195640" y="3065400"/>
            <a:chExt cx="1071360" cy="908280"/>
          </a:xfrm>
        </p:grpSpPr>
        <p:pic>
          <p:nvPicPr>
            <p:cNvPr id="530" name="Picture 17" descr="E:\2010\七夕\未标题-17.png"/>
            <p:cNvPicPr/>
            <p:nvPr/>
          </p:nvPicPr>
          <p:blipFill>
            <a:blip r:embed="rId1"/>
            <a:srcRect l="24331" t="21656" r="36627" b="34265"/>
            <a:stretch/>
          </p:blipFill>
          <p:spPr>
            <a:xfrm>
              <a:off x="2195640" y="3065400"/>
              <a:ext cx="10713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Box 146"/>
            <p:cNvSpPr/>
            <p:nvPr/>
          </p:nvSpPr>
          <p:spPr>
            <a:xfrm>
              <a:off x="2341080" y="3184560"/>
              <a:ext cx="79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体温升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53"/>
          <p:cNvGrpSpPr/>
          <p:nvPr/>
        </p:nvGrpSpPr>
        <p:grpSpPr>
          <a:xfrm>
            <a:off x="3170160" y="2273400"/>
            <a:ext cx="1249560" cy="1057320"/>
            <a:chOff x="3170160" y="2273400"/>
            <a:chExt cx="1249560" cy="1057320"/>
          </a:xfrm>
        </p:grpSpPr>
        <p:pic>
          <p:nvPicPr>
            <p:cNvPr id="533" name="Picture 17" descr="E:\2010\七夕\未标题-17.png"/>
            <p:cNvPicPr/>
            <p:nvPr/>
          </p:nvPicPr>
          <p:blipFill>
            <a:blip r:embed="rId2"/>
            <a:srcRect l="24331" t="21645" r="36625" b="34269"/>
            <a:stretch/>
          </p:blipFill>
          <p:spPr>
            <a:xfrm>
              <a:off x="3170160" y="2273400"/>
              <a:ext cx="12495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Box 146"/>
            <p:cNvSpPr/>
            <p:nvPr/>
          </p:nvSpPr>
          <p:spPr>
            <a:xfrm>
              <a:off x="3407400" y="2464200"/>
              <a:ext cx="792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手心冒汗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54"/>
          <p:cNvGrpSpPr/>
          <p:nvPr/>
        </p:nvGrpSpPr>
        <p:grpSpPr>
          <a:xfrm>
            <a:off x="4456080" y="1492200"/>
            <a:ext cx="1428840" cy="1209600"/>
            <a:chOff x="4456080" y="1492200"/>
            <a:chExt cx="1428840" cy="1209600"/>
          </a:xfrm>
        </p:grpSpPr>
        <p:pic>
          <p:nvPicPr>
            <p:cNvPr id="536" name="Picture 17" descr="E:\2010\七夕\未标题-17.png"/>
            <p:cNvPicPr/>
            <p:nvPr/>
          </p:nvPicPr>
          <p:blipFill>
            <a:blip r:embed="rId3"/>
            <a:srcRect l="24324" t="21646" r="36626" b="34269"/>
            <a:stretch/>
          </p:blipFill>
          <p:spPr>
            <a:xfrm>
              <a:off x="4456080" y="1492200"/>
              <a:ext cx="142884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Box 146"/>
            <p:cNvSpPr/>
            <p:nvPr/>
          </p:nvSpPr>
          <p:spPr>
            <a:xfrm>
              <a:off x="4803480" y="1729800"/>
              <a:ext cx="7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呼吸急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55"/>
          <p:cNvGrpSpPr/>
          <p:nvPr/>
        </p:nvGrpSpPr>
        <p:grpSpPr>
          <a:xfrm>
            <a:off x="5870520" y="847800"/>
            <a:ext cx="1608120" cy="1361880"/>
            <a:chOff x="5870520" y="847800"/>
            <a:chExt cx="1608120" cy="1361880"/>
          </a:xfrm>
        </p:grpSpPr>
        <p:pic>
          <p:nvPicPr>
            <p:cNvPr id="539" name="Picture 17" descr="E:\2010\七夕\未标题-17.png"/>
            <p:cNvPicPr/>
            <p:nvPr/>
          </p:nvPicPr>
          <p:blipFill>
            <a:blip r:embed="rId4"/>
            <a:srcRect l="24324" t="21646" r="36626" b="34269"/>
            <a:stretch/>
          </p:blipFill>
          <p:spPr>
            <a:xfrm>
              <a:off x="5870520" y="847800"/>
              <a:ext cx="16081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Box 146"/>
            <p:cNvSpPr/>
            <p:nvPr/>
          </p:nvSpPr>
          <p:spPr>
            <a:xfrm>
              <a:off x="6315480" y="1124280"/>
              <a:ext cx="7927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跳加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2" descr="E:\2010\七夕\未标题-27.png"/>
          <p:cNvPicPr/>
          <p:nvPr/>
        </p:nvPicPr>
        <p:blipFill>
          <a:blip r:embed="rId5"/>
          <a:srcRect l="33245" t="32034" r="0" b="0"/>
          <a:stretch/>
        </p:blipFill>
        <p:spPr>
          <a:xfrm>
            <a:off x="3657600" y="5486400"/>
            <a:ext cx="3641760" cy="546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E:\2010\七夕\未标题-27.png"/>
          <p:cNvPicPr/>
          <p:nvPr/>
        </p:nvPicPr>
        <p:blipFill>
          <a:blip r:embed="rId6"/>
          <a:srcRect l="0" t="0" r="67474" b="0"/>
          <a:stretch/>
        </p:blipFill>
        <p:spPr>
          <a:xfrm>
            <a:off x="1830240" y="5229360"/>
            <a:ext cx="1784520" cy="803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3" dur="7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下弧形箭头 3"/>
          <p:cNvSpPr/>
          <p:nvPr/>
        </p:nvSpPr>
        <p:spPr>
          <a:xfrm>
            <a:off x="4540320" y="3186000"/>
            <a:ext cx="3575160" cy="1440000"/>
          </a:xfrm>
          <a:custGeom>
            <a:avLst/>
            <a:gdLst>
              <a:gd name="textAreaLeft" fmla="*/ 758880 w 3575160"/>
              <a:gd name="textAreaRight" fmla="*/ 2636280 w 35751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-3521382"/>
                <a:lnTo>
                  <a:pt x="21309" y="5400"/>
                </a:lnTo>
                <a:lnTo>
                  <a:pt x="19425" y="0"/>
                </a:lnTo>
                <a:lnTo>
                  <a:pt x="16959" y="5400"/>
                </a:lnTo>
                <a:lnTo>
                  <a:pt x="18047" y="5400"/>
                </a:lnTo>
                <a:arcTo wR="9169" hR="21600" stAng="1878618" swAng="3347301"/>
                <a:lnTo>
                  <a:pt x="10256" y="21448"/>
                </a:lnTo>
                <a:arcTo wR="9169" hR="21600" stAng="5574081" swAng="5225919"/>
                <a:close/>
              </a:path>
              <a:path fill="darkenLess"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174081"/>
                <a:lnTo>
                  <a:pt x="10256" y="21448"/>
                </a:lnTo>
                <a:arcTo wR="9169" hR="21600" stAng="5574081" swAng="5225919"/>
                <a:close/>
              </a:path>
            </a:pathLst>
          </a:custGeom>
          <a:blipFill rotWithShape="0">
            <a:blip r:embed="rId1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下弧形箭头 4"/>
          <p:cNvSpPr/>
          <p:nvPr/>
        </p:nvSpPr>
        <p:spPr>
          <a:xfrm flipH="1">
            <a:off x="966960" y="3186000"/>
            <a:ext cx="3574800" cy="1440000"/>
          </a:xfrm>
          <a:custGeom>
            <a:avLst/>
            <a:gdLst>
              <a:gd name="textAreaLeft" fmla="*/ 758880 w 3574800"/>
              <a:gd name="textAreaRight" fmla="*/ 2636280 w 35748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-3521382"/>
                <a:lnTo>
                  <a:pt x="21309" y="5400"/>
                </a:lnTo>
                <a:lnTo>
                  <a:pt x="19425" y="0"/>
                </a:lnTo>
                <a:lnTo>
                  <a:pt x="16959" y="5400"/>
                </a:lnTo>
                <a:lnTo>
                  <a:pt x="18047" y="5400"/>
                </a:lnTo>
                <a:arcTo wR="9169" hR="21600" stAng="1878618" swAng="3347301"/>
                <a:lnTo>
                  <a:pt x="10256" y="21448"/>
                </a:lnTo>
                <a:arcTo wR="9169" hR="21600" stAng="5574081" swAng="5225919"/>
                <a:close/>
              </a:path>
              <a:path fill="darkenLess" w="21600" h="21600">
                <a:moveTo>
                  <a:pt x="0" y="0"/>
                </a:moveTo>
                <a:arcTo wR="9169" hR="21600" stAng="10800000" swAng="-5400000"/>
                <a:lnTo>
                  <a:pt x="11343" y="21600"/>
                </a:lnTo>
                <a:arcTo wR="9169" hR="21600" stAng="5400000" swAng="174081"/>
                <a:lnTo>
                  <a:pt x="10256" y="21448"/>
                </a:lnTo>
                <a:arcTo wR="9169" hR="21600" stAng="5574081" swAng="5225919"/>
                <a:close/>
              </a:path>
            </a:pathLst>
          </a:custGeom>
          <a:blipFill rotWithShape="0">
            <a:blip r:embed="rId2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下弧形箭头 5"/>
          <p:cNvSpPr/>
          <p:nvPr/>
        </p:nvSpPr>
        <p:spPr>
          <a:xfrm>
            <a:off x="4540320" y="3186000"/>
            <a:ext cx="1981080" cy="1440000"/>
          </a:xfrm>
          <a:custGeom>
            <a:avLst/>
            <a:gdLst>
              <a:gd name="textAreaLeft" fmla="*/ 360000 w 1981080"/>
              <a:gd name="textAreaRight" fmla="*/ 1441080 w 19810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-3277811"/>
                <a:lnTo>
                  <a:pt x="21351" y="5400"/>
                </a:lnTo>
                <a:lnTo>
                  <a:pt x="17676" y="0"/>
                </a:lnTo>
                <a:lnTo>
                  <a:pt x="13502" y="5400"/>
                </a:lnTo>
                <a:lnTo>
                  <a:pt x="15464" y="5400"/>
                </a:lnTo>
                <a:arcTo wR="7857" hR="21600" stAng="2122189" swAng="2956186"/>
                <a:lnTo>
                  <a:pt x="9819" y="20915"/>
                </a:lnTo>
                <a:arcTo wR="7857" hR="21600" stAng="5721626" swAng="5078374"/>
                <a:close/>
              </a:path>
              <a:path fill="darkenLess"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321626"/>
                <a:lnTo>
                  <a:pt x="9819" y="20915"/>
                </a:lnTo>
                <a:arcTo wR="7857" hR="21600" stAng="5721626" swAng="5078374"/>
                <a:close/>
              </a:path>
            </a:pathLst>
          </a:custGeom>
          <a:blipFill rotWithShape="0">
            <a:blip r:embed="rId3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下弧形箭头 6"/>
          <p:cNvSpPr/>
          <p:nvPr/>
        </p:nvSpPr>
        <p:spPr>
          <a:xfrm flipH="1">
            <a:off x="2559960" y="3186000"/>
            <a:ext cx="1981080" cy="1440000"/>
          </a:xfrm>
          <a:custGeom>
            <a:avLst/>
            <a:gdLst>
              <a:gd name="textAreaLeft" fmla="*/ 360000 w 1981080"/>
              <a:gd name="textAreaRight" fmla="*/ 1441080 w 19810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-3277811"/>
                <a:lnTo>
                  <a:pt x="21351" y="5400"/>
                </a:lnTo>
                <a:lnTo>
                  <a:pt x="17676" y="0"/>
                </a:lnTo>
                <a:lnTo>
                  <a:pt x="13502" y="5400"/>
                </a:lnTo>
                <a:lnTo>
                  <a:pt x="15464" y="5400"/>
                </a:lnTo>
                <a:arcTo wR="7857" hR="21600" stAng="2122189" swAng="2956186"/>
                <a:lnTo>
                  <a:pt x="9819" y="20915"/>
                </a:lnTo>
                <a:arcTo wR="7857" hR="21600" stAng="5721626" swAng="5078374"/>
                <a:close/>
              </a:path>
              <a:path fill="darkenLess" w="21600" h="21600">
                <a:moveTo>
                  <a:pt x="0" y="0"/>
                </a:moveTo>
                <a:arcTo wR="7857" hR="21600" stAng="10800000" swAng="-5400000"/>
                <a:lnTo>
                  <a:pt x="11782" y="21600"/>
                </a:lnTo>
                <a:arcTo wR="7857" hR="21600" stAng="5400000" swAng="321626"/>
                <a:lnTo>
                  <a:pt x="9819" y="20915"/>
                </a:lnTo>
                <a:arcTo wR="7857" hR="21600" stAng="5721626" swAng="5078374"/>
                <a:close/>
              </a:path>
            </a:pathLst>
          </a:custGeom>
          <a:blipFill rotWithShape="0">
            <a:blip r:embed="rId4">
              <a:alphaModFix amt="75000"/>
            </a:blip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  <a:effectLst>
            <a:outerShdw dist="6336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7"/>
          <p:cNvGrpSpPr/>
          <p:nvPr/>
        </p:nvGrpSpPr>
        <p:grpSpPr>
          <a:xfrm>
            <a:off x="3076560" y="1052640"/>
            <a:ext cx="2886120" cy="2525760"/>
            <a:chOff x="3076560" y="1052640"/>
            <a:chExt cx="2886120" cy="2525760"/>
          </a:xfrm>
        </p:grpSpPr>
        <p:pic>
          <p:nvPicPr>
            <p:cNvPr id="548" name="Picture 17" descr="E:\2010\七夕\未标题-17.png"/>
            <p:cNvPicPr/>
            <p:nvPr/>
          </p:nvPicPr>
          <p:blipFill>
            <a:blip r:embed="rId5"/>
            <a:srcRect l="25576" t="21646" r="36626" b="34269"/>
            <a:stretch/>
          </p:blipFill>
          <p:spPr>
            <a:xfrm>
              <a:off x="3076560" y="1052640"/>
              <a:ext cx="288612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Box 146"/>
            <p:cNvSpPr/>
            <p:nvPr/>
          </p:nvSpPr>
          <p:spPr>
            <a:xfrm>
              <a:off x="3430440" y="1881720"/>
              <a:ext cx="2221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心相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2"/>
          <p:cNvGrpSpPr/>
          <p:nvPr/>
        </p:nvGrpSpPr>
        <p:grpSpPr>
          <a:xfrm>
            <a:off x="284040" y="2151000"/>
            <a:ext cx="1279800" cy="1119240"/>
            <a:chOff x="284040" y="2151000"/>
            <a:chExt cx="1279800" cy="1119240"/>
          </a:xfrm>
        </p:grpSpPr>
        <p:pic>
          <p:nvPicPr>
            <p:cNvPr id="551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8404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146"/>
            <p:cNvSpPr/>
            <p:nvPr/>
          </p:nvSpPr>
          <p:spPr>
            <a:xfrm>
              <a:off x="60768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有灵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5"/>
          <p:cNvGrpSpPr/>
          <p:nvPr/>
        </p:nvGrpSpPr>
        <p:grpSpPr>
          <a:xfrm>
            <a:off x="1946160" y="2151000"/>
            <a:ext cx="1279800" cy="1119240"/>
            <a:chOff x="1946160" y="2151000"/>
            <a:chExt cx="1279800" cy="1119240"/>
          </a:xfrm>
        </p:grpSpPr>
        <p:pic>
          <p:nvPicPr>
            <p:cNvPr id="554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194616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146"/>
            <p:cNvSpPr/>
            <p:nvPr/>
          </p:nvSpPr>
          <p:spPr>
            <a:xfrm>
              <a:off x="226980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慌意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8"/>
          <p:cNvGrpSpPr/>
          <p:nvPr/>
        </p:nvGrpSpPr>
        <p:grpSpPr>
          <a:xfrm>
            <a:off x="5940360" y="2151000"/>
            <a:ext cx="1279440" cy="1119240"/>
            <a:chOff x="5940360" y="2151000"/>
            <a:chExt cx="1279440" cy="1119240"/>
          </a:xfrm>
        </p:grpSpPr>
        <p:pic>
          <p:nvPicPr>
            <p:cNvPr id="557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594036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146"/>
            <p:cNvSpPr/>
            <p:nvPr/>
          </p:nvSpPr>
          <p:spPr>
            <a:xfrm>
              <a:off x="626364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照不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21"/>
          <p:cNvGrpSpPr/>
          <p:nvPr/>
        </p:nvGrpSpPr>
        <p:grpSpPr>
          <a:xfrm>
            <a:off x="7602480" y="2151000"/>
            <a:ext cx="1279440" cy="1119240"/>
            <a:chOff x="7602480" y="2151000"/>
            <a:chExt cx="1279440" cy="1119240"/>
          </a:xfrm>
        </p:grpSpPr>
        <p:pic>
          <p:nvPicPr>
            <p:cNvPr id="560" name="Picture 17" descr="E:\2010\七夕\未标题-17.png"/>
            <p:cNvPicPr/>
            <p:nvPr/>
          </p:nvPicPr>
          <p:blipFill>
            <a:blip r:embed="rId9"/>
            <a:srcRect l="25580" t="21647" r="36625" b="34264"/>
            <a:stretch/>
          </p:blipFill>
          <p:spPr>
            <a:xfrm>
              <a:off x="760248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Box 146"/>
            <p:cNvSpPr/>
            <p:nvPr/>
          </p:nvSpPr>
          <p:spPr>
            <a:xfrm>
              <a:off x="792576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动不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Picture 2" descr="E:\2010\七夕\未标题-28.png"/>
          <p:cNvPicPr/>
          <p:nvPr/>
        </p:nvPicPr>
        <p:blipFill>
          <a:blip r:embed="rId10"/>
          <a:srcRect l="37299" t="0" r="2620" b="0"/>
          <a:stretch/>
        </p:blipFill>
        <p:spPr>
          <a:xfrm>
            <a:off x="3875040" y="5157720"/>
            <a:ext cx="3295800" cy="803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E:\2010\七夕\未标题-28.png"/>
          <p:cNvPicPr/>
          <p:nvPr/>
        </p:nvPicPr>
        <p:blipFill>
          <a:blip r:embed="rId11"/>
          <a:srcRect l="0" t="0" r="60856" b="0"/>
          <a:stretch/>
        </p:blipFill>
        <p:spPr>
          <a:xfrm>
            <a:off x="1830240" y="5157720"/>
            <a:ext cx="2146320" cy="803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任意多边形 1"/>
          <p:cNvGrpSpPr/>
          <p:nvPr/>
        </p:nvGrpSpPr>
        <p:grpSpPr>
          <a:xfrm>
            <a:off x="669960" y="2182680"/>
            <a:ext cx="7754760" cy="2310120"/>
            <a:chOff x="669960" y="2182680"/>
            <a:chExt cx="7754760" cy="2310120"/>
          </a:xfrm>
        </p:grpSpPr>
        <p:pic>
          <p:nvPicPr>
            <p:cNvPr id="565" name="任意多边形 1" descr=""/>
            <p:cNvPicPr/>
            <p:nvPr/>
          </p:nvPicPr>
          <p:blipFill>
            <a:blip r:embed="rId1"/>
            <a:stretch/>
          </p:blipFill>
          <p:spPr>
            <a:xfrm>
              <a:off x="669960" y="2182680"/>
              <a:ext cx="7754760" cy="23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682560" y="2193840"/>
              <a:ext cx="77230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椭圆 2"/>
          <p:cNvSpPr/>
          <p:nvPr/>
        </p:nvSpPr>
        <p:spPr>
          <a:xfrm>
            <a:off x="21906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3"/>
          <p:cNvSpPr/>
          <p:nvPr/>
        </p:nvSpPr>
        <p:spPr>
          <a:xfrm>
            <a:off x="418932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4"/>
          <p:cNvSpPr/>
          <p:nvPr/>
        </p:nvSpPr>
        <p:spPr>
          <a:xfrm>
            <a:off x="61308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37"/>
          <p:cNvGrpSpPr/>
          <p:nvPr/>
        </p:nvGrpSpPr>
        <p:grpSpPr>
          <a:xfrm>
            <a:off x="395280" y="1986120"/>
            <a:ext cx="1523880" cy="1523880"/>
            <a:chOff x="395280" y="1986120"/>
            <a:chExt cx="1523880" cy="1523880"/>
          </a:xfrm>
        </p:grpSpPr>
        <p:pic>
          <p:nvPicPr>
            <p:cNvPr id="571" name="椭圆 5" descr=""/>
            <p:cNvPicPr/>
            <p:nvPr/>
          </p:nvPicPr>
          <p:blipFill>
            <a:blip r:embed="rId2"/>
            <a:stretch/>
          </p:blipFill>
          <p:spPr>
            <a:xfrm>
              <a:off x="395280" y="1986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组合 10"/>
            <p:cNvGrpSpPr/>
            <p:nvPr/>
          </p:nvGrpSpPr>
          <p:grpSpPr>
            <a:xfrm>
              <a:off x="599760" y="2164320"/>
              <a:ext cx="1054080" cy="1080000"/>
              <a:chOff x="599760" y="2164320"/>
              <a:chExt cx="1054080" cy="1080000"/>
            </a:xfrm>
          </p:grpSpPr>
          <p:pic>
            <p:nvPicPr>
              <p:cNvPr id="573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360" y="2238840"/>
                <a:ext cx="1005480" cy="10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椭圆 12"/>
              <p:cNvSpPr/>
              <p:nvPr/>
            </p:nvSpPr>
            <p:spPr>
              <a:xfrm rot="19388400">
                <a:off x="668880" y="2315520"/>
                <a:ext cx="654120" cy="448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椭圆 13"/>
              <p:cNvGrpSpPr/>
              <p:nvPr/>
            </p:nvGrpSpPr>
            <p:grpSpPr>
              <a:xfrm>
                <a:off x="772200" y="2357640"/>
                <a:ext cx="767880" cy="772920"/>
                <a:chOff x="772200" y="2357640"/>
                <a:chExt cx="767880" cy="772920"/>
              </a:xfrm>
            </p:grpSpPr>
            <p:pic>
              <p:nvPicPr>
                <p:cNvPr id="576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72200" y="2357640"/>
                  <a:ext cx="76788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"/>
                <p:cNvSpPr/>
                <p:nvPr/>
              </p:nvSpPr>
              <p:spPr>
                <a:xfrm>
                  <a:off x="887040" y="2473920"/>
                  <a:ext cx="535320" cy="53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8" name="组合 27"/>
          <p:cNvGrpSpPr/>
          <p:nvPr/>
        </p:nvGrpSpPr>
        <p:grpSpPr>
          <a:xfrm>
            <a:off x="2308320" y="3228840"/>
            <a:ext cx="1279440" cy="1119240"/>
            <a:chOff x="2308320" y="3228840"/>
            <a:chExt cx="1279440" cy="1119240"/>
          </a:xfrm>
        </p:grpSpPr>
        <p:pic>
          <p:nvPicPr>
            <p:cNvPr id="579" name="Picture 17" descr="E:\2010\七夕\未标题-17.png"/>
            <p:cNvPicPr/>
            <p:nvPr/>
          </p:nvPicPr>
          <p:blipFill>
            <a:blip r:embed="rId5"/>
            <a:srcRect l="25580" t="21647" r="36625" b="34264"/>
            <a:stretch/>
          </p:blipFill>
          <p:spPr>
            <a:xfrm>
              <a:off x="23083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146"/>
            <p:cNvSpPr/>
            <p:nvPr/>
          </p:nvSpPr>
          <p:spPr>
            <a:xfrm>
              <a:off x="2631600" y="3456000"/>
              <a:ext cx="651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一见钟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30"/>
          <p:cNvGrpSpPr/>
          <p:nvPr/>
        </p:nvGrpSpPr>
        <p:grpSpPr>
          <a:xfrm>
            <a:off x="4311720" y="3228840"/>
            <a:ext cx="1279440" cy="1119240"/>
            <a:chOff x="4311720" y="3228840"/>
            <a:chExt cx="1279440" cy="1119240"/>
          </a:xfrm>
        </p:grpSpPr>
        <p:pic>
          <p:nvPicPr>
            <p:cNvPr id="582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43117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146"/>
            <p:cNvSpPr/>
            <p:nvPr/>
          </p:nvSpPr>
          <p:spPr>
            <a:xfrm>
              <a:off x="463500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两情相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33"/>
          <p:cNvGrpSpPr/>
          <p:nvPr/>
        </p:nvGrpSpPr>
        <p:grpSpPr>
          <a:xfrm>
            <a:off x="6256440" y="3228840"/>
            <a:ext cx="1279440" cy="1119240"/>
            <a:chOff x="6256440" y="3228840"/>
            <a:chExt cx="1279440" cy="1119240"/>
          </a:xfrm>
        </p:grpSpPr>
        <p:pic>
          <p:nvPicPr>
            <p:cNvPr id="585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625644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146"/>
            <p:cNvSpPr/>
            <p:nvPr/>
          </p:nvSpPr>
          <p:spPr>
            <a:xfrm>
              <a:off x="657972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三生三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Picture 2" descr="E:\2010\七夕\未标题-29.png"/>
          <p:cNvPicPr/>
          <p:nvPr/>
        </p:nvPicPr>
        <p:blipFill>
          <a:blip r:embed="rId8"/>
          <a:stretch/>
        </p:blipFill>
        <p:spPr>
          <a:xfrm>
            <a:off x="1830240" y="5300640"/>
            <a:ext cx="5483520" cy="803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7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7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7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7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7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7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7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7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7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7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7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100"/>
                            </p:stCondLst>
                            <p:childTnLst>
                              <p:par>
                                <p:cTn id="6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组合 21"/>
          <p:cNvGrpSpPr/>
          <p:nvPr/>
        </p:nvGrpSpPr>
        <p:grpSpPr>
          <a:xfrm>
            <a:off x="395280" y="1986120"/>
            <a:ext cx="8010360" cy="4117680"/>
            <a:chOff x="395280" y="1986120"/>
            <a:chExt cx="8010360" cy="4117680"/>
          </a:xfrm>
        </p:grpSpPr>
        <p:grpSp>
          <p:nvGrpSpPr>
            <p:cNvPr id="589" name="任意多边形 1"/>
            <p:cNvGrpSpPr/>
            <p:nvPr/>
          </p:nvGrpSpPr>
          <p:grpSpPr>
            <a:xfrm>
              <a:off x="669600" y="2182320"/>
              <a:ext cx="7736040" cy="2310120"/>
              <a:chOff x="669600" y="2182320"/>
              <a:chExt cx="7736040" cy="2310120"/>
            </a:xfrm>
          </p:grpSpPr>
          <p:pic>
            <p:nvPicPr>
              <p:cNvPr id="590" name="任意多边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600" y="2182320"/>
                <a:ext cx="7736040" cy="23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681120" y="2194200"/>
                <a:ext cx="7705800" cy="22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椭圆 2"/>
            <p:cNvSpPr/>
            <p:nvPr/>
          </p:nvSpPr>
          <p:spPr>
            <a:xfrm>
              <a:off x="2184840" y="2984400"/>
              <a:ext cx="1520280" cy="1523880"/>
            </a:xfrm>
            <a:prstGeom prst="ellipse">
              <a:avLst/>
            </a:prstGeom>
            <a:solidFill>
              <a:srgbClr val="ff0150">
                <a:alpha val="15000"/>
              </a:srgbClr>
            </a:solidFill>
            <a:ln w="19080">
              <a:solidFill>
                <a:srgbClr val="fd91bf"/>
              </a:solidFill>
              <a:miter/>
            </a:ln>
            <a:effectLst>
              <a:outerShdw dist="12768" dir="2974435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椭圆 3"/>
            <p:cNvSpPr/>
            <p:nvPr/>
          </p:nvSpPr>
          <p:spPr>
            <a:xfrm>
              <a:off x="4180320" y="2984400"/>
              <a:ext cx="1520280" cy="1523880"/>
            </a:xfrm>
            <a:prstGeom prst="ellipse">
              <a:avLst/>
            </a:prstGeom>
            <a:solidFill>
              <a:srgbClr val="ff0150">
                <a:alpha val="15000"/>
              </a:srgbClr>
            </a:solidFill>
            <a:ln w="19080">
              <a:solidFill>
                <a:srgbClr val="fd91bf"/>
              </a:solidFill>
              <a:miter/>
            </a:ln>
            <a:effectLst>
              <a:outerShdw dist="12768" dir="2974435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椭圆 4"/>
            <p:cNvSpPr/>
            <p:nvPr/>
          </p:nvSpPr>
          <p:spPr>
            <a:xfrm>
              <a:off x="6117480" y="2984400"/>
              <a:ext cx="1520280" cy="1523880"/>
            </a:xfrm>
            <a:prstGeom prst="ellipse">
              <a:avLst/>
            </a:prstGeom>
            <a:solidFill>
              <a:srgbClr val="ff0150">
                <a:alpha val="15000"/>
              </a:srgbClr>
            </a:solidFill>
            <a:ln w="19080">
              <a:solidFill>
                <a:srgbClr val="fd91bf"/>
              </a:solidFill>
              <a:miter/>
            </a:ln>
            <a:effectLst>
              <a:outerShdw dist="12768" dir="2974435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组合 37"/>
            <p:cNvGrpSpPr/>
            <p:nvPr/>
          </p:nvGrpSpPr>
          <p:grpSpPr>
            <a:xfrm>
              <a:off x="395280" y="1986120"/>
              <a:ext cx="1520280" cy="1523520"/>
              <a:chOff x="395280" y="1986120"/>
              <a:chExt cx="1520280" cy="1523520"/>
            </a:xfrm>
          </p:grpSpPr>
          <p:pic>
            <p:nvPicPr>
              <p:cNvPr id="596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1986120"/>
                <a:ext cx="1520280" cy="1523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组合 10"/>
              <p:cNvGrpSpPr/>
              <p:nvPr/>
            </p:nvGrpSpPr>
            <p:grpSpPr>
              <a:xfrm>
                <a:off x="598680" y="2164680"/>
                <a:ext cx="1052280" cy="1079280"/>
                <a:chOff x="598680" y="2164680"/>
                <a:chExt cx="1052280" cy="1079280"/>
              </a:xfrm>
            </p:grpSpPr>
            <p:pic>
              <p:nvPicPr>
                <p:cNvPr id="598" name="Oval 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40" y="2238840"/>
                  <a:ext cx="100332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9" name="椭圆 12"/>
                <p:cNvSpPr/>
                <p:nvPr/>
              </p:nvSpPr>
              <p:spPr>
                <a:xfrm rot="19388400">
                  <a:off x="667800" y="2315520"/>
                  <a:ext cx="652680" cy="44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761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" name="椭圆 13"/>
                <p:cNvGrpSpPr/>
                <p:nvPr/>
              </p:nvGrpSpPr>
              <p:grpSpPr>
                <a:xfrm>
                  <a:off x="771120" y="2357640"/>
                  <a:ext cx="766080" cy="767520"/>
                  <a:chOff x="771120" y="2357640"/>
                  <a:chExt cx="766080" cy="767520"/>
                </a:xfrm>
              </p:grpSpPr>
              <p:pic>
                <p:nvPicPr>
                  <p:cNvPr id="601" name="椭圆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120" y="2357640"/>
                    <a:ext cx="766080" cy="7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885600" y="2473920"/>
                    <a:ext cx="534240" cy="53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98480"/>
                        <a:tab algn="l" pos="1596960"/>
                        <a:tab algn="l" pos="2395440"/>
                        <a:tab algn="l" pos="3193920"/>
                        <a:tab algn="l" pos="3992400"/>
                        <a:tab algn="l" pos="4791240"/>
                        <a:tab algn="l" pos="5589720"/>
                        <a:tab algn="l" pos="6388200"/>
                        <a:tab algn="l" pos="7186680"/>
                        <a:tab algn="l" pos="7985160"/>
                        <a:tab algn="l" pos="8783640"/>
                        <a:tab algn="l" pos="9582120"/>
                        <a:tab algn="l" pos="103806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组合 27"/>
            <p:cNvGrpSpPr/>
            <p:nvPr/>
          </p:nvGrpSpPr>
          <p:grpSpPr>
            <a:xfrm>
              <a:off x="2302920" y="3228480"/>
              <a:ext cx="1276200" cy="1118880"/>
              <a:chOff x="2302920" y="3228480"/>
              <a:chExt cx="1276200" cy="1118880"/>
            </a:xfrm>
          </p:grpSpPr>
          <p:pic>
            <p:nvPicPr>
              <p:cNvPr id="604" name="Picture 17" descr="E:\2010\七夕\未标题-17.png"/>
              <p:cNvPicPr/>
              <p:nvPr/>
            </p:nvPicPr>
            <p:blipFill>
              <a:blip r:embed="rId5"/>
              <a:srcRect l="25580" t="21647" r="36625" b="34264"/>
              <a:stretch/>
            </p:blipFill>
            <p:spPr>
              <a:xfrm>
                <a:off x="2302920" y="3228480"/>
                <a:ext cx="127620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TextBox 146"/>
              <p:cNvSpPr/>
              <p:nvPr/>
            </p:nvSpPr>
            <p:spPr>
              <a:xfrm>
                <a:off x="2625480" y="3455640"/>
                <a:ext cx="6498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一见钟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30"/>
            <p:cNvGrpSpPr/>
            <p:nvPr/>
          </p:nvGrpSpPr>
          <p:grpSpPr>
            <a:xfrm>
              <a:off x="4302000" y="3228480"/>
              <a:ext cx="1276200" cy="1118880"/>
              <a:chOff x="4302000" y="3228480"/>
              <a:chExt cx="1276200" cy="1118880"/>
            </a:xfrm>
          </p:grpSpPr>
          <p:pic>
            <p:nvPicPr>
              <p:cNvPr id="607" name="Picture 17" descr="E:\2010\七夕\未标题-17.png"/>
              <p:cNvPicPr/>
              <p:nvPr/>
            </p:nvPicPr>
            <p:blipFill>
              <a:blip r:embed="rId6"/>
              <a:srcRect l="25580" t="21647" r="36625" b="34264"/>
              <a:stretch/>
            </p:blipFill>
            <p:spPr>
              <a:xfrm>
                <a:off x="4302000" y="3228480"/>
                <a:ext cx="127620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Box 146"/>
              <p:cNvSpPr/>
              <p:nvPr/>
            </p:nvSpPr>
            <p:spPr>
              <a:xfrm>
                <a:off x="4624560" y="3455640"/>
                <a:ext cx="6498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两情相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组合 33"/>
            <p:cNvGrpSpPr/>
            <p:nvPr/>
          </p:nvGrpSpPr>
          <p:grpSpPr>
            <a:xfrm>
              <a:off x="6242400" y="3228480"/>
              <a:ext cx="1276200" cy="1118880"/>
              <a:chOff x="6242400" y="3228480"/>
              <a:chExt cx="1276200" cy="1118880"/>
            </a:xfrm>
          </p:grpSpPr>
          <p:pic>
            <p:nvPicPr>
              <p:cNvPr id="610" name="Picture 17" descr="E:\2010\七夕\未标题-17.png"/>
              <p:cNvPicPr/>
              <p:nvPr/>
            </p:nvPicPr>
            <p:blipFill>
              <a:blip r:embed="rId7"/>
              <a:srcRect l="25580" t="21647" r="36625" b="34264"/>
              <a:stretch/>
            </p:blipFill>
            <p:spPr>
              <a:xfrm>
                <a:off x="6242400" y="3228480"/>
                <a:ext cx="127620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Box 146"/>
              <p:cNvSpPr/>
              <p:nvPr/>
            </p:nvSpPr>
            <p:spPr>
              <a:xfrm>
                <a:off x="6564960" y="3455640"/>
                <a:ext cx="6498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三生三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2" name="Picture 2" descr="E:\2010\七夕\未标题-29.png"/>
            <p:cNvPicPr/>
            <p:nvPr/>
          </p:nvPicPr>
          <p:blipFill>
            <a:blip r:embed="rId8"/>
            <a:stretch/>
          </p:blipFill>
          <p:spPr>
            <a:xfrm>
              <a:off x="1826640" y="5300640"/>
              <a:ext cx="5470200" cy="80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图文框 22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3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4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5"/>
          <p:cNvSpPr/>
          <p:nvPr/>
        </p:nvSpPr>
        <p:spPr>
          <a:xfrm>
            <a:off x="2627280" y="23828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 Black"/>
              </a:rPr>
              <a:t>MADE IN HI-H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3" descr="E:\2010\七夕\未标题-22.png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3306600" y="4106880"/>
            <a:ext cx="2529000" cy="2779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7"/>
          <p:cNvSpPr/>
          <p:nvPr/>
        </p:nvSpPr>
        <p:spPr>
          <a:xfrm>
            <a:off x="2627280" y="29541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8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8:29:25Z</dcterms:created>
  <dc:creator>Chris</dc:creator>
  <dc:description/>
  <dc:language>en-US</dc:language>
  <cp:lastModifiedBy>番茄花园</cp:lastModifiedBy>
  <dcterms:modified xsi:type="dcterms:W3CDTF">2010-08-09T04:11:38Z</dcterms:modified>
  <cp:revision>23</cp:revision>
  <dc:subject/>
  <dc:title>幻灯片 1</dc:title>
</cp:coreProperties>
</file>