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type.wav" ContentType="audio/x-wav"/>
  <Override PartName="/ppt/media/image7.jpeg" ContentType="image/jpeg"/>
  <Override PartName="/ppt/media/image14.png" ContentType="image/pn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984-7128-4EB6-887C-024D9432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364-37EF-4C6B-B3B0-ED8B6A19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E91-F776-49C2-86A1-0DCFA6EA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10A-2F56-448D-B22B-6C0C58FD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4205-4C2B-4996-BF09-55D43447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B82A-A545-4B9E-B0DC-1A8A59A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D55B-5255-437B-B3B0-862DECA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8E75-1FED-4A38-B59B-AA510191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9DF2-D07B-4E8D-A53C-D43D8740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3C88-70F9-45BC-B0C4-23E1BAFD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A82F-2C5D-4C25-96C5-008B804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03B-FC24-4A64-8814-3B5D5D8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CAEF-330F-4769-850A-DE11FACE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6C9A-472A-4AD6-9D38-D15E495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7EE8-A8E3-4811-96A6-2126B87B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8C3-E832-4349-B84C-101B041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8F6B-8874-4198-BCFA-2516A5BC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A67-F80A-4BA4-B540-D604B356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7E0-51B5-4F45-A89C-C1E53D18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413-4577-4C3C-B48F-0064370A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B6D-AF47-4C59-B671-3409148B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0BF-1F46-4F71-9776-95819B5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1F8-28D2-4F2A-B4FC-0F925E8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D7E-F42D-4973-B6F4-A7621E7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014-4CE3-4BF4-992F-0C1D0BB7161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A9F0-C81E-4229-AD1B-420D1245877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方正北魏楷书简体"/>
                <a:ea typeface="方正北魏楷书简体"/>
              </a:rPr>
              <a:t>人教版六年级上册语文第六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50292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方正古隶简体"/>
                <a:ea typeface="方正古隶简体"/>
              </a:rPr>
              <a:t>阜阳市胡庙小学    阿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28600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怀念母亲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1066680"/>
            <a:ext cx="5791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“生身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有什么样的感情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838224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657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，写出了“我”对母亲的深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219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33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妈妈喜欢吃鱼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 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黑体"/>
              </a:rPr>
              <a:t>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我依稀记事的时候，家中很穷，一个月难得吃上一次鱼肉。每次吃鱼，妈妈先把鱼头夹在自己碗里，将鱼肚子上的肉夹下，极仔细地捡去很少的几根大刺，放在我碗里，其余的便是父亲的了。当我也吵着要吃鱼头时，她总是说：“妈妈喜欢吃鱼头。”我想，鱼头一定很好吃的。有次父亲不在家，我趁妈妈盛饭之际，夹了一个。吃来吃去，觉得没有鱼肚子上的肉好吃。那年，外婆从江北到我家，妈妈买了外婆家乡很金贵的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[guī]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鱼。吃饭时，妈妈把本属于我的那块鱼肚子上的肉，夹进了外婆的碗里。外婆说：“你忘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最喜欢吃鱼头。”外婆眯缝着眼，慢慢地挑去那几根大刺，放进我的碗里，并说：“伢啦，你说。”接着，外婆就夹起鱼头，用没牙的嘴，津津有味地嗍着，不时吐出一根根小刺。我一边吃着没刺的鱼肉，一边想：“怎么，妈妈的妈妈也喜欢吃鱼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” </a:t>
            </a:r>
            <a:br>
              <a:rPr sz="24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533520"/>
            <a:ext cx="80010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    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上，我成了家，另立门户。生活好了，我们经常买些鱼肉之类的好菜。每次吃鱼，最后剩下的，总是几只无人问津的鱼头。而立之年，喜得千金。转眼女儿也能自己吃饭了。有次午餐，妻子夹了一块鱼肚子上的肉，极麻利地捡去大刺，放在女儿碗里。自己却夹起了鱼头。女儿见状也吵着要吃鱼头。妻子说：乖孩子，妈妈喜欢吃鱼头。”谁知女儿说什么也不答应，非要吃不可，妻子无奈，好不容易从鱼肋边挑出点没刺的肉来，可女儿吃了马上吐出，连说不好吃。从此再不要吃鱼头了。打那以后，每逢吃鱼，妻便将鱼肚子上的肉夹给女儿，女儿总是很艰难地用汤匙切下鱼头，放进她妈妈碗里，很孝顺地说：“妈妈，您吃鱼头。”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打那以后，我悟出了一个道理：女人做了母亲，便喜欢吃鱼头了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800" y="15238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4800"/>
            </a:br>
            <a:r>
              <a:rPr b="1" i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有什么样的感情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688032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作者通过比较的方式，将自己对祖国母亲的怀念表达得非常充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76212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600200" y="5410080"/>
            <a:ext cx="2333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1143000"/>
            <a:ext cx="8305920" cy="5181480"/>
            <a:chOff x="457200" y="1143000"/>
            <a:chExt cx="8305920" cy="51814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343400" y="1143000"/>
              <a:ext cx="44197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57200" y="1143000"/>
              <a:ext cx="3429000" cy="40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18893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175248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那遥远的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亲爱的妈妈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已白发鬓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去的时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难忘怀难忘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曾给我多少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少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182880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遥望家乡的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可爱的小燕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回了家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有个小小心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小心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给妈妈一个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个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1752480"/>
            <a:ext cx="2819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57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妈妈的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7621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有一种爱，伟大而平凡，如润物细雨，似拂面春风；有一份情，无私而博大，绵绵不断，情谊深长。这就是母爱，永远都是不求回报，无私的付出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80880"/>
            <a:ext cx="8613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慈母手中线，游子身上衣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临行密密缝，意恐迟迟归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谁言寸草心，报得三春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br>
              <a:rPr sz="2800"/>
            </a:br>
            <a:br>
              <a:rPr sz="40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解释：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      谁说小草的嫩心可以报答三春阳光的温暖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春日般的母爱，小草似的儿女怎么能报答其万分之一呢？</a:t>
            </a:r>
            <a:br>
              <a:rPr sz="28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比喻子女难以报答母亲的情爱于万分之一。形象贴切，一语双关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     后亦用以比喻一个人难以报答祖国的恩情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     寸草：小草。心：指小草抽出的嫩心。三春晖：喻指母爱。三春，春季的三个月称三春。晖，太阳光。 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86200" y="3962520"/>
            <a:ext cx="464832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康体简体"/>
              </a:rPr>
              <a:t>怀念母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康体简体"/>
              <a:ea typeface="方正康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——季羡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3828960" cy="312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2819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季羡林，北京大学教授、中国语言学家。山东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黑体"/>
              </a:rPr>
              <a:t>字词正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55736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 flipH="1" rot="20418000">
            <a:off x="7009920" y="1066680"/>
            <a:ext cx="1101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47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3623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71080" y="4728960"/>
            <a:ext cx="69598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19320" y="2514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13T09:08:41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