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4.jpeg" ContentType="image/jpeg"/>
  <Override PartName="/ppt/media/projctor.wav" ContentType="audio/x-wav"/>
  <Override PartName="/ppt/media/image23.jpeg" ContentType="image/jpe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2.gif" ContentType="image/gif"/>
  <Override PartName="/ppt/media/image17.wmf" ContentType="image/x-wmf"/>
  <Override PartName="/ppt/media/image14.jpeg" ContentType="image/jpeg"/>
  <Override PartName="/ppt/media/image8.png" ContentType="image/png"/>
  <Override PartName="/ppt/media/image30.gif" ContentType="image/gif"/>
  <Override PartName="/ppt/media/image33.png" ContentType="image/png"/>
  <Override PartName="/ppt/media/image28.jpeg" ContentType="image/jpeg"/>
  <Override PartName="/ppt/media/image34.jpeg" ContentType="image/jpeg"/>
  <Override PartName="/ppt/media/image7.jpeg" ContentType="image/jpeg"/>
  <Override PartName="/ppt/media/image31.gif" ContentType="image/gif"/>
  <Override PartName="/ppt/media/image11.jpeg" ContentType="image/jpeg"/>
  <Override PartName="/ppt/media/image36.jpeg" ContentType="image/jpeg"/>
  <Override PartName="/ppt/media/image29.jpeg" ContentType="image/jpeg"/>
  <Override PartName="/ppt/media/image10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7.jpeg" ContentType="image/jpeg"/>
  <Override PartName="/ppt/media/image12.jpeg" ContentType="image/jpeg"/>
  <Override PartName="/ppt/media/image9.gif" ContentType="image/gif"/>
  <Override PartName="/ppt/media/image16.jpeg" ContentType="image/jpeg"/>
  <Override PartName="/ppt/media/image4.jpeg" ContentType="image/jpeg"/>
  <Override PartName="/ppt/media/image25.jpeg" ContentType="image/jpeg"/>
  <Override PartName="/ppt/media/image3.gif" ContentType="image/gif"/>
  <Override PartName="/ppt/media/image6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media/image18.gif" ContentType="image/gif"/>
  <Override PartName="/ppt/media/image1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8D2E-DBCE-49E7-B34C-91E26806E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8F42-A7A5-451F-9BDD-42C4FC112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228C-D19E-44D1-9630-442D25F16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8052-9317-4C96-9AAF-8CF317A47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B3EF-465B-4BBF-AC73-F92EA29B7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97CD-AF65-47FB-B42B-855D24670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D9BF-AF06-4AF7-B0C9-512456869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0D8A-5778-47B2-95FF-78C6C17ED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72D3-1810-4148-BBB8-48F19BF34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8D87-6470-4D97-A1FD-7133E2435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DF8A-91CA-4E1E-98D3-58527EE2E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08AD-8AD3-45D3-B925-569FAB4FE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D952A-BED4-44C9-8087-53E74A02903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png"/><Relationship Id="rId3" Type="http://schemas.openxmlformats.org/officeDocument/2006/relationships/slide" Target="slide14.xml"/><Relationship Id="rId4" Type="http://schemas.openxmlformats.org/officeDocument/2006/relationships/image" Target="../media/image9.gif"/><Relationship Id="rId5" Type="http://schemas.openxmlformats.org/officeDocument/2006/relationships/slide" Target="slide15.xml"/><Relationship Id="rId6" Type="http://schemas.openxmlformats.org/officeDocument/2006/relationships/image" Target="../media/image9.gif"/><Relationship Id="rId7" Type="http://schemas.openxmlformats.org/officeDocument/2006/relationships/slide" Target="slide16.xml"/><Relationship Id="rId8" Type="http://schemas.openxmlformats.org/officeDocument/2006/relationships/image" Target="../media/image9.gif"/><Relationship Id="rId9" Type="http://schemas.openxmlformats.org/officeDocument/2006/relationships/slide" Target="slide17.xml"/><Relationship Id="rId10" Type="http://schemas.openxmlformats.org/officeDocument/2006/relationships/image" Target="../media/image9.gif"/><Relationship Id="rId11" Type="http://schemas.openxmlformats.org/officeDocument/2006/relationships/audio" Target="../media/projctor.wav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" Target="slide13.xml"/><Relationship Id="rId8" Type="http://schemas.openxmlformats.org/officeDocument/2006/relationships/image" Target="../media/image9.gif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" Target="slide13.xml"/><Relationship Id="rId3" Type="http://schemas.openxmlformats.org/officeDocument/2006/relationships/image" Target="../media/image9.gif"/><Relationship Id="rId4" Type="http://schemas.openxmlformats.org/officeDocument/2006/relationships/image" Target="../media/image18.gi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" Target="slide13.xml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" Target="slide13.xml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image" Target="../media/image30.gif"/><Relationship Id="rId10" Type="http://schemas.openxmlformats.org/officeDocument/2006/relationships/image" Target="../media/image30.gif"/><Relationship Id="rId11" Type="http://schemas.openxmlformats.org/officeDocument/2006/relationships/image" Target="../media/image30.gif"/><Relationship Id="rId12" Type="http://schemas.openxmlformats.org/officeDocument/2006/relationships/image" Target="../media/image31.gif"/><Relationship Id="rId13" Type="http://schemas.openxmlformats.org/officeDocument/2006/relationships/image" Target="../media/image31.gif"/><Relationship Id="rId14" Type="http://schemas.openxmlformats.org/officeDocument/2006/relationships/image" Target="../media/image31.gif"/><Relationship Id="rId15" Type="http://schemas.openxmlformats.org/officeDocument/2006/relationships/image" Target="../media/image31.gif"/><Relationship Id="rId16" Type="http://schemas.openxmlformats.org/officeDocument/2006/relationships/image" Target="../media/image31.gif"/><Relationship Id="rId17" Type="http://schemas.openxmlformats.org/officeDocument/2006/relationships/image" Target="../media/image31.gif"/><Relationship Id="rId18" Type="http://schemas.openxmlformats.org/officeDocument/2006/relationships/image" Target="../media/image31.gif"/><Relationship Id="rId19" Type="http://schemas.openxmlformats.org/officeDocument/2006/relationships/image" Target="../media/image31.gif"/><Relationship Id="rId20" Type="http://schemas.openxmlformats.org/officeDocument/2006/relationships/image" Target="../media/image31.gif"/><Relationship Id="rId21" Type="http://schemas.openxmlformats.org/officeDocument/2006/relationships/image" Target="../media/image31.gif"/><Relationship Id="rId22" Type="http://schemas.openxmlformats.org/officeDocument/2006/relationships/image" Target="../media/image31.gif"/><Relationship Id="rId23" Type="http://schemas.openxmlformats.org/officeDocument/2006/relationships/image" Target="../media/image31.gif"/><Relationship Id="rId2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876920" y="4114800"/>
            <a:ext cx="2324160" cy="19810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6019920" y="-609480"/>
            <a:ext cx="3684600" cy="39621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-762120" y="1447920"/>
            <a:ext cx="2676600" cy="4429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2484360" y="1916280"/>
            <a:ext cx="381636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欢庆</a:t>
            </a:r>
            <a:endParaRPr b="1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2209680" y="762120"/>
          <a:ext cx="5867640" cy="5410080"/>
        </p:xfrm>
        <a:graphic>
          <a:graphicData uri="http://schemas.openxmlformats.org/drawingml/2006/table">
            <a:tbl>
              <a:tblPr/>
              <a:tblGrid>
                <a:gridCol w="2933640"/>
                <a:gridCol w="2934000"/>
              </a:tblGrid>
              <a:tr h="272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268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3780720" y="228600"/>
            <a:ext cx="322884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奏</a:t>
            </a:r>
            <a:endParaRPr b="0" lang="en-US" sz="4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017960" y="-228600"/>
            <a:ext cx="24667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弹 奏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22240" y="0"/>
            <a:ext cx="146376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曲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2209680" y="762120"/>
          <a:ext cx="6019920" cy="5486400"/>
        </p:xfrm>
        <a:graphic>
          <a:graphicData uri="http://schemas.openxmlformats.org/drawingml/2006/table">
            <a:tbl>
              <a:tblPr/>
              <a:tblGrid>
                <a:gridCol w="3009960"/>
                <a:gridCol w="3009960"/>
              </a:tblGrid>
              <a:tr h="275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27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"/>
          <p:cNvSpPr/>
          <p:nvPr/>
        </p:nvSpPr>
        <p:spPr>
          <a:xfrm>
            <a:off x="3621960" y="-76320"/>
            <a:ext cx="322884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曲</a:t>
            </a:r>
            <a:endParaRPr b="0" lang="en-US" sz="4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017960" y="-228600"/>
            <a:ext cx="24667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歌 曲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66240" y="593640"/>
            <a:ext cx="87084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我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会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唱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好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多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歌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曲</a:t>
            </a:r>
            <a:r>
              <a:rPr b="1" lang="zh-CN" sz="5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。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2133720" y="762120"/>
          <a:ext cx="6019560" cy="5410080"/>
        </p:xfrm>
        <a:graphic>
          <a:graphicData uri="http://schemas.openxmlformats.org/drawingml/2006/table">
            <a:tbl>
              <a:tblPr/>
              <a:tblGrid>
                <a:gridCol w="3009600"/>
                <a:gridCol w="3009960"/>
              </a:tblGrid>
              <a:tr h="272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268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"/>
          <p:cNvSpPr/>
          <p:nvPr/>
        </p:nvSpPr>
        <p:spPr>
          <a:xfrm>
            <a:off x="3475800" y="76320"/>
            <a:ext cx="322884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亿</a:t>
            </a:r>
            <a:endParaRPr b="0" lang="en-US" sz="4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94200" y="-152280"/>
            <a:ext cx="24667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十三亿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44720" y="212760"/>
            <a:ext cx="56160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我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国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有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十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三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亿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人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口。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99" name=""/>
          <p:cNvSpPr/>
          <p:nvPr/>
        </p:nvSpPr>
        <p:spPr>
          <a:xfrm>
            <a:off x="3223440" y="167652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田野献上金黄的果实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99760" y="259092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枫林举起火红的旗帜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99760" y="350532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蓝天飞着洁白的鸽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99760" y="441972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大海奏起欢乐的乐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600200" y="1828800"/>
            <a:ext cx="696960" cy="6285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600200" y="2590920"/>
            <a:ext cx="696960" cy="6285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600200" y="3429000"/>
            <a:ext cx="696960" cy="6285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1676520" y="4419720"/>
            <a:ext cx="696960" cy="6285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  <p:sndAc>
      <p:stSnd>
        <p:snd r:embed="rId11" name="projctor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1797120" cy="24382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590920" y="304920"/>
            <a:ext cx="2286000" cy="23619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5105520" y="228600"/>
            <a:ext cx="1784160" cy="25146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7162920" y="304920"/>
            <a:ext cx="1679400" cy="24382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2971800" y="2971800"/>
            <a:ext cx="3352680" cy="22636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6781680" y="320040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454120" y="5486400"/>
            <a:ext cx="429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田野献上金黄的果实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8447040" y="6229440"/>
            <a:ext cx="696960" cy="6285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9"/>
          <a:stretch/>
        </p:blipFill>
        <p:spPr>
          <a:xfrm>
            <a:off x="457200" y="3048120"/>
            <a:ext cx="1832040" cy="2361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ff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85800" y="547560"/>
            <a:ext cx="6095880" cy="4857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606760" y="5486400"/>
            <a:ext cx="429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枫林举起火红的旗帜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447040" y="6229440"/>
            <a:ext cx="696960" cy="6285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010280" y="1295280"/>
            <a:ext cx="1828800" cy="125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fffff"/>
            </a:gs>
            <a:gs pos="100000">
              <a:srgbClr val="ff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219320" y="304920"/>
            <a:ext cx="6705360" cy="50292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621160" y="5410080"/>
            <a:ext cx="429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蓝天飞着洁白的鸽子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3280" y="6229440"/>
            <a:ext cx="696960" cy="62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1600" y="304920"/>
            <a:ext cx="6553080" cy="49147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759040" y="5410080"/>
            <a:ext cx="429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大海奏起欢乐的乐曲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447040" y="6229440"/>
            <a:ext cx="696960" cy="62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ld"/>
    <p:sndAc>
      <p:stSnd>
        <p:snd r:embed="rId2" name="projctor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1680">
            <a:solidFill>
              <a:srgbClr val="ffff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6"/>
          <a:stretch/>
        </p:blipFill>
        <p:spPr>
          <a:xfrm>
            <a:off x="0" y="0"/>
            <a:ext cx="4572000" cy="34099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7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31680">
            <a:solidFill>
              <a:srgbClr val="ffff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8"/>
          <a:stretch/>
        </p:blipFill>
        <p:spPr>
          <a:xfrm>
            <a:off x="0" y="3429000"/>
            <a:ext cx="4495680" cy="3429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9"/>
          <a:stretch/>
        </p:blipFill>
        <p:spPr>
          <a:xfrm>
            <a:off x="1143000" y="1828800"/>
            <a:ext cx="1650960" cy="27432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10"/>
          <a:stretch/>
        </p:blipFill>
        <p:spPr>
          <a:xfrm>
            <a:off x="3778200" y="1905120"/>
            <a:ext cx="1587600" cy="274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11"/>
          <a:stretch/>
        </p:blipFill>
        <p:spPr>
          <a:xfrm>
            <a:off x="6172200" y="2133720"/>
            <a:ext cx="1460520" cy="23619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>
            <a:off x="-685800" y="1676520"/>
            <a:ext cx="967752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 </a:t>
            </a:r>
            <a:r>
              <a:rPr b="1" lang="zh-CN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举国欢庆</a:t>
            </a:r>
            <a:endParaRPr b="1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2"/>
          <a:stretch/>
        </p:blipFill>
        <p:spPr>
          <a:xfrm>
            <a:off x="3581280" y="0"/>
            <a:ext cx="1333800" cy="16002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13"/>
          <a:stretch/>
        </p:blipFill>
        <p:spPr>
          <a:xfrm>
            <a:off x="6095880" y="5200560"/>
            <a:ext cx="1371600" cy="16574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14"/>
          <a:stretch/>
        </p:blipFill>
        <p:spPr>
          <a:xfrm>
            <a:off x="0" y="0"/>
            <a:ext cx="1143000" cy="13716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15"/>
          <a:stretch/>
        </p:blipFill>
        <p:spPr>
          <a:xfrm>
            <a:off x="7772400" y="5200560"/>
            <a:ext cx="1371600" cy="16574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16"/>
          <a:stretch/>
        </p:blipFill>
        <p:spPr>
          <a:xfrm>
            <a:off x="3886200" y="5200560"/>
            <a:ext cx="1371600" cy="16574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17"/>
          <a:stretch/>
        </p:blipFill>
        <p:spPr>
          <a:xfrm>
            <a:off x="1981080" y="5200560"/>
            <a:ext cx="1371600" cy="16574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18"/>
          <a:stretch/>
        </p:blipFill>
        <p:spPr>
          <a:xfrm>
            <a:off x="0" y="5200560"/>
            <a:ext cx="1371600" cy="16574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19"/>
          <a:stretch/>
        </p:blipFill>
        <p:spPr>
          <a:xfrm>
            <a:off x="7772400" y="0"/>
            <a:ext cx="1371600" cy="16574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0"/>
          <a:stretch/>
        </p:blipFill>
        <p:spPr>
          <a:xfrm>
            <a:off x="5791320" y="0"/>
            <a:ext cx="1371600" cy="16574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1"/>
          <a:stretch/>
        </p:blipFill>
        <p:spPr>
          <a:xfrm>
            <a:off x="2057400" y="0"/>
            <a:ext cx="1371600" cy="16574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2"/>
          <a:stretch/>
        </p:blipFill>
        <p:spPr>
          <a:xfrm>
            <a:off x="0" y="2600280"/>
            <a:ext cx="1371600" cy="16574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3"/>
          <a:stretch/>
        </p:blipFill>
        <p:spPr>
          <a:xfrm>
            <a:off x="7772400" y="2600280"/>
            <a:ext cx="1371600" cy="165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6000"/>
                            </p:stCondLst>
                            <p:childTnLst>
                              <p:par>
                                <p:cTn id="11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7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9000"/>
                            </p:stCondLst>
                            <p:childTnLst>
                              <p:par>
                                <p:cTn id="12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9500"/>
                            </p:stCondLst>
                            <p:childTnLst>
                              <p:par>
                                <p:cTn id="130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2500"/>
                            </p:stCondLst>
                            <p:childTnLst>
                              <p:par>
                                <p:cTn id="1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350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400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450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500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550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600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650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700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750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8000"/>
                            </p:stCondLst>
                            <p:childTnLst>
                              <p:par>
                                <p:cTn id="1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8500"/>
                            </p:stCondLst>
                            <p:childTnLst>
                              <p:par>
                                <p:cTn id="1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9000"/>
                            </p:stCondLst>
                            <p:childTnLst>
                              <p:par>
                                <p:cTn id="1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90720" y="1752480"/>
            <a:ext cx="7162560" cy="51055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52280"/>
            <a:ext cx="914400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</a:t>
            </a:r>
            <a:r>
              <a:rPr b="1" lang="zh-CN" sz="55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1949</a:t>
            </a:r>
            <a:r>
              <a:rPr b="1" lang="zh-CN" sz="55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年</a:t>
            </a:r>
            <a:r>
              <a:rPr b="1" lang="zh-CN" sz="55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10</a:t>
            </a:r>
            <a:r>
              <a:rPr b="1" lang="zh-CN" sz="55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月</a:t>
            </a:r>
            <a:r>
              <a:rPr b="1" lang="zh-CN" sz="55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1</a:t>
            </a:r>
            <a:r>
              <a:rPr b="1" lang="zh-CN" sz="55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日，“中华人民共和国”成立了！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4114800" y="4038480"/>
            <a:ext cx="914400" cy="103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方正姚体"/>
              </a:rPr>
              <a:t>新</a:t>
            </a:r>
            <a:endParaRPr b="0" lang="en-US" sz="72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方正姚体"/>
              <a:ea typeface="方正姚体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257800" y="2390760"/>
            <a:ext cx="914400" cy="103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方正姚体"/>
              </a:rPr>
              <a:t>面</a:t>
            </a:r>
            <a:endParaRPr b="0" lang="en-US" sz="72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方正姚体"/>
              <a:ea typeface="方正姚体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400800" y="3733920"/>
            <a:ext cx="914400" cy="103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方正姚体"/>
              </a:rPr>
              <a:t>貌</a:t>
            </a:r>
            <a:endParaRPr b="0" lang="en-US" sz="72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方正姚体"/>
              <a:ea typeface="方正姚体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895480" y="2909880"/>
            <a:ext cx="914400" cy="103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方正姚体"/>
              </a:rPr>
              <a:t>国</a:t>
            </a:r>
            <a:endParaRPr b="0" lang="en-US" sz="72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方正姚体"/>
              <a:ea typeface="方正姚体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447920" y="3886200"/>
            <a:ext cx="914400" cy="103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方正姚体"/>
              </a:rPr>
              <a:t>祖</a:t>
            </a:r>
            <a:endParaRPr b="0" lang="en-US" sz="72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方正姚体"/>
              <a:ea typeface="方正姚体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9144000" y="6858000"/>
            <a:ext cx="360" cy="22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"/>
          <p:cNvGrpSpPr/>
          <p:nvPr/>
        </p:nvGrpSpPr>
        <p:grpSpPr>
          <a:xfrm>
            <a:off x="0" y="0"/>
            <a:ext cx="9144000" cy="7086600"/>
            <a:chOff x="0" y="0"/>
            <a:chExt cx="9144000" cy="7086600"/>
          </a:xfrm>
        </p:grpSpPr>
        <p:pic>
          <p:nvPicPr>
            <p:cNvPr id="162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08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 txBox="1"/>
            <p:nvPr/>
          </p:nvSpPr>
          <p:spPr>
            <a:xfrm>
              <a:off x="365400" y="811800"/>
              <a:ext cx="2907720" cy="507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1" strike="noStrike">
                  <a:ln w="9360">
                    <a:solidFill>
                      <a:srgbClr val="ffff00"/>
                    </a:solidFill>
                    <a:miter/>
                  </a:ln>
                  <a:solidFill>
                    <a:srgbClr val="ffff00"/>
                  </a:solidFill>
                  <a:latin typeface="华文行楷"/>
                </a:rPr>
                <a:t>世界贸易中心</a:t>
              </a:r>
              <a:endParaRPr b="0" lang="en-US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华文行楷"/>
                <a:ea typeface="华文行楷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"/>
          <p:cNvGrpSpPr/>
          <p:nvPr/>
        </p:nvGrpSpPr>
        <p:grpSpPr>
          <a:xfrm>
            <a:off x="0" y="0"/>
            <a:ext cx="9144000" cy="6985080"/>
            <a:chOff x="0" y="0"/>
            <a:chExt cx="9144000" cy="6985080"/>
          </a:xfrm>
        </p:grpSpPr>
        <p:pic>
          <p:nvPicPr>
            <p:cNvPr id="165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9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 txBox="1"/>
            <p:nvPr/>
          </p:nvSpPr>
          <p:spPr>
            <a:xfrm>
              <a:off x="5867280" y="736560"/>
              <a:ext cx="2438640" cy="638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华文行楷"/>
                </a:rPr>
                <a:t>解放大桥</a:t>
              </a:r>
              <a:endParaRPr b="0" lang="en-US" sz="4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华文行楷"/>
                <a:ea typeface="华文行楷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6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 txBox="1"/>
            <p:nvPr/>
          </p:nvSpPr>
          <p:spPr>
            <a:xfrm>
              <a:off x="1843560" y="5125320"/>
              <a:ext cx="2359440" cy="60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1" strike="noStrike">
                  <a:ln w="9360">
                    <a:solidFill>
                      <a:srgbClr val="ffff00"/>
                    </a:solidFill>
                    <a:miter/>
                  </a:ln>
                  <a:solidFill>
                    <a:srgbClr val="ffff00"/>
                  </a:solidFill>
                  <a:latin typeface="华文行楷"/>
                </a:rPr>
                <a:t>花园酒店</a:t>
              </a:r>
              <a:endParaRPr b="0" lang="en-US" sz="4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华文行楷"/>
                <a:ea typeface="华文行楷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1371600" y="2209680"/>
            <a:ext cx="696960" cy="6289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1371600" y="2895480"/>
            <a:ext cx="696960" cy="6289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1371600" y="3733920"/>
            <a:ext cx="696960" cy="6285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5"/>
          <a:stretch/>
        </p:blipFill>
        <p:spPr>
          <a:xfrm>
            <a:off x="1371600" y="4495680"/>
            <a:ext cx="696960" cy="628920"/>
          </a:xfrm>
          <a:prstGeom prst="rect">
            <a:avLst/>
          </a:prstGeom>
          <a:ln w="0">
            <a:noFill/>
          </a:ln>
        </p:spPr>
      </p:pic>
      <p:grpSp>
        <p:nvGrpSpPr>
          <p:cNvPr id="174" name=""/>
          <p:cNvGrpSpPr/>
          <p:nvPr/>
        </p:nvGrpSpPr>
        <p:grpSpPr>
          <a:xfrm>
            <a:off x="2567880" y="1295280"/>
            <a:ext cx="4007880" cy="4574520"/>
            <a:chOff x="2567880" y="1295280"/>
            <a:chExt cx="4007880" cy="4574520"/>
          </a:xfrm>
        </p:grpSpPr>
        <p:sp>
          <p:nvSpPr>
            <p:cNvPr id="175" name=""/>
            <p:cNvSpPr txBox="1"/>
            <p:nvPr/>
          </p:nvSpPr>
          <p:spPr>
            <a:xfrm>
              <a:off x="3733920" y="1295280"/>
              <a:ext cx="1828800" cy="60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隶书"/>
                </a:rPr>
                <a:t>我能行</a:t>
              </a:r>
              <a:endPara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  <a:ea typeface="隶书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981160" y="2133720"/>
              <a:ext cx="359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把这首诗有感情地朗诵给爸爸妈妈听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316680" y="289548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给课文画一幅插图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854880" y="373392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给课文找一首相配的歌曲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567880" y="4572000"/>
              <a:ext cx="167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给课文编个舞蹈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898800" y="54100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（任选一两项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143000" y="1752480"/>
            <a:ext cx="7162560" cy="2971800"/>
            <a:chOff x="1143000" y="1752480"/>
            <a:chExt cx="7162560" cy="2971800"/>
          </a:xfrm>
        </p:grpSpPr>
        <p:grpSp>
          <p:nvGrpSpPr>
            <p:cNvPr id="49" name=""/>
            <p:cNvGrpSpPr/>
            <p:nvPr/>
          </p:nvGrpSpPr>
          <p:grpSpPr>
            <a:xfrm>
              <a:off x="1143000" y="1752480"/>
              <a:ext cx="3047760" cy="2971800"/>
              <a:chOff x="1143000" y="1752480"/>
              <a:chExt cx="3047760" cy="2971800"/>
            </a:xfrm>
          </p:grpSpPr>
          <p:sp>
            <p:nvSpPr>
              <p:cNvPr id="50" name=""/>
              <p:cNvSpPr/>
              <p:nvPr/>
            </p:nvSpPr>
            <p:spPr>
              <a:xfrm>
                <a:off x="1143000" y="1752480"/>
                <a:ext cx="2971800" cy="29718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143000" y="3276720"/>
                <a:ext cx="3047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2666880" y="1828800"/>
                <a:ext cx="0" cy="289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5257800" y="1752480"/>
              <a:ext cx="3047760" cy="2971800"/>
              <a:chOff x="5257800" y="1752480"/>
              <a:chExt cx="3047760" cy="2971800"/>
            </a:xfrm>
          </p:grpSpPr>
          <p:sp>
            <p:nvSpPr>
              <p:cNvPr id="54" name=""/>
              <p:cNvSpPr/>
              <p:nvPr/>
            </p:nvSpPr>
            <p:spPr>
              <a:xfrm>
                <a:off x="5257800" y="1752480"/>
                <a:ext cx="2971800" cy="29718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5257800" y="3276720"/>
                <a:ext cx="3047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6781680" y="1828800"/>
                <a:ext cx="0" cy="289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" name=""/>
            <p:cNvSpPr txBox="1"/>
            <p:nvPr/>
          </p:nvSpPr>
          <p:spPr>
            <a:xfrm>
              <a:off x="1523880" y="2133720"/>
              <a:ext cx="2057400" cy="2133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0">
                    <a:noFill/>
                  </a:ln>
                  <a:solidFill>
                    <a:srgbClr val="ff0000"/>
                  </a:solidFill>
                  <a:latin typeface="楷体_GB2312"/>
                </a:rPr>
                <a:t>欢</a:t>
              </a:r>
              <a:endParaRPr b="0" lang="en-US" sz="2400" spc="1" strike="noStrike">
                <a:ln w="0">
                  <a:noFill/>
                </a:ln>
                <a:solidFill>
                  <a:srgbClr val="ff0000"/>
                </a:solidFill>
                <a:latin typeface="楷体_GB2312"/>
                <a:ea typeface="楷体_GB2312"/>
              </a:endParaRPr>
            </a:p>
          </p:txBody>
        </p:sp>
        <p:sp>
          <p:nvSpPr>
            <p:cNvPr id="58" name=""/>
            <p:cNvSpPr txBox="1"/>
            <p:nvPr/>
          </p:nvSpPr>
          <p:spPr>
            <a:xfrm>
              <a:off x="5790960" y="2209680"/>
              <a:ext cx="1905120" cy="2133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1" strike="noStrike">
                  <a:ln w="0">
                    <a:noFill/>
                  </a:ln>
                  <a:solidFill>
                    <a:srgbClr val="ff0000"/>
                  </a:solidFill>
                  <a:latin typeface="楷体_GB2312"/>
                </a:rPr>
                <a:t>庆</a:t>
              </a:r>
              <a:endParaRPr b="1" lang="en-US" sz="2400" spc="1" strike="noStrike">
                <a:ln w="0">
                  <a:noFill/>
                </a:ln>
                <a:solidFill>
                  <a:srgbClr val="ff0000"/>
                </a:solidFill>
                <a:latin typeface="楷体_GB2312"/>
                <a:ea typeface="楷体_GB2312"/>
              </a:endParaRPr>
            </a:p>
          </p:txBody>
        </p:sp>
      </p:grpSp>
    </p:spTree>
  </p:cSld>
  <p:transition>
    <p:checker dir="vert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828800" y="2514600"/>
            <a:ext cx="7010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庆  献  帜  洁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奏  曲  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987640" y="1125360"/>
            <a:ext cx="2270160" cy="82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6600"/>
                </a:solidFill>
                <a:latin typeface="隶书"/>
              </a:rPr>
              <a:t>我会认</a:t>
            </a:r>
            <a:endParaRPr b="0" lang="en-US" sz="2400" spc="1" strike="noStrike">
              <a:ln w="0">
                <a:noFill/>
              </a:ln>
              <a:solidFill>
                <a:srgbClr val="ff6600"/>
              </a:solidFill>
              <a:latin typeface="隶书"/>
              <a:ea typeface="隶书"/>
            </a:endParaRPr>
          </a:p>
        </p:txBody>
      </p:sp>
      <p:pic>
        <p:nvPicPr>
          <p:cNvPr id="61" name="Picture 6" descr="我会猜"/>
          <p:cNvPicPr/>
          <p:nvPr/>
        </p:nvPicPr>
        <p:blipFill>
          <a:blip r:embed="rId2"/>
          <a:stretch/>
        </p:blipFill>
        <p:spPr>
          <a:xfrm>
            <a:off x="611280" y="476280"/>
            <a:ext cx="1619280" cy="15033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24000" y="530064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3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858000" y="0"/>
            <a:ext cx="2286000" cy="1066680"/>
          </a:xfrm>
          <a:prstGeom prst="flowChartPunchedTap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7162920" y="304920"/>
            <a:ext cx="16761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隶书"/>
              </a:rPr>
              <a:t>我会读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隶书"/>
              <a:ea typeface="隶书"/>
            </a:endParaRPr>
          </a:p>
        </p:txBody>
      </p:sp>
      <p:sp>
        <p:nvSpPr>
          <p:cNvPr id="66" name=""/>
          <p:cNvSpPr/>
          <p:nvPr/>
        </p:nvSpPr>
        <p:spPr>
          <a:xfrm>
            <a:off x="1698480" y="1066680"/>
            <a:ext cx="74455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献上  洁白  旗帜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祖国  奏起  十三亿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60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乐</a:t>
            </a:r>
            <a:r>
              <a:rPr b="1" lang="zh-CN" sz="6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曲  欢</a:t>
            </a:r>
            <a:r>
              <a:rPr b="1" lang="zh-CN" sz="60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乐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2135160" y="4343400"/>
            <a:ext cx="3710880" cy="642600"/>
            <a:chOff x="2135160" y="4343400"/>
            <a:chExt cx="3710880" cy="642600"/>
          </a:xfrm>
        </p:grpSpPr>
        <p:sp>
          <p:nvSpPr>
            <p:cNvPr id="68" name=""/>
            <p:cNvSpPr/>
            <p:nvPr/>
          </p:nvSpPr>
          <p:spPr>
            <a:xfrm>
              <a:off x="2135160" y="4343400"/>
              <a:ext cx="866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66"/>
                  </a:solidFill>
                  <a:latin typeface="Times New Roman"/>
                </a:rPr>
                <a:t>yuè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336280" y="4343400"/>
              <a:ext cx="50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66"/>
                  </a:solidFill>
                  <a:latin typeface="Times New Roman"/>
                </a:rPr>
                <a:t>lè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2057400" y="762120"/>
          <a:ext cx="6019920" cy="5638680"/>
        </p:xfrm>
        <a:graphic>
          <a:graphicData uri="http://schemas.openxmlformats.org/drawingml/2006/table">
            <a:tbl>
              <a:tblPr/>
              <a:tblGrid>
                <a:gridCol w="3009960"/>
                <a:gridCol w="3009960"/>
              </a:tblGrid>
              <a:tr h="28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280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"/>
          <p:cNvSpPr/>
          <p:nvPr/>
        </p:nvSpPr>
        <p:spPr>
          <a:xfrm>
            <a:off x="3353760" y="228600"/>
            <a:ext cx="322884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庆</a:t>
            </a:r>
            <a:endParaRPr b="0" lang="en-US" sz="4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65680" y="-228600"/>
            <a:ext cx="24667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庆 祝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54720" y="-73080"/>
            <a:ext cx="744480" cy="68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我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们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在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一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起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庆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祝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六、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一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儿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童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节！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2057400" y="762120"/>
          <a:ext cx="6019920" cy="5638680"/>
        </p:xfrm>
        <a:graphic>
          <a:graphicData uri="http://schemas.openxmlformats.org/drawingml/2006/table">
            <a:tbl>
              <a:tblPr/>
              <a:tblGrid>
                <a:gridCol w="3009960"/>
                <a:gridCol w="3009960"/>
              </a:tblGrid>
              <a:tr h="28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280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"/>
          <p:cNvSpPr/>
          <p:nvPr/>
        </p:nvSpPr>
        <p:spPr>
          <a:xfrm>
            <a:off x="3277440" y="304920"/>
            <a:ext cx="322884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献</a:t>
            </a:r>
            <a:endParaRPr b="0" lang="en-US" sz="4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492360" y="-228600"/>
            <a:ext cx="35942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献 上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22760" y="30240"/>
            <a:ext cx="68832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献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心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1981080" y="762120"/>
          <a:ext cx="6096240" cy="556236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279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276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3201120" y="212760"/>
            <a:ext cx="322884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帜</a:t>
            </a:r>
            <a:endParaRPr b="0" lang="en-US" sz="4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789360" y="-228600"/>
            <a:ext cx="24667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旗 帜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97840" y="-76320"/>
            <a:ext cx="706320" cy="70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广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场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上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飘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着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五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颜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六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色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的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旗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帜</a:t>
            </a:r>
            <a:r>
              <a:rPr b="1" lang="zh-CN" sz="38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。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2133720" y="762120"/>
          <a:ext cx="6019560" cy="5486400"/>
        </p:xfrm>
        <a:graphic>
          <a:graphicData uri="http://schemas.openxmlformats.org/drawingml/2006/table">
            <a:tbl>
              <a:tblPr/>
              <a:tblGrid>
                <a:gridCol w="3009600"/>
                <a:gridCol w="3009960"/>
              </a:tblGrid>
              <a:tr h="275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27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"/>
          <p:cNvSpPr/>
          <p:nvPr/>
        </p:nvSpPr>
        <p:spPr>
          <a:xfrm>
            <a:off x="3429720" y="76320"/>
            <a:ext cx="322884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洁</a:t>
            </a:r>
            <a:endParaRPr b="0" lang="en-US" sz="4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42000" y="-228600"/>
            <a:ext cx="24667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洁 白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15920" y="-76320"/>
            <a:ext cx="470160" cy="70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洁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白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的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雪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花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从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天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上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飘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落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下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来。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9T07:45:41Z</dcterms:created>
  <dc:creator/>
  <dc:description/>
  <dc:language>en-US</dc:language>
  <cp:lastModifiedBy>微软用户</cp:lastModifiedBy>
  <dcterms:modified xsi:type="dcterms:W3CDTF">2011-09-27T07:04:45Z</dcterms:modified>
  <cp:revision>40</cp:revision>
  <dc:subject/>
  <dc:title>幻灯片 1</dc:title>
</cp:coreProperties>
</file>