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camera.wav" ContentType="audio/x-wav"/>
  <Override PartName="/ppt/media/image3.png" ContentType="image/png"/>
  <Override PartName="/ppt/media/image4.jpeg" ContentType="image/jpeg"/>
  <Override PartName="/ppt/media/whoosh.wav" ContentType="audio/x-wav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D66-6B75-4D1C-9CDC-ED10335D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F1B-7644-4B78-AC8D-9EC18185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B81-0E6D-4E67-B9ED-D3B8F7AC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A3D-26BF-42FD-AC18-0A68DDDC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22ED-DBB0-4C83-A4CE-91AF2549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780B-F49B-4F2A-8AF2-E139E651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B242-7922-4990-B183-3E1D9B3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B1D6-5FBE-4CB0-86C7-2508A35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7C9B-4DBC-46EF-B841-31A64ADE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BAFE-0300-420F-93C8-E8446C99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43E7-BEAD-41DA-BFE3-AC242CF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C9C-8A73-450D-BAA1-63DC6AA2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EA84-C13A-4559-9E3F-C67205E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55E6-1114-4D84-977E-BDD43F9A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35F0-4B73-41E9-BAF3-F9650713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0303-E00D-43CC-8A3C-A110E95F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D8CC-4415-4487-9CF0-1F1E208C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CD7-77F3-42AE-8B0B-F4094DA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314-5E02-49D8-8580-6ED0482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2A8-3A0C-44CF-8622-142B8D0A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A57-13B6-4751-B38E-1B780F33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69D-4BE0-4612-A15C-94A8218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758-902A-492F-AA87-793DF31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AEE-7828-44AA-8D8F-D29B5DC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C2D-EAD8-4D4C-8B57-520F5003121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E24-C505-4A5A-A6BE-29BD4DC5B73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9280" y="333360"/>
            <a:ext cx="3816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陈涉世家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司马迁《史记》</a:t>
            </a:r>
            <a:endParaRPr b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0"/>
            <a:ext cx="807696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翻译下列的句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嗟乎，燕雀安知鸿鹄之志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王侯将相宁有种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今诚以吾众诈自称公子扶苏、项燕，为天下唱，宜多应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今亡亦死，举大计亦死，等死，死国可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又间令吴广之次所旁丛祠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天下苦秦久矣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会天大雨，道不通，度已失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89856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陈胜是农民起义的领袖，作者对这一历史人物持什么态度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6067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作者对陈胜是肯定和赞扬的。“世家”是《史记》中为那些对全国政局有影响的王侯将相所作的传记，司马迁将陈胜与一般的王侯齐观，可见对他首先发难的功绩是予以充分肯定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3480" y="60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4400" y="0"/>
            <a:ext cx="655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思考回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段是从哪几个方面来写陈胜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什么先写这段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一段从籍贯、身世、志向等方面来介绍陈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32846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先写这段主要是写陈胜少有大志，表明陈胜后来发动起义并非偶然，早有其思想根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914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692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段记述了陈胜起义的哪些史实？怎样看待他们所采用的迷信手法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2349360"/>
            <a:ext cx="8229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起义的时间、地点、发起者、参加者及其人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起义爆发的原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起义前的谋划、准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采用“丹书鱼腹”、“篝火狐鸣”等迷信的方式，这是根据当时的的具体情况而采取的斗争策略，说明陈胜、吴广的足智多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762120"/>
            <a:ext cx="84582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.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（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)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起义的导火线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(2)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陈胜认为起义将得到广大人民支持的理由是：                    ①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华文细黑"/>
                <a:ea typeface="华文细黑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②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(3)</a:t>
            </a: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为起义作舆论准备的办法是：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   ②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7621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会天大雨，道不通，度已失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秦二世杀太子扶苏，引起人民群众对秦王朝的更大不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70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楚人怀念楚将英燕，有强烈的复国愿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9625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鱼腹置书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5445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华文细黑"/>
              </a:rPr>
              <a:t>篝火狐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7280" y="907200"/>
            <a:ext cx="885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第三段写陈胜发动起义的过程，一共可分为几个步骤？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并杀两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召令徒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坛而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学过本文，你觉得陈胜是一个怎样的人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陈胜是一个胸怀大志，具有敏锐的洞察时局的能力和卓越的领导组织才能的农民领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zh-CN" sz="4400" spc="-1" strike="noStrike">
                <a:solidFill>
                  <a:srgbClr val="ffff00"/>
                </a:solidFill>
                <a:latin typeface="Arial Black"/>
              </a:rPr>
              <a:t>课堂检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7892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《陈涉世家》节选自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《</a:t>
            </a:r>
            <a:r>
              <a:rPr b="1" lang="zh-CN" sz="4000" spc="-1" strike="noStrike" u="sng">
                <a:solidFill>
                  <a:srgbClr val="ffcc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它是我国第一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cc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通史，作者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我国西汉著名的史学家和文学家。鲁迅先生评价这部伟大著作：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表现陈涉年轻时远大抱负的句子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1197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史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18032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纪传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860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史家之绝唱     无韵之《离骚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501336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燕雀安知鸿鹄之志哉！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司马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74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陈涉起义的导火线是：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陈涉起义的根本原因是：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起义的策略口号是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-1098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陈涉起义的威众方式是 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（用两个四字短语回答）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、表现陈涉蔑视权贵、叛逆性格的句子是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学习目标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积累文言词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流畅地直译课文中的重要句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弄清各段主要内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完整的句子总结陈胜这个人物形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33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一词多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76360" y="907920"/>
            <a:ext cx="3889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涉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吾闻二世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子也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2722680"/>
            <a:ext cx="2665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遇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4522680"/>
            <a:ext cx="3527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扶苏以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谏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7800" y="15382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6120" y="1197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年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9960" y="19162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9360" y="32655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6120" y="2997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各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73760" y="371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同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0640" y="497844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3760" y="4724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屡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28520" y="55897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341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306864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486900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6000" y="4594320"/>
            <a:ext cx="4968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丹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“陈胜王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得鱼腹中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2349360"/>
            <a:ext cx="590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、吴广皆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间令吴广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旁丛祠中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201600"/>
            <a:ext cx="3959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广以为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足下卜之鬼乎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800" y="9079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2120" y="476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正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74120" y="12682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但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40" y="300348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64480" y="257184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编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5480" y="352116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行军途中停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6880" y="5229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73240" y="479736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20240" y="56386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63a0"/>
                </a:solidFill>
                <a:latin typeface="楷体_GB2312"/>
                <a:ea typeface="楷体_GB2312"/>
              </a:rPr>
              <a:t>字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508464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8136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69228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1440"/>
            <a:ext cx="47530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燕雀安知鸿鹄之志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佐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辍耕之垄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920"/>
            <a:ext cx="93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52280"/>
            <a:ext cx="2376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助词  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685800"/>
            <a:ext cx="2521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  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981080"/>
            <a:ext cx="338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词  去、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4040" y="2535120"/>
            <a:ext cx="748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祭以尉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激怒其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令符离人葛婴将兵徇蕲以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扶苏以数谏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诚以吾众诈自称公子扶苏、项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或以为死，或以为亡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73392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590920"/>
            <a:ext cx="100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062160"/>
            <a:ext cx="86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3657600"/>
            <a:ext cx="1523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方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4205160"/>
            <a:ext cx="122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4724280"/>
            <a:ext cx="936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5334120"/>
            <a:ext cx="288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同“已”已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867280"/>
            <a:ext cx="273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为，认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04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819520"/>
            <a:ext cx="152280" cy="327636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360"/>
              <a:gd name="textAreaBottom" fmla="*/ 319104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1341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这件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052640"/>
            <a:ext cx="8001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陈胜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丹书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“陈胜王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狐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鸣呼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忿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身披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执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112536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王，名作动，为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1700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名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状，用朱砂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名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动，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24210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狐（鸣），名作状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像狐狸一样（嗥叫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79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使动用法  使……恼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4000" y="378936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形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名 指坚固的甲衣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指锐利的武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188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词性活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33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通假字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990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闾左適戍渔阳九百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7800" y="1066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適 通“谪”，远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752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天下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17208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唱 通“倡”，倡导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43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以怪之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24382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 通“已”，已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3276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军身被坚执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200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被 通“披”，穿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-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古今异义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564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曾经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品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尝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与人佣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990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苟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富贵，无相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9136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假如，如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苟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523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楚人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144720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爱戴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337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今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吾众诈自称公子扶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20566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如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诚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7432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怪之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卒中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往往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9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吴广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爱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43434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并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杀两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66616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来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坚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319968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373320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平时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本色、白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419000"/>
            <a:ext cx="4738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齐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并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029200"/>
            <a:ext cx="266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50133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与皆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计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5157000"/>
            <a:ext cx="5791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义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集会议事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今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管理财务的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995640" y="6826320"/>
            <a:ext cx="149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惩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7402680"/>
            <a:ext cx="1495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苦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0"/>
            <a:ext cx="891540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释下列划线词的意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今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死，举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大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亦死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死，死国可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扶苏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数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谏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故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卒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数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大楚兴，陈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令毋斩，而戍死者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十六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又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间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令吴广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    陈胜吴广皆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将军身被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坚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执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锐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皆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刑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长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天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久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九百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泽乡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会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大雨，道不通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已失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楚人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1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旦日，卒中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往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.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丹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帛曰     得鱼腹中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2:49:29Z</dcterms:created>
  <dc:creator/>
  <dc:description/>
  <dc:language>en-US</dc:language>
  <cp:lastModifiedBy>微软用户</cp:lastModifiedBy>
  <dcterms:modified xsi:type="dcterms:W3CDTF">2011-09-26T03:32:06Z</dcterms:modified>
  <cp:revision>44</cp:revision>
  <dc:subject/>
  <dc:title/>
</cp:coreProperties>
</file>