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4568-B1F4-4921-8A36-161BFA7C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535-C4E8-41A3-B0E9-ABBCB12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182-E592-40E2-860B-8DCCF15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C92-91BD-4DAB-9529-3F7E7409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EEF-D1C4-4312-9F80-7CC8D96B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75D4-6B59-4F46-9817-39D8A4EB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CFB-9CCF-4421-ADD9-9C2F22F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2BE-EF5D-49F7-B0F1-749B2F2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601-0395-490E-B055-E7A370D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D77-C5CC-43C8-8FE8-369D160F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7FD-C4AA-4627-B570-90D7C7AC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A798-A601-4591-8B8E-4D5342F6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EBD8-7274-4FFB-9D3E-295B33DA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容声双十一活动方案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78756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李智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2015.10.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52680" y="981000"/>
            <a:ext cx="5540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7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手机端总攻略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1.9-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63640" y="1484280"/>
            <a:ext cx="5710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8000" y="2560680"/>
            <a:ext cx="4822920" cy="503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2.1 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容声旗舰店双十一活动整体流程  </a:t>
            </a:r>
            <a:r>
              <a:rPr b="0" lang="zh-CN" sz="1800" spc="-1" strike="noStrike">
                <a:solidFill>
                  <a:srgbClr val="ffffcc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3352680"/>
            <a:ext cx="48247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2.2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.14-10.3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活动主题及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4197240"/>
            <a:ext cx="48247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2.3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.1-11.11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活动主题及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未知"/>
          <p:cNvSpPr/>
          <p:nvPr/>
        </p:nvSpPr>
        <p:spPr>
          <a:xfrm rot="16200000">
            <a:off x="3903480" y="4748040"/>
            <a:ext cx="1851120" cy="184788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 rot="10800000">
            <a:off x="4857480" y="3787560"/>
            <a:ext cx="185076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未知"/>
          <p:cNvSpPr/>
          <p:nvPr/>
        </p:nvSpPr>
        <p:spPr>
          <a:xfrm rot="10800000">
            <a:off x="5808600" y="2825280"/>
            <a:ext cx="1851120" cy="184788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未知"/>
          <p:cNvSpPr/>
          <p:nvPr/>
        </p:nvSpPr>
        <p:spPr>
          <a:xfrm rot="5400000">
            <a:off x="4868280" y="1860480"/>
            <a:ext cx="184968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未知"/>
          <p:cNvSpPr/>
          <p:nvPr/>
        </p:nvSpPr>
        <p:spPr>
          <a:xfrm rot="5400000">
            <a:off x="3895920" y="907200"/>
            <a:ext cx="185112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2940120" y="1860480"/>
            <a:ext cx="1851120" cy="184788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未知"/>
          <p:cNvSpPr/>
          <p:nvPr/>
        </p:nvSpPr>
        <p:spPr>
          <a:xfrm>
            <a:off x="1979640" y="2824200"/>
            <a:ext cx="1851120" cy="1849320"/>
          </a:xfrm>
          <a:custGeom>
            <a:avLst/>
            <a:gdLst/>
            <a:ahLst/>
            <a:rect l="l" t="t" r="r" b="b"/>
            <a:pathLst>
              <a:path w="1271" h="1270">
                <a:moveTo>
                  <a:pt x="0" y="635"/>
                </a:moveTo>
                <a:lnTo>
                  <a:pt x="636" y="0"/>
                </a:lnTo>
                <a:lnTo>
                  <a:pt x="862" y="227"/>
                </a:lnTo>
                <a:lnTo>
                  <a:pt x="908" y="181"/>
                </a:lnTo>
                <a:lnTo>
                  <a:pt x="1089" y="181"/>
                </a:lnTo>
                <a:lnTo>
                  <a:pt x="1134" y="408"/>
                </a:lnTo>
                <a:lnTo>
                  <a:pt x="1089" y="453"/>
                </a:lnTo>
                <a:lnTo>
                  <a:pt x="1271" y="635"/>
                </a:lnTo>
                <a:lnTo>
                  <a:pt x="636" y="1270"/>
                </a:lnTo>
                <a:lnTo>
                  <a:pt x="0" y="63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未知"/>
          <p:cNvSpPr/>
          <p:nvPr/>
        </p:nvSpPr>
        <p:spPr>
          <a:xfrm>
            <a:off x="2916360" y="3789360"/>
            <a:ext cx="1849320" cy="1849320"/>
          </a:xfrm>
          <a:custGeom>
            <a:avLst/>
            <a:gdLst/>
            <a:ahLst/>
            <a:rect l="l" t="t" r="r" b="b"/>
            <a:pathLst>
              <a:path w="1270" h="1270">
                <a:moveTo>
                  <a:pt x="634" y="1270"/>
                </a:moveTo>
                <a:lnTo>
                  <a:pt x="0" y="635"/>
                </a:lnTo>
                <a:lnTo>
                  <a:pt x="227" y="409"/>
                </a:lnTo>
                <a:lnTo>
                  <a:pt x="181" y="363"/>
                </a:lnTo>
                <a:lnTo>
                  <a:pt x="181" y="182"/>
                </a:lnTo>
                <a:lnTo>
                  <a:pt x="408" y="137"/>
                </a:lnTo>
                <a:lnTo>
                  <a:pt x="453" y="182"/>
                </a:lnTo>
                <a:lnTo>
                  <a:pt x="635" y="0"/>
                </a:lnTo>
                <a:lnTo>
                  <a:pt x="1270" y="635"/>
                </a:lnTo>
                <a:lnTo>
                  <a:pt x="1263" y="629"/>
                </a:lnTo>
                <a:lnTo>
                  <a:pt x="634" y="127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3895560" y="2824200"/>
            <a:ext cx="1849680" cy="1849320"/>
          </a:xfrm>
          <a:custGeom>
            <a:avLst/>
            <a:gdLst/>
            <a:ahLst/>
            <a:rect l="l" t="t" r="r" b="b"/>
            <a:pathLst>
              <a:path w="1270" h="1270">
                <a:moveTo>
                  <a:pt x="181" y="181"/>
                </a:moveTo>
                <a:lnTo>
                  <a:pt x="499" y="181"/>
                </a:lnTo>
                <a:lnTo>
                  <a:pt x="499" y="91"/>
                </a:lnTo>
                <a:lnTo>
                  <a:pt x="635" y="0"/>
                </a:lnTo>
                <a:lnTo>
                  <a:pt x="771" y="91"/>
                </a:lnTo>
                <a:lnTo>
                  <a:pt x="771" y="181"/>
                </a:lnTo>
                <a:lnTo>
                  <a:pt x="1089" y="181"/>
                </a:lnTo>
                <a:lnTo>
                  <a:pt x="1089" y="499"/>
                </a:lnTo>
                <a:lnTo>
                  <a:pt x="1179" y="499"/>
                </a:lnTo>
                <a:lnTo>
                  <a:pt x="1270" y="635"/>
                </a:lnTo>
                <a:lnTo>
                  <a:pt x="1179" y="771"/>
                </a:lnTo>
                <a:lnTo>
                  <a:pt x="1089" y="771"/>
                </a:lnTo>
                <a:lnTo>
                  <a:pt x="1089" y="1043"/>
                </a:lnTo>
                <a:lnTo>
                  <a:pt x="1089" y="1089"/>
                </a:lnTo>
                <a:lnTo>
                  <a:pt x="795" y="1091"/>
                </a:lnTo>
                <a:lnTo>
                  <a:pt x="795" y="1168"/>
                </a:lnTo>
                <a:lnTo>
                  <a:pt x="635" y="1270"/>
                </a:lnTo>
                <a:lnTo>
                  <a:pt x="507" y="1162"/>
                </a:lnTo>
                <a:lnTo>
                  <a:pt x="501" y="1091"/>
                </a:lnTo>
                <a:lnTo>
                  <a:pt x="181" y="1089"/>
                </a:lnTo>
                <a:lnTo>
                  <a:pt x="183" y="750"/>
                </a:lnTo>
                <a:lnTo>
                  <a:pt x="77" y="750"/>
                </a:lnTo>
                <a:lnTo>
                  <a:pt x="0" y="635"/>
                </a:lnTo>
                <a:lnTo>
                  <a:pt x="48" y="480"/>
                </a:lnTo>
                <a:lnTo>
                  <a:pt x="183" y="480"/>
                </a:lnTo>
                <a:lnTo>
                  <a:pt x="181" y="181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6667560"/>
            <a:ext cx="1582920" cy="4316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4000" y="35244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9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抢水壶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1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24940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双十一狂欢盛典启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40360" y="15573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百万优惠劵大派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443700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9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抢水壶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8800" y="26337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抽红包赢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357336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付定金惠甚双十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443700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狂欢节 面纱揭晓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98280" y="34988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容声双十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3870360" y="4713120"/>
            <a:ext cx="1120680" cy="1098720"/>
          </a:xfrm>
          <a:custGeom>
            <a:avLst/>
            <a:gdLst/>
            <a:ahLst/>
            <a:rect l="l" t="t" r="r" b="b"/>
            <a:pathLst>
              <a:path w="706" h="692">
                <a:moveTo>
                  <a:pt x="101" y="692"/>
                </a:moveTo>
                <a:lnTo>
                  <a:pt x="0" y="589"/>
                </a:lnTo>
                <a:lnTo>
                  <a:pt x="211" y="379"/>
                </a:lnTo>
                <a:lnTo>
                  <a:pt x="168" y="337"/>
                </a:lnTo>
                <a:lnTo>
                  <a:pt x="168" y="169"/>
                </a:lnTo>
                <a:lnTo>
                  <a:pt x="379" y="127"/>
                </a:lnTo>
                <a:lnTo>
                  <a:pt x="421" y="169"/>
                </a:lnTo>
                <a:lnTo>
                  <a:pt x="590" y="0"/>
                </a:lnTo>
                <a:lnTo>
                  <a:pt x="706" y="134"/>
                </a:lnTo>
                <a:lnTo>
                  <a:pt x="101" y="692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1640" y="55148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9.9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元抢水壶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1.8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60" y="909720"/>
            <a:ext cx="44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1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容声旗舰店双十一活动整体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32000" y="2274840"/>
            <a:ext cx="5184720" cy="720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32000" y="3070080"/>
            <a:ext cx="5184720" cy="1368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3440" y="4522680"/>
            <a:ext cx="5184720" cy="9223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33440" y="5511960"/>
            <a:ext cx="5184720" cy="869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4627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未知"/>
          <p:cNvSpPr/>
          <p:nvPr/>
        </p:nvSpPr>
        <p:spPr>
          <a:xfrm>
            <a:off x="6516720" y="4651200"/>
            <a:ext cx="1440000" cy="576360"/>
          </a:xfrm>
          <a:custGeom>
            <a:avLst/>
            <a:gdLst/>
            <a:ahLst/>
            <a:rect l="l" t="t" r="r" b="b"/>
            <a:pathLst>
              <a:path w="907" h="499">
                <a:moveTo>
                  <a:pt x="0" y="499"/>
                </a:moveTo>
                <a:lnTo>
                  <a:pt x="635" y="499"/>
                </a:lnTo>
                <a:lnTo>
                  <a:pt x="907" y="0"/>
                </a:lnTo>
                <a:lnTo>
                  <a:pt x="181" y="0"/>
                </a:lnTo>
                <a:lnTo>
                  <a:pt x="0" y="499"/>
                </a:lnTo>
                <a:close/>
              </a:path>
            </a:pathLst>
          </a:custGeom>
          <a:gradFill rotWithShape="0">
            <a:gsLst>
              <a:gs pos="0">
                <a:srgbClr val="b0b0b0">
                  <a:alpha val="0"/>
                </a:srgbClr>
              </a:gs>
              <a:gs pos="100000">
                <a:srgbClr val="b0b0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0800000">
            <a:off x="6515280" y="5365800"/>
            <a:ext cx="1008000" cy="101592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c4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18160" y="4361040"/>
            <a:ext cx="1006560" cy="1228680"/>
          </a:xfrm>
          <a:prstGeom prst="downArrowCallout">
            <a:avLst>
              <a:gd name="adj1" fmla="val 15594"/>
              <a:gd name="adj2" fmla="val 24801"/>
              <a:gd name="adj3" fmla="val 22317"/>
              <a:gd name="adj4" fmla="val 81718"/>
            </a:avLst>
          </a:prstGeom>
          <a:gradFill rotWithShape="0">
            <a:gsLst>
              <a:gs pos="0">
                <a:srgbClr val="ffc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16720" y="3070080"/>
            <a:ext cx="1008000" cy="1656000"/>
          </a:xfrm>
          <a:prstGeom prst="downArrowCallout">
            <a:avLst>
              <a:gd name="adj1" fmla="val 15594"/>
              <a:gd name="adj2" fmla="val 24801"/>
              <a:gd name="adj3" fmla="val 30035"/>
              <a:gd name="adj4" fmla="val 81718"/>
            </a:avLst>
          </a:prstGeom>
          <a:gradFill rotWithShape="0">
            <a:gsLst>
              <a:gs pos="0">
                <a:srgbClr val="66ff33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8160" y="2203560"/>
            <a:ext cx="1006560" cy="1082520"/>
          </a:xfrm>
          <a:prstGeom prst="downArrowCallout">
            <a:avLst>
              <a:gd name="adj1" fmla="val 15594"/>
              <a:gd name="adj2" fmla="val 24801"/>
              <a:gd name="adj3" fmla="val 19662"/>
              <a:gd name="adj4" fmla="val 81718"/>
            </a:avLst>
          </a:prstGeom>
          <a:gradFill rotWithShape="0">
            <a:gsLst>
              <a:gs pos="0">
                <a:srgbClr val="00af50"/>
              </a:gs>
              <a:gs pos="100000">
                <a:srgbClr val="00e6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05800" y="227484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5800" y="457668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05800" y="349884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82240" y="249228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一、马上关注赢土豪金（做按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69240" y="4510080"/>
            <a:ext cx="415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三、转盘大抽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0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拿到更多优惠提示：关注本店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---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领取优惠劵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---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抽红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（优惠劵与红包可以同时使用的哦！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5800" y="5584680"/>
            <a:ext cx="37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720" y="558324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四、预付定金 惠甚双十一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付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定金 领取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劵，指定产品消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产品型号：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32+902   136+9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360" y="909720"/>
            <a:ext cx="44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2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0.14-10.3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活动主题及流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03280" y="1557360"/>
            <a:ext cx="554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主标题：双十一来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副标题：十破惊天 惠战双十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33440" y="3213000"/>
            <a:ext cx="511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二、双十一当天活动优惠劵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红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百万优惠券大派送：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券（不限制购物金额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券（购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使用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　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优惠券（购满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使用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　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、买就送红包（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容声活动流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60" y="909720"/>
            <a:ext cx="446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2.3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11.1-11.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活动主题及流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1557360"/>
            <a:ext cx="5540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1000"/>
          </a:bodyPr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主标题：双十一 巅峰盛“惠”   仅此一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副标题：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全场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折封顶 低至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抢先预订 尊享折上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百万豪礼准点抢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活动细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揭开神秘大礼，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当天活动细节提前曝光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）、分时间段：从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-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，前五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台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LE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电视，第六名到第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名送工具箱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-24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开始的每个小时，第一名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LE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电视，第二名至第是十名送工具箱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）、按成交价：送赠品：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元以下，送抹布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围裙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00-2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元送水壶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元以上送净水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双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产品及价格曝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号三天开始倒计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11.11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狂欢盛典启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440" indent="-37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狂欢节盛大开幕，全民狂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c4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4720" y="148428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0"/>
          <p:cNvSpPr/>
          <p:nvPr/>
        </p:nvSpPr>
        <p:spPr>
          <a:xfrm>
            <a:off x="7524720" y="5950080"/>
            <a:ext cx="1584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3640" y="1484280"/>
            <a:ext cx="860760" cy="862200"/>
          </a:xfrm>
          <a:prstGeom prst="smileyFace">
            <a:avLst>
              <a:gd name="adj" fmla="val 4653"/>
            </a:avLst>
          </a:prstGeom>
          <a:solidFill>
            <a:srgbClr val="277bb5"/>
          </a:solidFill>
          <a:ln w="3492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目 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6551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t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官方活动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t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容声活动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art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营策略及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1054080"/>
            <a:ext cx="4822920" cy="503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1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活动时间主轴</a:t>
            </a:r>
            <a:r>
              <a:rPr b="0" lang="zh-CN" sz="1800" spc="-1" strike="noStrike">
                <a:solidFill>
                  <a:srgbClr val="ffffcc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84644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2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官方活动流程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29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08000" y="2709720"/>
            <a:ext cx="48247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3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新玩法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29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357516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4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大节奏攻略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11.1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08000" y="444024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5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家装家纺电器攻略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11.11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8000" y="5303880"/>
            <a:ext cx="4824720" cy="504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6 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优惠券会场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0.14-11.18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92160" y="6076800"/>
            <a:ext cx="4822920" cy="5050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.7  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双十一手机端总攻略（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11.9-10</a:t>
            </a:r>
            <a:r>
              <a:rPr b="1" lang="zh-CN" sz="1800" spc="-1" strike="noStrike">
                <a:solidFill>
                  <a:srgbClr val="ffff99"/>
                </a:solidFill>
                <a:latin typeface="微软雅黑"/>
                <a:ea typeface="微软雅黑"/>
              </a:rPr>
              <a:t>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18400" cy="46040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05080" y="1197000"/>
            <a:ext cx="3456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活动时间主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66920" y="1125360"/>
            <a:ext cx="5113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2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官方活动流程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8101080" cy="654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2124000" y="2565360"/>
            <a:ext cx="504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105264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3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新玩法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2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4530600" cy="2374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08000" y="2925720"/>
            <a:ext cx="4929480" cy="198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067280" y="4221000"/>
            <a:ext cx="4167000" cy="187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9280" y="3286080"/>
            <a:ext cx="172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预售：生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48360" y="3286080"/>
            <a:ext cx="17272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周期购：零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16720" y="6165720"/>
            <a:ext cx="251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万店同庆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O2O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百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79280" y="1701720"/>
            <a:ext cx="889344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97080" y="981000"/>
            <a:ext cx="5183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4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大节奏攻略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11.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90043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044720" y="1557360"/>
            <a:ext cx="6965640" cy="5040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52680" y="981000"/>
            <a:ext cx="5902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5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家装家纺电器攻略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11.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art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官方活动流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424720" cy="79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52680" y="981000"/>
            <a:ext cx="5540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.6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双十一优惠券会场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10.14-11.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6378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04:00:39Z</dcterms:created>
  <dc:creator>902392</dc:creator>
  <dc:description/>
  <dc:language>en-US</dc:language>
  <cp:lastModifiedBy>905092</cp:lastModifiedBy>
  <dcterms:modified xsi:type="dcterms:W3CDTF">2015-10-26T03:47:2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