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A728-295C-454C-B59A-2891CE792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93DA-629A-4342-BACF-385B7695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EA44-C58B-4B7B-A160-37121F49A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70BB-2A24-4C61-B29E-91F23818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0E76-37C4-4F84-9105-DBB1A99D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361-B59E-4E87-85E4-EB021E64E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DFB3-9632-4487-A546-A1E76A7D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D82D-A8A3-476C-A264-1A166F45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A3B5-1F38-47F4-A3A6-40EF08429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063C-0D94-4540-B834-61DCE5DA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F18B-4D01-46CC-8583-E9BDFB7D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747F-1A32-473D-84AF-347C4B0B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5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19ED-8FCC-4730-83D3-4C6D8CFFF36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91F3-DDC1-42C2-B809-C5794BE683B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5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1"/>
          <p:cNvSpPr/>
          <p:nvPr/>
        </p:nvSpPr>
        <p:spPr>
          <a:xfrm>
            <a:off x="3786120" y="155736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华文仿宋"/>
                <a:ea typeface="华文仿宋"/>
              </a:rPr>
              <a:t>某某某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组合 1"/>
          <p:cNvGrpSpPr/>
          <p:nvPr/>
        </p:nvGrpSpPr>
        <p:grpSpPr>
          <a:xfrm>
            <a:off x="3876840" y="3557520"/>
            <a:ext cx="4465440" cy="1518480"/>
            <a:chOff x="3876840" y="3557520"/>
            <a:chExt cx="4465440" cy="1518480"/>
          </a:xfrm>
        </p:grpSpPr>
        <p:grpSp>
          <p:nvGrpSpPr>
            <p:cNvPr id="43" name="组合 17"/>
            <p:cNvGrpSpPr/>
            <p:nvPr/>
          </p:nvGrpSpPr>
          <p:grpSpPr>
            <a:xfrm>
              <a:off x="3876840" y="3557520"/>
              <a:ext cx="4465440" cy="657720"/>
              <a:chOff x="3876840" y="3557520"/>
              <a:chExt cx="4465440" cy="657720"/>
            </a:xfrm>
          </p:grpSpPr>
          <p:sp>
            <p:nvSpPr>
              <p:cNvPr id="44" name="文本框 6"/>
              <p:cNvSpPr/>
              <p:nvPr/>
            </p:nvSpPr>
            <p:spPr>
              <a:xfrm>
                <a:off x="3876840" y="3572640"/>
                <a:ext cx="2088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ff"/>
                    </a:solidFill>
                    <a:latin typeface="华文仿宋"/>
                    <a:ea typeface="华文仿宋"/>
                  </a:rPr>
                  <a:t>指导老师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文本框 9"/>
              <p:cNvSpPr/>
              <p:nvPr/>
            </p:nvSpPr>
            <p:spPr>
              <a:xfrm>
                <a:off x="5893560" y="3557520"/>
                <a:ext cx="43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华文仿宋"/>
                    <a:ea typeface="华文仿宋"/>
                  </a:rPr>
                  <a:t>: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文本框 12"/>
              <p:cNvSpPr/>
              <p:nvPr/>
            </p:nvSpPr>
            <p:spPr>
              <a:xfrm>
                <a:off x="6328080" y="3572640"/>
                <a:ext cx="2014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ff"/>
                    </a:solidFill>
                    <a:latin typeface="华文仿宋"/>
                    <a:ea typeface="华文仿宋"/>
                  </a:rPr>
                  <a:t>名字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组合 18"/>
            <p:cNvGrpSpPr/>
            <p:nvPr/>
          </p:nvGrpSpPr>
          <p:grpSpPr>
            <a:xfrm>
              <a:off x="3876840" y="4402800"/>
              <a:ext cx="4465440" cy="673200"/>
              <a:chOff x="3876840" y="4402800"/>
              <a:chExt cx="4465440" cy="673200"/>
            </a:xfrm>
          </p:grpSpPr>
          <p:sp>
            <p:nvSpPr>
              <p:cNvPr id="48" name="文本框 7"/>
              <p:cNvSpPr/>
              <p:nvPr/>
            </p:nvSpPr>
            <p:spPr>
              <a:xfrm>
                <a:off x="3876840" y="4433400"/>
                <a:ext cx="2088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ff"/>
                    </a:solidFill>
                    <a:latin typeface="华文仿宋"/>
                    <a:ea typeface="华文仿宋"/>
                  </a:rPr>
                  <a:t>申请称号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文本框 10"/>
              <p:cNvSpPr/>
              <p:nvPr/>
            </p:nvSpPr>
            <p:spPr>
              <a:xfrm>
                <a:off x="5893560" y="4402800"/>
                <a:ext cx="43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ffff"/>
                    </a:solidFill>
                    <a:latin typeface="华文仿宋"/>
                    <a:ea typeface="华文仿宋"/>
                  </a:rPr>
                  <a:t>: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文本框 13"/>
              <p:cNvSpPr/>
              <p:nvPr/>
            </p:nvSpPr>
            <p:spPr>
              <a:xfrm>
                <a:off x="6328080" y="4428000"/>
                <a:ext cx="2014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ff"/>
                    </a:solidFill>
                    <a:latin typeface="华文仿宋"/>
                    <a:ea typeface="华文仿宋"/>
                  </a:rPr>
                  <a:t>三好学生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" name="组合 20"/>
          <p:cNvGrpSpPr/>
          <p:nvPr/>
        </p:nvGrpSpPr>
        <p:grpSpPr>
          <a:xfrm>
            <a:off x="826920" y="1679400"/>
            <a:ext cx="2646360" cy="3357720"/>
            <a:chOff x="826920" y="1679400"/>
            <a:chExt cx="2646360" cy="3357720"/>
          </a:xfrm>
        </p:grpSpPr>
        <p:sp>
          <p:nvSpPr>
            <p:cNvPr id="52" name="Freeform 5"/>
            <p:cNvSpPr/>
            <p:nvPr/>
          </p:nvSpPr>
          <p:spPr>
            <a:xfrm>
              <a:off x="826920" y="3526920"/>
              <a:ext cx="2646360" cy="15102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1342800" y="1679400"/>
              <a:ext cx="1618560" cy="33577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75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75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5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组合 1"/>
          <p:cNvGrpSpPr/>
          <p:nvPr/>
        </p:nvGrpSpPr>
        <p:grpSpPr>
          <a:xfrm>
            <a:off x="1246320" y="2387520"/>
            <a:ext cx="2808000" cy="3095640"/>
            <a:chOff x="1246320" y="2387520"/>
            <a:chExt cx="2808000" cy="3095640"/>
          </a:xfrm>
        </p:grpSpPr>
        <p:grpSp>
          <p:nvGrpSpPr>
            <p:cNvPr id="55" name="组合 18"/>
            <p:cNvGrpSpPr/>
            <p:nvPr/>
          </p:nvGrpSpPr>
          <p:grpSpPr>
            <a:xfrm>
              <a:off x="1821960" y="2953800"/>
              <a:ext cx="1701720" cy="2008080"/>
              <a:chOff x="1821960" y="2953800"/>
              <a:chExt cx="1701720" cy="2008080"/>
            </a:xfrm>
          </p:grpSpPr>
          <p:sp>
            <p:nvSpPr>
              <p:cNvPr id="56" name="Freeform 10"/>
              <p:cNvSpPr/>
              <p:nvPr/>
            </p:nvSpPr>
            <p:spPr>
              <a:xfrm>
                <a:off x="1821960" y="3387600"/>
                <a:ext cx="819720" cy="157428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11"/>
              <p:cNvSpPr/>
              <p:nvPr/>
            </p:nvSpPr>
            <p:spPr>
              <a:xfrm>
                <a:off x="1884240" y="3242880"/>
                <a:ext cx="697680" cy="4734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Freeform 12"/>
              <p:cNvSpPr/>
              <p:nvPr/>
            </p:nvSpPr>
            <p:spPr>
              <a:xfrm>
                <a:off x="1991880" y="3101040"/>
                <a:ext cx="615240" cy="57564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Freeform 13"/>
              <p:cNvSpPr/>
              <p:nvPr/>
            </p:nvSpPr>
            <p:spPr>
              <a:xfrm>
                <a:off x="2113920" y="2953800"/>
                <a:ext cx="536040" cy="66348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14"/>
              <p:cNvSpPr/>
              <p:nvPr/>
            </p:nvSpPr>
            <p:spPr>
              <a:xfrm>
                <a:off x="2703960" y="3387600"/>
                <a:ext cx="819720" cy="157428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15"/>
              <p:cNvSpPr/>
              <p:nvPr/>
            </p:nvSpPr>
            <p:spPr>
              <a:xfrm>
                <a:off x="2763720" y="3242880"/>
                <a:ext cx="697680" cy="47340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Freeform 16"/>
              <p:cNvSpPr/>
              <p:nvPr/>
            </p:nvSpPr>
            <p:spPr>
              <a:xfrm>
                <a:off x="2743560" y="3101040"/>
                <a:ext cx="618120" cy="57564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7"/>
              <p:cNvSpPr/>
              <p:nvPr/>
            </p:nvSpPr>
            <p:spPr>
              <a:xfrm>
                <a:off x="2703960" y="2953800"/>
                <a:ext cx="527400" cy="66348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圆角矩形 19"/>
            <p:cNvSpPr/>
            <p:nvPr/>
          </p:nvSpPr>
          <p:spPr>
            <a:xfrm>
              <a:off x="1246320" y="2387520"/>
              <a:ext cx="2808000" cy="3095640"/>
            </a:xfrm>
            <a:custGeom>
              <a:avLst/>
              <a:gdLst>
                <a:gd name="textAreaLeft" fmla="*/ 136800 w 2808000"/>
                <a:gd name="textAreaRight" fmla="*/ 2671200 w 2808000"/>
                <a:gd name="textAreaTop" fmla="*/ 136800 h 3095640"/>
                <a:gd name="textAreaBottom" fmla="*/ 2958840 h 3095640"/>
              </a:gdLst>
              <a:ahLst/>
              <a:rect l="textAreaLeft" t="textAreaTop" r="textAreaRight" b="textAreaBottom"/>
              <a:pathLst>
                <a:path w="21600" h="23812">
                  <a:moveTo>
                    <a:pt x="3600" y="0"/>
                  </a:moveTo>
                  <a:arcTo wR="3600" hR="3600" stAng="16200000" swAng="-5400000"/>
                  <a:lnTo>
                    <a:pt x="0" y="20212"/>
                  </a:lnTo>
                  <a:arcTo wR="3600" hR="3600" stAng="10800000" swAng="-5400000"/>
                  <a:lnTo>
                    <a:pt x="18000" y="238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2"/>
          <p:cNvGrpSpPr/>
          <p:nvPr/>
        </p:nvGrpSpPr>
        <p:grpSpPr>
          <a:xfrm>
            <a:off x="5148360" y="2387520"/>
            <a:ext cx="2808360" cy="3095640"/>
            <a:chOff x="5148360" y="2387520"/>
            <a:chExt cx="2808360" cy="3095640"/>
          </a:xfrm>
        </p:grpSpPr>
        <p:grpSp>
          <p:nvGrpSpPr>
            <p:cNvPr id="66" name="组合 6"/>
            <p:cNvGrpSpPr/>
            <p:nvPr/>
          </p:nvGrpSpPr>
          <p:grpSpPr>
            <a:xfrm>
              <a:off x="5373720" y="2908800"/>
              <a:ext cx="2233080" cy="2053080"/>
              <a:chOff x="5373720" y="2908800"/>
              <a:chExt cx="2233080" cy="2053080"/>
            </a:xfrm>
          </p:grpSpPr>
          <p:sp>
            <p:nvSpPr>
              <p:cNvPr id="67" name="Freeform 5"/>
              <p:cNvSpPr/>
              <p:nvPr/>
            </p:nvSpPr>
            <p:spPr>
              <a:xfrm flipH="1">
                <a:off x="5373720" y="3107880"/>
                <a:ext cx="696960" cy="70812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>
                <a:off x="6079680" y="2908800"/>
                <a:ext cx="1526760" cy="2053080"/>
              </a:xfrm>
              <a:prstGeom prst="pie">
                <a:avLst/>
              </a:prstGeom>
              <a:noFill/>
              <a:ln w="381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圆角矩形 20"/>
            <p:cNvSpPr/>
            <p:nvPr/>
          </p:nvSpPr>
          <p:spPr>
            <a:xfrm>
              <a:off x="5148360" y="2387520"/>
              <a:ext cx="2808360" cy="3095640"/>
            </a:xfrm>
            <a:custGeom>
              <a:avLst/>
              <a:gdLst>
                <a:gd name="textAreaLeft" fmla="*/ 136800 w 2808360"/>
                <a:gd name="textAreaRight" fmla="*/ 2671560 w 2808360"/>
                <a:gd name="textAreaTop" fmla="*/ 136800 h 3095640"/>
                <a:gd name="textAreaBottom" fmla="*/ 2958840 h 3095640"/>
              </a:gdLst>
              <a:ahLst/>
              <a:rect l="textAreaLeft" t="textAreaTop" r="textAreaRight" b="textAreaBottom"/>
              <a:pathLst>
                <a:path w="21600" h="23809">
                  <a:moveTo>
                    <a:pt x="3600" y="0"/>
                  </a:moveTo>
                  <a:arcTo wR="3600" hR="3600" stAng="16200000" swAng="-5400000"/>
                  <a:lnTo>
                    <a:pt x="0" y="20209"/>
                  </a:lnTo>
                  <a:arcTo wR="3600" hR="3600" stAng="10800000" swAng="-5400000"/>
                  <a:lnTo>
                    <a:pt x="18000" y="2380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文本框 24"/>
          <p:cNvSpPr/>
          <p:nvPr/>
        </p:nvSpPr>
        <p:spPr>
          <a:xfrm>
            <a:off x="1706400" y="1212840"/>
            <a:ext cx="1887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仿宋"/>
                <a:ea typeface="华文仿宋"/>
              </a:rPr>
              <a:t>科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5"/>
          <p:cNvSpPr/>
          <p:nvPr/>
        </p:nvSpPr>
        <p:spPr>
          <a:xfrm>
            <a:off x="5608800" y="1212840"/>
            <a:ext cx="188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仿宋"/>
                <a:ea typeface="华文仿宋"/>
              </a:rPr>
              <a:t>生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26"/>
          <p:cNvSpPr/>
          <p:nvPr/>
        </p:nvSpPr>
        <p:spPr>
          <a:xfrm>
            <a:off x="3719520" y="1212840"/>
            <a:ext cx="188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华文仿宋"/>
                <a:ea typeface="华文仿宋"/>
              </a:rPr>
              <a:t>&amp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7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75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75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7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7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7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7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750"/>
                            </p:stCondLst>
                            <p:childTnLst>
                              <p:par>
                                <p:cTn id="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5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1"/>
          <p:cNvGrpSpPr/>
          <p:nvPr/>
        </p:nvGrpSpPr>
        <p:grpSpPr>
          <a:xfrm>
            <a:off x="395280" y="993600"/>
            <a:ext cx="7705800" cy="3126600"/>
            <a:chOff x="395280" y="993600"/>
            <a:chExt cx="7705800" cy="3126600"/>
          </a:xfrm>
        </p:grpSpPr>
        <p:sp>
          <p:nvSpPr>
            <p:cNvPr id="74" name="矩形 12"/>
            <p:cNvSpPr/>
            <p:nvPr/>
          </p:nvSpPr>
          <p:spPr>
            <a:xfrm>
              <a:off x="2555640" y="2282040"/>
              <a:ext cx="5545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Calibri"/>
                  <a:ea typeface="华文仿宋"/>
                </a:rPr>
                <a:t>锐普有中国最大的原创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华文仿宋"/>
                </a:rPr>
                <a:t>PPT</a:t>
              </a:r>
              <a:r>
                <a:rPr b="1" lang="zh-CN" sz="2000" spc="-1" strike="noStrike">
                  <a:solidFill>
                    <a:srgbClr val="ffffff"/>
                  </a:solidFill>
                  <a:latin typeface="Calibri"/>
                  <a:ea typeface="华文仿宋"/>
                </a:rPr>
                <a:t>素材站，有中国最强的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华文仿宋"/>
                </a:rPr>
                <a:t>PPT</a:t>
              </a:r>
              <a:r>
                <a:rPr b="1" lang="zh-CN" sz="2000" spc="-1" strike="noStrike">
                  <a:solidFill>
                    <a:srgbClr val="ffffff"/>
                  </a:solidFill>
                  <a:latin typeface="Calibri"/>
                  <a:ea typeface="华文仿宋"/>
                </a:rPr>
                <a:t>制作团队，有人人都能快速提升的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华文仿宋"/>
                </a:rPr>
                <a:t>PPT</a:t>
              </a:r>
              <a:r>
                <a:rPr b="1" lang="zh-CN" sz="2000" spc="-1" strike="noStrike">
                  <a:solidFill>
                    <a:srgbClr val="ffffff"/>
                  </a:solidFill>
                  <a:latin typeface="Calibri"/>
                  <a:ea typeface="华文仿宋"/>
                </a:rPr>
                <a:t>培训。清晰、美观、创意、有效、超值、保密，是他们为数百家客户带来意想不到的价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文本框 24"/>
            <p:cNvSpPr/>
            <p:nvPr/>
          </p:nvSpPr>
          <p:spPr>
            <a:xfrm>
              <a:off x="395280" y="993600"/>
              <a:ext cx="2412720" cy="31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900" spc="-1" strike="noStrike">
                  <a:solidFill>
                    <a:srgbClr val="000000"/>
                  </a:solidFill>
                  <a:latin typeface="Cambria Math"/>
                  <a:ea typeface="Cambria Math"/>
                </a:rPr>
                <a:t>1</a:t>
              </a:r>
              <a:endParaRPr b="0" lang="en-US" sz="19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组合 2"/>
          <p:cNvGrpSpPr/>
          <p:nvPr/>
        </p:nvGrpSpPr>
        <p:grpSpPr>
          <a:xfrm>
            <a:off x="1116000" y="3225960"/>
            <a:ext cx="7066080" cy="3126600"/>
            <a:chOff x="1116000" y="3225960"/>
            <a:chExt cx="7066080" cy="3126600"/>
          </a:xfrm>
        </p:grpSpPr>
        <p:sp>
          <p:nvSpPr>
            <p:cNvPr id="77" name="矩形 13"/>
            <p:cNvSpPr/>
            <p:nvPr/>
          </p:nvSpPr>
          <p:spPr>
            <a:xfrm>
              <a:off x="1116000" y="4549680"/>
              <a:ext cx="5343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锐普有中国最大的原创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PPT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素材站，有中国最强的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PPT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制作团队，有人人都能快速提升的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PPT</a:t>
              </a: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培训。清晰、美观、创意、有效、超值、保密，是他们为数百家客户带来意想不到的价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25"/>
            <p:cNvSpPr/>
            <p:nvPr/>
          </p:nvSpPr>
          <p:spPr>
            <a:xfrm>
              <a:off x="5769720" y="3225960"/>
              <a:ext cx="2412360" cy="31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900" spc="-1" strike="noStrike">
                  <a:solidFill>
                    <a:srgbClr val="000000"/>
                  </a:solidFill>
                  <a:latin typeface="Cambria Math"/>
                  <a:ea typeface="Cambria Math"/>
                </a:rPr>
                <a:t>2</a:t>
              </a:r>
              <a:endParaRPr b="0" lang="en-US" sz="19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26"/>
          <p:cNvGrpSpPr/>
          <p:nvPr/>
        </p:nvGrpSpPr>
        <p:grpSpPr>
          <a:xfrm>
            <a:off x="4227480" y="360360"/>
            <a:ext cx="689040" cy="814320"/>
            <a:chOff x="4227480" y="360360"/>
            <a:chExt cx="689040" cy="814320"/>
          </a:xfrm>
        </p:grpSpPr>
        <p:sp>
          <p:nvSpPr>
            <p:cNvPr id="80" name="Freeform 10"/>
            <p:cNvSpPr/>
            <p:nvPr/>
          </p:nvSpPr>
          <p:spPr>
            <a:xfrm>
              <a:off x="4227480" y="536400"/>
              <a:ext cx="331920" cy="6382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1"/>
            <p:cNvSpPr/>
            <p:nvPr/>
          </p:nvSpPr>
          <p:spPr>
            <a:xfrm>
              <a:off x="4252680" y="477720"/>
              <a:ext cx="282600" cy="1918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2"/>
            <p:cNvSpPr/>
            <p:nvPr/>
          </p:nvSpPr>
          <p:spPr>
            <a:xfrm>
              <a:off x="4296240" y="420120"/>
              <a:ext cx="249120" cy="2332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3"/>
            <p:cNvSpPr/>
            <p:nvPr/>
          </p:nvSpPr>
          <p:spPr>
            <a:xfrm>
              <a:off x="4345560" y="360360"/>
              <a:ext cx="217080" cy="2689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4"/>
            <p:cNvSpPr/>
            <p:nvPr/>
          </p:nvSpPr>
          <p:spPr>
            <a:xfrm>
              <a:off x="4584600" y="536400"/>
              <a:ext cx="331920" cy="6382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5"/>
            <p:cNvSpPr/>
            <p:nvPr/>
          </p:nvSpPr>
          <p:spPr>
            <a:xfrm>
              <a:off x="4608720" y="477720"/>
              <a:ext cx="282600" cy="1918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6"/>
            <p:cNvSpPr/>
            <p:nvPr/>
          </p:nvSpPr>
          <p:spPr>
            <a:xfrm>
              <a:off x="4600800" y="420120"/>
              <a:ext cx="250200" cy="2332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7"/>
            <p:cNvSpPr/>
            <p:nvPr/>
          </p:nvSpPr>
          <p:spPr>
            <a:xfrm>
              <a:off x="4584600" y="360360"/>
              <a:ext cx="213480" cy="2689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5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39"/>
          <p:cNvGrpSpPr/>
          <p:nvPr/>
        </p:nvGrpSpPr>
        <p:grpSpPr>
          <a:xfrm>
            <a:off x="3995640" y="401760"/>
            <a:ext cx="865440" cy="795240"/>
            <a:chOff x="3995640" y="401760"/>
            <a:chExt cx="865440" cy="795240"/>
          </a:xfrm>
        </p:grpSpPr>
        <p:sp>
          <p:nvSpPr>
            <p:cNvPr id="89" name="Freeform 5"/>
            <p:cNvSpPr/>
            <p:nvPr/>
          </p:nvSpPr>
          <p:spPr>
            <a:xfrm flipH="1">
              <a:off x="3995640" y="478800"/>
              <a:ext cx="270000" cy="2743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6"/>
            <p:cNvSpPr/>
            <p:nvPr/>
          </p:nvSpPr>
          <p:spPr>
            <a:xfrm flipH="1">
              <a:off x="4269240" y="401760"/>
              <a:ext cx="591840" cy="7952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12"/>
          <p:cNvGrpSpPr/>
          <p:nvPr/>
        </p:nvGrpSpPr>
        <p:grpSpPr>
          <a:xfrm>
            <a:off x="1209600" y="1922400"/>
            <a:ext cx="6724800" cy="776160"/>
            <a:chOff x="1209600" y="1922400"/>
            <a:chExt cx="6724800" cy="776160"/>
          </a:xfrm>
        </p:grpSpPr>
        <p:grpSp>
          <p:nvGrpSpPr>
            <p:cNvPr id="92" name="组合 9"/>
            <p:cNvGrpSpPr/>
            <p:nvPr/>
          </p:nvGrpSpPr>
          <p:grpSpPr>
            <a:xfrm>
              <a:off x="1209600" y="1978200"/>
              <a:ext cx="640440" cy="720360"/>
              <a:chOff x="1209600" y="1978200"/>
              <a:chExt cx="640440" cy="720360"/>
            </a:xfrm>
          </p:grpSpPr>
          <p:sp>
            <p:nvSpPr>
              <p:cNvPr id="93" name="Freeform 5"/>
              <p:cNvSpPr/>
              <p:nvPr/>
            </p:nvSpPr>
            <p:spPr>
              <a:xfrm>
                <a:off x="1209600" y="1978200"/>
                <a:ext cx="640440" cy="601920"/>
              </a:xfrm>
              <a:prstGeom prst="pie">
                <a:avLst/>
              </a:pr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6"/>
              <p:cNvSpPr/>
              <p:nvPr/>
            </p:nvSpPr>
            <p:spPr>
              <a:xfrm>
                <a:off x="1352160" y="2613600"/>
                <a:ext cx="351720" cy="84960"/>
              </a:xfrm>
              <a:prstGeom prst="pie">
                <a:avLst/>
              </a:pr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矩形 10"/>
            <p:cNvSpPr/>
            <p:nvPr/>
          </p:nvSpPr>
          <p:spPr>
            <a:xfrm>
              <a:off x="2318400" y="1922400"/>
              <a:ext cx="561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锐普有中国最大的原创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PPT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素材站，有中国最强的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PPT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制作团队，有人人都能快速提升的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PPT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培训。清晰、美观、创意、有效、超值、保密，是他们为数百家客户带来意想不到的价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5"/>
          <p:cNvGrpSpPr/>
          <p:nvPr/>
        </p:nvGrpSpPr>
        <p:grpSpPr>
          <a:xfrm>
            <a:off x="1224000" y="3343320"/>
            <a:ext cx="6696000" cy="847800"/>
            <a:chOff x="1224000" y="3343320"/>
            <a:chExt cx="6696000" cy="847800"/>
          </a:xfrm>
        </p:grpSpPr>
        <p:grpSp>
          <p:nvGrpSpPr>
            <p:cNvPr id="97" name="组合 19"/>
            <p:cNvGrpSpPr/>
            <p:nvPr/>
          </p:nvGrpSpPr>
          <p:grpSpPr>
            <a:xfrm>
              <a:off x="1224000" y="3417480"/>
              <a:ext cx="544320" cy="773640"/>
              <a:chOff x="1224000" y="3417480"/>
              <a:chExt cx="544320" cy="773640"/>
            </a:xfrm>
          </p:grpSpPr>
          <p:sp>
            <p:nvSpPr>
              <p:cNvPr id="98" name="Freeform 10"/>
              <p:cNvSpPr/>
              <p:nvPr/>
            </p:nvSpPr>
            <p:spPr>
              <a:xfrm>
                <a:off x="1317240" y="3926160"/>
                <a:ext cx="170280" cy="264960"/>
              </a:xfrm>
              <a:prstGeom prst="pie">
                <a:avLst/>
              </a:pr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11"/>
              <p:cNvSpPr/>
              <p:nvPr/>
            </p:nvSpPr>
            <p:spPr>
              <a:xfrm>
                <a:off x="1510920" y="3926160"/>
                <a:ext cx="166320" cy="264960"/>
              </a:xfrm>
              <a:prstGeom prst="pie">
                <a:avLst/>
              </a:pr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12"/>
              <p:cNvSpPr/>
              <p:nvPr/>
            </p:nvSpPr>
            <p:spPr>
              <a:xfrm>
                <a:off x="1224000" y="3417480"/>
                <a:ext cx="544320" cy="541080"/>
              </a:xfrm>
              <a:prstGeom prst="pie">
                <a:avLst/>
              </a:pr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13"/>
              <p:cNvSpPr/>
              <p:nvPr/>
            </p:nvSpPr>
            <p:spPr>
              <a:xfrm>
                <a:off x="1426680" y="3580200"/>
                <a:ext cx="137880" cy="194040"/>
              </a:xfrm>
              <a:prstGeom prst="pie">
                <a:avLst/>
              </a:pr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矩形 34"/>
            <p:cNvSpPr/>
            <p:nvPr/>
          </p:nvSpPr>
          <p:spPr>
            <a:xfrm>
              <a:off x="2302560" y="3343320"/>
              <a:ext cx="5617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锐普有中国最大的原创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PPT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素材站，有中国最强的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PPT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制作团队，有人人都能快速提升的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PPT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培训。清晰、美观、创意、有效、超值、保密，是他们为数百家客户带来意想不到的价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6"/>
          <p:cNvGrpSpPr/>
          <p:nvPr/>
        </p:nvGrpSpPr>
        <p:grpSpPr>
          <a:xfrm>
            <a:off x="1219320" y="4780080"/>
            <a:ext cx="6705360" cy="785520"/>
            <a:chOff x="1219320" y="4780080"/>
            <a:chExt cx="6705360" cy="785520"/>
          </a:xfrm>
        </p:grpSpPr>
        <p:grpSp>
          <p:nvGrpSpPr>
            <p:cNvPr id="104" name="组合 30"/>
            <p:cNvGrpSpPr/>
            <p:nvPr/>
          </p:nvGrpSpPr>
          <p:grpSpPr>
            <a:xfrm>
              <a:off x="1219320" y="4879800"/>
              <a:ext cx="585360" cy="685800"/>
              <a:chOff x="1219320" y="4879800"/>
              <a:chExt cx="585360" cy="685800"/>
            </a:xfrm>
          </p:grpSpPr>
          <p:sp>
            <p:nvSpPr>
              <p:cNvPr id="105" name="Freeform 17"/>
              <p:cNvSpPr/>
              <p:nvPr/>
            </p:nvSpPr>
            <p:spPr>
              <a:xfrm>
                <a:off x="1388520" y="4999320"/>
                <a:ext cx="246960" cy="245160"/>
              </a:xfrm>
              <a:prstGeom prst="pie">
                <a:avLst/>
              </a:pr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8"/>
              <p:cNvSpPr/>
              <p:nvPr/>
            </p:nvSpPr>
            <p:spPr>
              <a:xfrm>
                <a:off x="1430280" y="5035320"/>
                <a:ext cx="163440" cy="168840"/>
              </a:xfrm>
              <a:prstGeom prst="pie">
                <a:avLst/>
              </a:pr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9"/>
              <p:cNvSpPr/>
              <p:nvPr/>
            </p:nvSpPr>
            <p:spPr>
              <a:xfrm>
                <a:off x="1274400" y="4980240"/>
                <a:ext cx="123480" cy="279360"/>
              </a:xfrm>
              <a:prstGeom prst="pie">
                <a:avLst/>
              </a:pr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0"/>
              <p:cNvSpPr/>
              <p:nvPr/>
            </p:nvSpPr>
            <p:spPr>
              <a:xfrm>
                <a:off x="1631880" y="4980240"/>
                <a:ext cx="117720" cy="279360"/>
              </a:xfrm>
              <a:prstGeom prst="pie">
                <a:avLst/>
              </a:pr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1"/>
              <p:cNvSpPr/>
              <p:nvPr/>
            </p:nvSpPr>
            <p:spPr>
              <a:xfrm>
                <a:off x="1375200" y="4879800"/>
                <a:ext cx="279360" cy="123480"/>
              </a:xfrm>
              <a:prstGeom prst="pie">
                <a:avLst/>
              </a:pr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2"/>
              <p:cNvSpPr/>
              <p:nvPr/>
            </p:nvSpPr>
            <p:spPr>
              <a:xfrm>
                <a:off x="1375200" y="5236920"/>
                <a:ext cx="279360" cy="123480"/>
              </a:xfrm>
              <a:prstGeom prst="pie">
                <a:avLst/>
              </a:pr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23"/>
              <p:cNvSpPr/>
              <p:nvPr/>
            </p:nvSpPr>
            <p:spPr>
              <a:xfrm>
                <a:off x="1219320" y="5377680"/>
                <a:ext cx="585360" cy="187920"/>
              </a:xfrm>
              <a:prstGeom prst="pie">
                <a:avLst/>
              </a:pr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矩形 35"/>
            <p:cNvSpPr/>
            <p:nvPr/>
          </p:nvSpPr>
          <p:spPr>
            <a:xfrm>
              <a:off x="2308680" y="4780080"/>
              <a:ext cx="561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锐普有中国最大的原创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PPT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素材站，有中国最强的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PPT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制作团队，有人人都能快速提升的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PPT</a:t>
              </a: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华文仿宋"/>
                </a:rPr>
                <a:t>培训。清晰、美观、创意、有效、超值、保密，是他们为数百家客户带来意想不到的价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5f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组合 10"/>
          <p:cNvGrpSpPr/>
          <p:nvPr/>
        </p:nvGrpSpPr>
        <p:grpSpPr>
          <a:xfrm>
            <a:off x="826920" y="1679400"/>
            <a:ext cx="2646360" cy="3357720"/>
            <a:chOff x="826920" y="1679400"/>
            <a:chExt cx="2646360" cy="3357720"/>
          </a:xfrm>
        </p:grpSpPr>
        <p:sp>
          <p:nvSpPr>
            <p:cNvPr id="114" name="Freeform 5"/>
            <p:cNvSpPr/>
            <p:nvPr/>
          </p:nvSpPr>
          <p:spPr>
            <a:xfrm>
              <a:off x="826920" y="3526920"/>
              <a:ext cx="2646360" cy="151020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1342800" y="1679400"/>
              <a:ext cx="1618560" cy="33577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文本框 4"/>
          <p:cNvSpPr/>
          <p:nvPr/>
        </p:nvSpPr>
        <p:spPr>
          <a:xfrm>
            <a:off x="4281480" y="2425680"/>
            <a:ext cx="36720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ff"/>
                </a:solidFill>
                <a:latin typeface="华文仿宋"/>
                <a:ea typeface="华文仿宋"/>
              </a:rPr>
              <a:t>谢谢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7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50"/>
                            </p:stCondLst>
                            <p:childTnLst>
                              <p:par>
                                <p:cTn id="92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1T05:02:00Z</dcterms:created>
  <dc:creator>yu</dc:creator>
  <dc:description/>
  <dc:language>en-US</dc:language>
  <cp:lastModifiedBy>apple</cp:lastModifiedBy>
  <dcterms:modified xsi:type="dcterms:W3CDTF">2015-07-17T02:05:58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