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C21C-130F-4620-8B7D-35FFBBF03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6EF0-BEF3-4594-B598-C21852FAC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217-BE49-4589-9693-D9A95294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AD4-CFD4-4B0F-A123-0CDA3BC7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0EA-A452-432C-BF19-78772418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850-0D00-4687-ADB8-42CED28F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A00F-E086-459E-BFDE-D9C79CCE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5A50-270A-4A35-AFAC-AEBF3E19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8134-0221-436E-98D2-EA500A94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B311-6716-48A9-A75A-C3777BF8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5AFB-8680-4591-AD29-305AA40B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AD49-2DAE-45DB-BAA0-94DC7EFD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E260-B245-493D-BFB1-9946B302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E33-EDF8-43B6-9338-5F9DEC2D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665B-74AA-4201-887F-635F1AFE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9168-0CE1-4FA3-A619-47969908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5CF5-03E4-4086-9300-7B13E31F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DF42-40DA-4CCB-A110-2F6EE877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FC5F-F860-4065-AEF9-4B98F23E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C9800-7B0E-4F8E-9C5A-633FA44E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93E06-5A39-4723-A0CF-ED9D7202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F32C8-C1E8-401D-B15B-0D461C12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4F3FB-9593-4D44-9F69-F05CB4DD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835E2-7FB5-462D-86FF-A21E5096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A88D-3816-46A5-BBFB-7C4E25D3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8F430-4277-4205-B10C-0360FBD7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10EEE-8947-454E-ACB9-69344CB3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49131-8221-4473-8DD9-4E8D55E9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EB0EA-C347-45F6-8B6C-1CE4D697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2E2FB-29D3-4756-A689-C193ACEA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8F337-F6ED-4C5E-8AE8-6E28759C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39D8C-8883-45DA-B4DF-927C3CA1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EF7-8722-4BFA-9D44-6E344C38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90F-702A-4C27-B7FE-0FA03F28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CE1-5ACA-4D7F-A4B7-C5A6E782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D84-59B8-42AC-A749-51AEBD96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9C4-2DAB-4F17-BEE1-3099A6F6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B82-F44B-455A-B79A-7F3B32E4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8C41-1020-45A3-97AF-DDBD59161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11C5-68AB-4B90-9A14-71998A02005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2ADC-5BCF-41B4-80CF-43995E69BD3F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2.xml"/><Relationship Id="rId3" Type="http://schemas.openxmlformats.org/officeDocument/2006/relationships/slide" Target="slide6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xinsrc_cdc1b6d4154d49e1bf1b058133586092 拷贝"/>
          <p:cNvPicPr/>
          <p:nvPr/>
        </p:nvPicPr>
        <p:blipFill>
          <a:blip r:embed="rId1"/>
          <a:stretch/>
        </p:blipFill>
        <p:spPr>
          <a:xfrm>
            <a:off x="5029200" y="2133720"/>
            <a:ext cx="365760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152280" y="76212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有一种爱，伟大而平凡，如润物细雨，似拂面春风；有一份情，无私而博大，绵绵不断，情谊深长。这就是母爱，永远都是不求回报，无私的付出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4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84720" y="115920"/>
            <a:ext cx="106668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理解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真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弃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寝不安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终天之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薄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沮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频来入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思潮起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心潮腾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可见一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怅望灰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908000" y="5493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（感情）真诚恳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268360" y="105264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婉辞，指父母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556000" y="14842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无法安然入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484360" y="20606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终身的遗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908000" y="2421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昏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908000" y="2924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灰心失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64000" y="342900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频：屡次，连续几次。屡次到梦中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556000" y="4437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心情跳跃、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2771640" y="4005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接二连三的思想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2556000" y="48690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斑：杂色的花纹或斑点。比喻见到事物的一少部分就能推知事物的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2556000" y="5877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惆怅地望着暗淡的天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3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WordArt 5"/>
          <p:cNvSpPr txBox="1"/>
          <p:nvPr/>
        </p:nvSpPr>
        <p:spPr>
          <a:xfrm>
            <a:off x="3059280" y="476280"/>
            <a:ext cx="2449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同桌讨论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9" name="Text Box 6">
            <a:hlinkClick r:id="rId2" action="ppaction://hlinksldjump"/>
          </p:cNvPr>
          <p:cNvSpPr/>
          <p:nvPr/>
        </p:nvSpPr>
        <p:spPr>
          <a:xfrm>
            <a:off x="519120" y="1706400"/>
            <a:ext cx="80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、默读课文，想想</a:t>
            </a:r>
            <a:r>
              <a:rPr b="1" lang="zh-CN" sz="3200" spc="-1" strike="noStrike" u="sng">
                <a:solidFill>
                  <a:srgbClr val="9900cc"/>
                </a:solidFill>
                <a:uFillTx/>
                <a:latin typeface="Arial"/>
              </a:rPr>
              <a:t>课文主要写了什么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39640" y="2492280"/>
            <a:ext cx="67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、文中的两个母亲分别指的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>
            <a:hlinkClick r:id="rId3" action="ppaction://hlinksldjump"/>
          </p:cNvPr>
          <p:cNvSpPr/>
          <p:nvPr/>
        </p:nvSpPr>
        <p:spPr>
          <a:xfrm>
            <a:off x="611280" y="450864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、文中</a:t>
            </a:r>
            <a:r>
              <a:rPr b="1" lang="zh-CN" sz="3200" spc="-1" strike="noStrike" u="sng">
                <a:solidFill>
                  <a:srgbClr val="9900cc"/>
                </a:solidFill>
                <a:uFillTx/>
                <a:latin typeface="Arial"/>
              </a:rPr>
              <a:t>哪些地方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可以看出我对两个母亲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有同样崇高的敬意和同样真挚的爱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找出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>
            <a:hlinkClick r:id="rId4" action="ppaction://hlinksldjump"/>
          </p:cNvPr>
          <p:cNvSpPr/>
          <p:nvPr/>
        </p:nvSpPr>
        <p:spPr>
          <a:xfrm>
            <a:off x="539640" y="3573360"/>
            <a:ext cx="78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、按照先概括后具体的方法</a:t>
            </a:r>
            <a:r>
              <a:rPr b="1" lang="zh-CN" sz="3200" spc="-1" strike="noStrike" u="sng">
                <a:solidFill>
                  <a:srgbClr val="9900cc"/>
                </a:solidFill>
                <a:uFillTx/>
                <a:latin typeface="Arial"/>
              </a:rPr>
              <a:t>给文章分段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8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26920" y="148428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课文主要写了作者在六岁时就离开了生母，读大学二年级的时候，母亲弃养，这给作者留下了终天之恨。后来作者到德国留学，祖国母亲又成了他梦中的牵挂，这种感情异常强烈，对两位母亲的怀念，一直伴随着他度过了在欧洲的十一年时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971640" y="47628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默读课文，想想课文主要写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gaoxia8197200651213493812833"/>
          <p:cNvPicPr/>
          <p:nvPr/>
        </p:nvPicPr>
        <p:blipFill>
          <a:blip r:embed="rId1"/>
          <a:stretch/>
        </p:blipFill>
        <p:spPr>
          <a:xfrm>
            <a:off x="212760" y="743040"/>
            <a:ext cx="2751120" cy="32954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7"/>
          <p:cNvSpPr/>
          <p:nvPr/>
        </p:nvSpPr>
        <p:spPr>
          <a:xfrm>
            <a:off x="1057320" y="4514760"/>
            <a:ext cx="71215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对这两个母亲怀着同样崇高的敬意和同样真挚的爱慕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8"/>
          <p:cNvSpPr txBox="1"/>
          <p:nvPr/>
        </p:nvSpPr>
        <p:spPr>
          <a:xfrm>
            <a:off x="2898720" y="2490840"/>
            <a:ext cx="2184480" cy="10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两位母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WordArt 9"/>
          <p:cNvSpPr txBox="1"/>
          <p:nvPr/>
        </p:nvSpPr>
        <p:spPr>
          <a:xfrm>
            <a:off x="5651640" y="2924280"/>
            <a:ext cx="23461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祖国母亲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0" name="WordArt 10"/>
          <p:cNvSpPr txBox="1"/>
          <p:nvPr/>
        </p:nvSpPr>
        <p:spPr>
          <a:xfrm>
            <a:off x="5867280" y="2205000"/>
            <a:ext cx="2346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生身母亲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4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468360" y="69228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作者开门见山，指出两位母亲在作者生命中同等重要的地位，为全文奠定了情感的基调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468360" y="2060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作者描述了自己与亲生母亲的关系：倾吐心声，表达了自己失去母亲的巨大痛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79280" y="3573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作者借助日记、散文摘抄的语段，描述了在漫长的留学生涯中，对母亲和祖国的怀念，把对两位母亲同样的敬意、同样的爱慕表达得淋漓尽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468360" y="5300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作者呼应文章开头，说明作者对两位母亲有着同样的情怀，那就是崇敬、爱慕、怀念，使文章结构浑然一体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50920" y="18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250920" y="1557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50920" y="2997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50920" y="4797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835280" y="18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1763640" y="1557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2050920" y="31417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2268360" y="4859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然段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>
            <a:hlinkClick r:id="rId2" action="ppaction://hlinksldjump"/>
          </p:cNvPr>
          <p:cNvSpPr/>
          <p:nvPr/>
        </p:nvSpPr>
        <p:spPr>
          <a:xfrm>
            <a:off x="468360" y="141300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9900cc"/>
                </a:solidFill>
                <a:latin typeface="Arial"/>
              </a:rPr>
              <a:t>文中</a:t>
            </a:r>
            <a:r>
              <a:rPr b="1" lang="zh-CN" sz="4800" spc="-1" strike="noStrike" u="sng">
                <a:solidFill>
                  <a:srgbClr val="9900cc"/>
                </a:solidFill>
                <a:uFillTx/>
                <a:latin typeface="Arial"/>
              </a:rPr>
              <a:t>哪些地方</a:t>
            </a:r>
            <a:r>
              <a:rPr b="1" lang="zh-CN" sz="4800" spc="-1" strike="noStrike">
                <a:solidFill>
                  <a:srgbClr val="9900cc"/>
                </a:solidFill>
                <a:latin typeface="Arial"/>
              </a:rPr>
              <a:t>可以看出我对两个母亲怀有同样崇高的敬意和同样真挚的爱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找出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2268360" y="2276640"/>
            <a:ext cx="579132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体会对</a:t>
            </a:r>
            <a:r>
              <a:rPr b="1" i="1" lang="zh-CN" sz="5400" spc="-1" strike="noStrike">
                <a:solidFill>
                  <a:srgbClr val="0000ff"/>
                </a:solidFill>
                <a:latin typeface="宋体"/>
                <a:ea typeface="黑体"/>
              </a:rPr>
              <a:t>“</a:t>
            </a: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生身母亲</a:t>
            </a:r>
            <a:r>
              <a:rPr b="1" i="1" lang="zh-CN" sz="5400" spc="-1" strike="noStrike">
                <a:solidFill>
                  <a:srgbClr val="0000ff"/>
                </a:solidFill>
                <a:latin typeface="宋体"/>
                <a:ea typeface="黑体"/>
              </a:rPr>
              <a:t>”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的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24000" y="549360"/>
            <a:ext cx="1512720" cy="1655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1042920" y="692280"/>
            <a:ext cx="1513080" cy="1655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6948360" y="3933720"/>
            <a:ext cx="151308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6227640" y="4076640"/>
            <a:ext cx="151308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8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324000" y="5589720"/>
            <a:ext cx="83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这里写出了“我”失去母亲之后的伤心、痛苦和悔恨，文章通过这些描写写出了“我”对母亲的深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39640" y="333360"/>
            <a:ext cx="8077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黑体"/>
              </a:rPr>
              <a:t>１、我痛哭了几天，食不下咽，寝不安席。我真想随母亲于地下。我的愿望没能实现，从此我就成了没有母亲的孤儿。一个缺少母爱的孩子，是灵魂不全的人。我怀着不全的灵魂，抱终天之恨。一想到母亲，就泪流不止，数十年如一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611280" y="2276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为什么作者对母亲的离世“抱终天之恨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324000" y="2781360"/>
            <a:ext cx="856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作者六岁就离开了母亲，而且平时也很少回家，母亲去世后，作者感到没有很好地帮助母亲分担生活压力，感到很内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母亲清苦一生，操劳一生，如今儿子长大成人之后，却没能享受到儿子的一点回报，这是终生都难以补救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2"/>
          <p:cNvSpPr/>
          <p:nvPr/>
        </p:nvSpPr>
        <p:spPr>
          <a:xfrm>
            <a:off x="380880" y="1066680"/>
            <a:ext cx="8153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后悔，我真不该，我千不该万不该离开了母亲。世界上无论什么名誉，什么地位，什么幸福，什么尊荣，都比不上呆在母亲身边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就是我永久的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永久的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519120" y="409680"/>
            <a:ext cx="75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怅望灰天，在泪光里，幻出母亲的面影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684360" y="2276640"/>
            <a:ext cx="72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怅望灰天”，指惆怅地望着天空。由于作者长期在外求学，留在母亲身边的时候不多，必然对母亲的音容笑貌记忆不深，对母亲的怀念更多的是一个模糊的影子，因此尽管作者想努力回想母亲的样子和容颜，但无奈模糊不清，只能尽力地怀念，不断地回想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971640" y="1125360"/>
            <a:ext cx="67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怅望灰天”是什么意思？在你的想象中，母亲的面影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755640" y="5300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我的想象中，母亲的面影是慈祥的，她那饱经沧桑的脸上总是挂着微笑，眼睛里写满了对儿子的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380880"/>
            <a:ext cx="861372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慈母手中线，游子身上衣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临行密密缝，意恐迟迟归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谁言寸草心，报得三春晖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br>
              <a:rPr sz="2800"/>
            </a:b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释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谁说小草的嫩心可以报答三春阳光的温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春日般的母爱，小草似的儿女怎么能报答其万分之一呢？</a:t>
            </a:r>
            <a:br>
              <a:rPr sz="28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喻子女难以报答母亲的情爱于万分之一。形象贴切，一语双关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后亦用以比喻一个人难以报答祖国的恩情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寸草：小草。心：指小草抽出的嫩心。三春晖：喻指母爱。三春，春季的三个月称三春。晖，太阳光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"/>
          <p:cNvSpPr/>
          <p:nvPr/>
        </p:nvSpPr>
        <p:spPr>
          <a:xfrm>
            <a:off x="762120" y="1905120"/>
            <a:ext cx="76960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11280" y="836640"/>
            <a:ext cx="748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看到她的</a:t>
            </a:r>
            <a:r>
              <a:rPr b="1" lang="zh-CN" sz="6000" spc="-1" strike="noStrike">
                <a:solidFill>
                  <a:srgbClr val="009999"/>
                </a:solidFill>
                <a:latin typeface="Times New Roman"/>
              </a:rPr>
              <a:t>神情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，我想起自己长眠于故乡地下的母亲，真想哭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"/>
          <p:cNvSpPr/>
          <p:nvPr/>
        </p:nvSpPr>
        <p:spPr>
          <a:xfrm>
            <a:off x="762120" y="1905120"/>
            <a:ext cx="76960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57200" y="4267080"/>
            <a:ext cx="81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04920" y="762120"/>
            <a:ext cx="8610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儿子仿佛看到了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母亲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的身影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儿子仿佛看到了母亲那一双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的双眼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矩形 1"/>
          <p:cNvSpPr/>
          <p:nvPr/>
        </p:nvSpPr>
        <p:spPr>
          <a:xfrm>
            <a:off x="539640" y="1052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古今中外的母亲都是一样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作者从房东太太盼儿子归来的语言和神态中，体会到母亲对儿子的那份牵挂，那份真爱，由衷发出的慨叹。作者的母亲也曾这样盼他归来。</a:t>
            </a:r>
            <a:r>
              <a:rPr b="1" lang="zh-CN" sz="3200" spc="-1" strike="noStrike">
                <a:solidFill>
                  <a:srgbClr val="0000ff"/>
                </a:solidFill>
                <a:latin typeface="Cambria"/>
                <a:ea typeface="黑体"/>
              </a:rPr>
              <a:t>你能想象母子的期盼的心情吗？走进母子心灵，自由分两组写以下情景画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"/>
          <p:cNvSpPr/>
          <p:nvPr/>
        </p:nvSpPr>
        <p:spPr>
          <a:xfrm>
            <a:off x="468360" y="429264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组的孩子：写一写季老先生的母亲焦急等待儿子回家的画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组的孩子：写一写季老此时心中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835280" y="189000"/>
            <a:ext cx="656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分组练习，动手写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152280" y="12193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04920" y="533520"/>
            <a:ext cx="8001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妈妈喜欢吃鱼头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我依稀记事的时候，家中很穷，一个月难得吃上一次鱼肉。每次吃鱼，妈妈先把鱼头夹在自己碗里，将鱼肚子上的肉夹下，极仔细地捡去很少的几根大刺，放在我碗里，其余的便是父亲的了。当我也吵着要吃鱼头时，她总是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妈妈喜欢吃鱼头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想，鱼头一定很好吃的。有次父亲不在家，我趁妈妈盛饭之际，夹了一个。吃来吃去，觉得没有鱼肚子上的肉好吃。那年，外婆从江北到我家，妈妈买了外婆家乡很金贵的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guī]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鱼。吃饭时，妈妈把本属于我的那块鱼肚子上的肉，夹进了外婆的碗里。外婆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忘啦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妈妈最喜欢吃鱼头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外婆眯缝着眼，慢慢地挑去那几根大刺，放进我的碗里，并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伢啦，你说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接着，外婆就夹起鱼头，用没牙的嘴，津津有味地嗍着，不时吐出一根根小刺。我一边吃着没刺的鱼肉，一边想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怎么，妈妈的妈妈也喜欢吃鱼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304920" y="533520"/>
            <a:ext cx="80010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上，我成了家，另立门户。生活好了，我们经常买些鱼肉之类的好菜。每次吃鱼，最后剩下的，总是几只无人问津的鱼头。而立之年，喜得千金。转眼女儿也能自己吃饭了。有次午餐，妻子夹了一块鱼肚子上的肉，极麻利地捡去大刺，放在女儿碗里。自己却夹起了鱼头。女儿见状也吵着要吃鱼头。妻子说：乖孩子，妈妈喜欢吃鱼头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谁知女儿说什么也不答应，非要吃不可，妻子无奈，好不容易从鱼肋边挑出点没刺的肉来，可女儿吃了马上吐出，连说不好吃。从此再不要吃鱼头了。打那以后，每逢吃鱼，妻便将鱼肚子上的肉夹给女儿，女儿总是很艰难地用汤匙切下鱼头，放进她妈妈碗里，很孝顺地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妈妈，您吃鱼头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      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打那以后，我悟出了一个道理：女人做了母亲，便喜欢吃鱼头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2195640" y="1700280"/>
            <a:ext cx="552744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体会对“祖国母亲”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的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"/>
          <p:cNvSpPr/>
          <p:nvPr/>
        </p:nvSpPr>
        <p:spPr>
          <a:xfrm>
            <a:off x="6227640" y="3141720"/>
            <a:ext cx="1513080" cy="1655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6084720" y="3789360"/>
            <a:ext cx="1513080" cy="1655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539640" y="981000"/>
            <a:ext cx="151308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684360" y="1268280"/>
            <a:ext cx="151272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7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1219320" y="152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我的祖国母亲，我是第一次离开她。不知道为什么，我这个母亲也频来入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1042920" y="2924280"/>
            <a:ext cx="698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频来入梦” 意思是祖国母亲经常到梦中来。作者身居异国他乡，心中无限思念祖国，心中不断涌现祖国的身影，不断回想起故国的生活、故国的亲人。句子中一个“也”字很巧妙地将祖国与母亲联系起来，可见在作者心目中两者的确有着同样重要的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8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539640" y="189000"/>
            <a:ext cx="815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然而这凄凉并不同普通的凄凉一样，是甜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，浓浓的，有说不出的味道，浓浓地糊在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826920" y="270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凄凉”，寂寞冷落，凄惨。作者身在异国小城，一方面感到自己与母亲的距离远了，与祖国的距离远了，与亲人的接触少了，心中有忧愁、有思念；但是在远离家乡的日子里，能时常怀念起在故国的生活情景，想起故国的亲朋好友，感到他们无处不在，心中自然又多了一丝安慰、一些宽心、一点甜蜜，他们是那样牢固地烙印在自己的记忆深处，在作者孤寂时陪伴着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826920" y="1413000"/>
            <a:ext cx="73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凄凉”是什么意思？ 为什么我在想到故乡、老朋友时，心里感到凄凉，却又是甜蜜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684360" y="26028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篇课文中间部分都用当年的日记来叙述，也就是“引用说明法”，你觉得这种写法的好处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684360" y="2135160"/>
            <a:ext cx="802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引用说明法是指写作时引用一些相关资料，如权威人士的言论、俗语、谚语、格言、诗句等来说明事物的写作方法。本文作者为了真切地说明自己在留学期间怀念母亲、思念祖国的浓浓情怀，恰当地引用了自己日记和散文中的几段语言，描述了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漫长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留学生涯中，对母亲和祖国的怀念，将对两位母亲同样的敬意、相同的爱慕表达得酣畅淋漓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矩形 1"/>
          <p:cNvSpPr/>
          <p:nvPr/>
        </p:nvSpPr>
        <p:spPr>
          <a:xfrm>
            <a:off x="3205080" y="306216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404040"/>
                </a:solidFill>
                <a:latin typeface="Arial"/>
              </a:rPr>
              <a:t>多次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合分、分合</a:t>
            </a:r>
            <a:r>
              <a:rPr b="1" lang="zh-CN" sz="2800" spc="-1" strike="noStrike">
                <a:solidFill>
                  <a:srgbClr val="404040"/>
                </a:solidFill>
                <a:latin typeface="Arial"/>
              </a:rPr>
              <a:t>中自然流露自己的情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"/>
          <p:cNvSpPr/>
          <p:nvPr/>
        </p:nvSpPr>
        <p:spPr>
          <a:xfrm>
            <a:off x="1386000" y="4110120"/>
            <a:ext cx="72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b"/>
                </a:solidFill>
                <a:latin typeface="Cambria"/>
              </a:rPr>
              <a:t>3</a:t>
            </a:r>
            <a:r>
              <a:rPr b="1" lang="zh-CN" sz="2800" spc="-1" strike="noStrike">
                <a:solidFill>
                  <a:srgbClr val="0000fb"/>
                </a:solidFill>
                <a:latin typeface="Cambria"/>
              </a:rPr>
              <a:t>、文章开头与结尾对母亲的怀念却是永远不变的，从而</a:t>
            </a:r>
            <a:r>
              <a:rPr b="1" lang="zh-CN" sz="2800" spc="-1" strike="noStrike">
                <a:solidFill>
                  <a:srgbClr val="ff0000"/>
                </a:solidFill>
                <a:latin typeface="Cambria"/>
              </a:rPr>
              <a:t>前呼后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3"/>
          <p:cNvSpPr/>
          <p:nvPr/>
        </p:nvSpPr>
        <p:spPr>
          <a:xfrm>
            <a:off x="1386000" y="1865160"/>
            <a:ext cx="72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404040"/>
                </a:solidFill>
                <a:latin typeface="Arial"/>
              </a:rPr>
              <a:t>这篇课文结构分明，层次清晰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开门见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4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1295640" cy="1440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1835280" y="692280"/>
            <a:ext cx="656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学习写作方法，灵活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框（67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5"/>
          <p:cNvSpPr txBox="1"/>
          <p:nvPr/>
        </p:nvSpPr>
        <p:spPr>
          <a:xfrm>
            <a:off x="2484360" y="1268280"/>
            <a:ext cx="410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怀念母亲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Text Box 9">
            <a:hlinkClick r:id="rId2" action="ppaction://hlinksldjump"/>
          </p:cNvPr>
          <p:cNvSpPr/>
          <p:nvPr/>
        </p:nvSpPr>
        <p:spPr>
          <a:xfrm>
            <a:off x="4067280" y="2924280"/>
            <a:ext cx="16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季羡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7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5"/>
          <p:cNvSpPr/>
          <p:nvPr/>
        </p:nvSpPr>
        <p:spPr>
          <a:xfrm>
            <a:off x="324000" y="333360"/>
            <a:ext cx="3240000" cy="201600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课外知识补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你知道母亲节是哪天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5364000" y="1628640"/>
            <a:ext cx="3600720" cy="4896000"/>
          </a:xfr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母亲节（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Mother's Day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），作为一个感谢母亲的节日，最早出现在古希腊，时间是每年的一月八日，而在中国、美国、加拿大和一些其他国家，则是每年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月的第二个星期天，其他一些国家的日期也并不一样。母亲们在这一天通常会收到礼物。康乃馨被视为献给母亲的花。而我国的母亲花是萱草花，又叫忘忧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1(20)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5"/>
          <p:cNvSpPr/>
          <p:nvPr/>
        </p:nvSpPr>
        <p:spPr>
          <a:xfrm>
            <a:off x="4211640" y="404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我的课讲完了，同学们，想想能给自己的母亲表达些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324000" y="765000"/>
            <a:ext cx="8495640" cy="5832360"/>
            <a:chOff x="324000" y="765000"/>
            <a:chExt cx="8495640" cy="5832360"/>
          </a:xfrm>
        </p:grpSpPr>
        <p:pic>
          <p:nvPicPr>
            <p:cNvPr id="266" name="Picture 3" descr="pic_270694"/>
            <p:cNvPicPr/>
            <p:nvPr/>
          </p:nvPicPr>
          <p:blipFill>
            <a:blip r:embed="rId1"/>
            <a:stretch/>
          </p:blipFill>
          <p:spPr>
            <a:xfrm>
              <a:off x="4299120" y="765000"/>
              <a:ext cx="4520520" cy="58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" descr="pic_27069402"/>
            <p:cNvPicPr/>
            <p:nvPr/>
          </p:nvPicPr>
          <p:blipFill>
            <a:blip r:embed="rId2"/>
            <a:stretch/>
          </p:blipFill>
          <p:spPr>
            <a:xfrm>
              <a:off x="324000" y="765000"/>
              <a:ext cx="3507120" cy="453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5"/>
          <p:cNvSpPr/>
          <p:nvPr/>
        </p:nvSpPr>
        <p:spPr>
          <a:xfrm>
            <a:off x="395280" y="5805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阅读链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2340000" y="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一起来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900000" y="1700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黄沾，原名黄湛森，香港著名音乐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900000" y="3357720"/>
            <a:ext cx="8028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国心：华夏儿女爱国的情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梦萦：梦中萦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国印：炎黄子孙的印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403280" y="333360"/>
            <a:ext cx="295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380880" y="1752480"/>
            <a:ext cx="281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那遥远的小山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呀小山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那亲爱的妈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已白发鬓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过去的时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难忘怀难忘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曾给我多少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少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我那脸上的泪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暖我那幼小的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的吻甜蜜的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叫我思念到如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我那脸上的泪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暖我那幼小的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的吻甜蜜的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叫我思念到如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3048120" y="182880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遥望家乡的小山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呀小山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那可爱的小燕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回了家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儿有个小小心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小心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再给妈妈一个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个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她那思儿的泪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安抚她那孤独的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儿的吻纯洁的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妈妈得欢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5562720" y="1752480"/>
            <a:ext cx="2819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她那思儿的泪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安抚她那孤独的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儿的吻纯洁的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妈妈得欢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我脸上的泪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暖我那幼小的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的吻甜蜜的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叫我思念到如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我脸上的泪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暖我那幼小的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的吻甜蜜的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叫我思念到如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儿的吻纯洁的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妈妈得欢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3429000" y="457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妈妈的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8920" y="33300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国学大师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季羡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季羡林，北京大学教授、中科院院士、中国语言学家、文学翻译家，梵文、巴利文专家。山东清平（今临清）县人。１９３０年考入北京清华大学西语系。１９３５年考取清华大学交换研究生，赴德国留学，在哥廷根大学学习梵文、巴利文、吐火罗文等古代语言。１９４１年获哲学博士学位。１９４６年回国，历任北京大学教授兼东方语言文学系教授、系主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1692360" y="5805360"/>
            <a:ext cx="430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隶书"/>
              </a:rPr>
              <a:t>学术交流演讲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1afa62cce4e634d2cb2292753dc69a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8"/>
          <p:cNvSpPr/>
          <p:nvPr/>
        </p:nvSpPr>
        <p:spPr>
          <a:xfrm>
            <a:off x="1835280" y="585000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ambria"/>
                <a:ea typeface="隶书"/>
              </a:rPr>
              <a:t>季羡林与温家宝总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标题 1" descr=""/>
          <p:cNvPicPr/>
          <p:nvPr/>
        </p:nvPicPr>
        <p:blipFill>
          <a:blip r:embed="rId2"/>
          <a:stretch/>
        </p:blipFill>
        <p:spPr>
          <a:xfrm>
            <a:off x="311040" y="328680"/>
            <a:ext cx="8363160" cy="1152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116000" y="2060280"/>
            <a:ext cx="76327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自己的花是给别人看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怀念母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其中写到季羡林的：小苗与大树的对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字词正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pic_27069301"/>
          <p:cNvPicPr/>
          <p:nvPr/>
        </p:nvPicPr>
        <p:blipFill>
          <a:blip r:embed="rId2"/>
          <a:stretch/>
        </p:blipFill>
        <p:spPr>
          <a:xfrm>
            <a:off x="914400" y="3352680"/>
            <a:ext cx="6934320" cy="1282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066680" y="205740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真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905120" y="449568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ǐ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寝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不安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2743200" y="205740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频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来入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733920" y="4495680"/>
            <a:ext cx="2057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méng l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朦    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029200" y="2057400"/>
            <a:ext cx="1447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凄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5943600" y="44956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b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可见一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6705720" y="2057400"/>
            <a:ext cx="114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篇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1523880" y="1828800"/>
            <a:ext cx="6477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95280" y="5486400"/>
            <a:ext cx="7483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2280" y="4965840"/>
            <a:ext cx="906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33520" y="22860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在下列词语中，你认为哪些字容易写错，哪些词义较难理解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900000" y="2492280"/>
            <a:ext cx="794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95280" y="206064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崇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高  真挚  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慕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奔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丧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ēnsāng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)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弃养    食不下咽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不安席    终天之恨   泪流不止   频来入梦  朦胧   薄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ó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暗   沮丧    忍耐    可见一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斑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心潮腾涌    怅望灰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思潮起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5:10:50Z</dcterms:created>
  <dc:creator>YlmF</dc:creator>
  <dc:description/>
  <dc:language>en-US</dc:language>
  <cp:lastModifiedBy>Administrator</cp:lastModifiedBy>
  <dcterms:modified xsi:type="dcterms:W3CDTF">2013-09-24T08:01:07Z</dcterms:modified>
  <cp:revision>35</cp:revision>
  <dc:subject/>
  <dc:title>幻灯片 1</dc:title>
</cp:coreProperties>
</file>