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8DCA-A5F6-4940-A2ED-E6A362C6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A7D-28CE-48AD-92DD-8288E0E3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FD9-1B39-45DF-80D7-A80396E3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926-6158-462F-BF99-25297FA1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991-2EA1-49D5-99F2-6E33364D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CE2-5298-46F5-AD50-2747481B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565-15CD-4DC4-B569-01C64A8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9C9-F432-46EE-9A22-3C60435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E89-524D-4449-86AE-8289E417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55A-DDF1-4993-83FE-FC82D8D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783-C63E-4877-8419-89CC61E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D40-D38E-4DBB-8A1F-30B9A1C7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80AD-18A7-4287-888D-EACEDDDAE75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16C4-77A9-48F3-9CB9-8029F5C03F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144680" cy="2762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5040" cy="2762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4"/>
          <a:srcRect l="0" t="0" r="8983" b="0"/>
          <a:stretch/>
        </p:blipFill>
        <p:spPr>
          <a:xfrm>
            <a:off x="301680" y="3598920"/>
            <a:ext cx="4145040" cy="3036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5"/>
          <a:stretch/>
        </p:blipFill>
        <p:spPr>
          <a:xfrm>
            <a:off x="4762440" y="3878280"/>
            <a:ext cx="40989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2"/>
          <a:srcRect l="2101" t="0" r="1941" b="0"/>
          <a:stretch/>
        </p:blipFill>
        <p:spPr>
          <a:xfrm>
            <a:off x="4937040" y="825480"/>
            <a:ext cx="3880080" cy="269712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4" name="图片 2" descr=""/>
          <p:cNvPicPr/>
          <p:nvPr/>
        </p:nvPicPr>
        <p:blipFill>
          <a:blip r:embed="rId3"/>
          <a:stretch/>
        </p:blipFill>
        <p:spPr>
          <a:xfrm>
            <a:off x="466560" y="822240"/>
            <a:ext cx="4313520" cy="28767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5" name="图片 4" descr=""/>
          <p:cNvPicPr/>
          <p:nvPr/>
        </p:nvPicPr>
        <p:blipFill>
          <a:blip r:embed="rId4"/>
          <a:stretch/>
        </p:blipFill>
        <p:spPr>
          <a:xfrm>
            <a:off x="314280" y="3860640"/>
            <a:ext cx="5329440" cy="273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图片 9" descr=""/>
          <p:cNvPicPr/>
          <p:nvPr/>
        </p:nvPicPr>
        <p:blipFill>
          <a:blip r:embed="rId5"/>
          <a:stretch/>
        </p:blipFill>
        <p:spPr>
          <a:xfrm>
            <a:off x="5796000" y="3699000"/>
            <a:ext cx="2986200" cy="2896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User</cp:lastModifiedBy>
  <dcterms:modified xsi:type="dcterms:W3CDTF">2015-06-28T03:36:45Z</dcterms:modified>
  <cp:revision>109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