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2B4-E30A-437D-83E3-A997FC75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0F9-01BC-4773-B234-B7C9550D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D2C-E065-4746-8E2B-433E6D8F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F41-5077-4479-9F5A-66AF651F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DA02-D966-4221-B0A6-BFC55B8B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97E6-D218-47E7-87FE-B70BB2C2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CAF7-52C0-4A2D-80A9-83D99469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9FF4-391B-4EB3-92A7-03553F38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37F4-1A29-402B-914F-32E89214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BEA1-11CD-4D48-90A5-5D72AB49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8750-67A3-453F-9AC7-39953700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587-11B4-4382-AE5E-F054A7FF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B53A-241C-4BB9-B9E0-B6D29A8E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4CEF-7097-49DD-A01C-1473723A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564A-42BC-4AC4-B1D1-D2E987C1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F7AA-C57F-4FC8-ADBE-453CE425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748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6512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748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6512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0170-672E-4D70-8C36-13E975F4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6C6-22B9-4B16-968B-5D12A73E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BBE-E848-41A8-B29E-09957B0E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9E3-187D-4FA3-9D60-3432F10C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B9F-06A8-4458-8343-A104C229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6D1-3A8E-4D4B-9336-DDEE0A8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0EB-E218-4CAB-A6E1-87EB5A0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192-26E6-4BCB-9E92-86CB3312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SzPct val="1799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SzPct val="1285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SzPct val="1285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SzPct val="12855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SzPct val="12855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68AB-0720-4E13-BDB2-A50FB3AB0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28191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cecec"/>
                </a:solidFill>
                <a:latin typeface="Georgia"/>
              </a:rPr>
              <a:t>Click to edit the title text format</a:t>
            </a:r>
            <a:endParaRPr b="1" i="1" lang="en-US" sz="54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AEE0-CC50-4D53-8F24-B357CE5AA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anta_surprised" descr=""/>
          <p:cNvPicPr/>
          <p:nvPr/>
        </p:nvPicPr>
        <p:blipFill>
          <a:blip r:embed="rId3"/>
          <a:stretch/>
        </p:blipFill>
        <p:spPr>
          <a:xfrm>
            <a:off x="0" y="200160"/>
            <a:ext cx="3417840" cy="6657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cecec"/>
                </a:solidFill>
                <a:latin typeface="Georgia"/>
              </a:rPr>
              <a:t>Click to edit the outline text format</a:t>
            </a: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200000"/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i="1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200000"/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i="1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0" y="28191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ececec"/>
                </a:solidFill>
                <a:latin typeface="Georgia"/>
                <a:ea typeface="宋体"/>
              </a:rPr>
              <a:t>Santa Ho Ho</a:t>
            </a:r>
            <a:endParaRPr b="1" i="1" lang="en-US" sz="5400" spc="-1" strike="noStrike">
              <a:solidFill>
                <a:srgbClr val="ececec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cecec"/>
                </a:solidFill>
                <a:latin typeface="Georgia"/>
                <a:ea typeface="宋体"/>
              </a:rPr>
              <a:t>A Presentation</a:t>
            </a:r>
            <a:endParaRPr b="1" i="1" lang="en-US" sz="3200" spc="-1" strike="noStrike">
              <a:solidFill>
                <a:srgbClr val="ecece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Your Title Here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First Point Here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Your Sub Point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Second Poin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  <a:ea typeface="宋体"/>
              </a:rPr>
              <a:t>Your Title Here</a:t>
            </a:r>
            <a:endParaRPr b="1" i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First Point Here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  <a:ea typeface="宋体"/>
              </a:rPr>
              <a:t>Your Sub Point</a:t>
            </a: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Your Second Point</a:t>
            </a: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7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eorgia"/>
                <a:ea typeface="宋体"/>
              </a:rPr>
              <a:t>Transition Page</a:t>
            </a:r>
            <a:endParaRPr b="1" i="1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" name="santa_claus_ho_hoing_hg_clr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2514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44792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b2b2b2"/>
                </a:solidFill>
                <a:latin typeface="Georgia"/>
                <a:ea typeface="宋体"/>
              </a:rPr>
              <a:t>Elements Page</a:t>
            </a:r>
            <a:endParaRPr b="1" i="1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santa_claus_ho_hoing_hg_clr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514600" cy="4000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380880"/>
            <a:ext cx="3429000" cy="1219320"/>
          </a:xfrm>
          <a:prstGeom prst="wedgeRoundRectCallout">
            <a:avLst>
              <a:gd name="adj1" fmla="val -48703"/>
              <a:gd name="adj2" fmla="val 99347"/>
              <a:gd name="adj3" fmla="val 16667"/>
            </a:avLst>
          </a:prstGeom>
          <a:solidFill>
            <a:srgbClr val="b0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cecec"/>
                </a:solidFill>
                <a:latin typeface="Georgia"/>
              </a:rPr>
              <a:t>Many more Christmas animations at Animation Fac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santa_surprised" descr=""/>
          <p:cNvPicPr/>
          <p:nvPr/>
        </p:nvPicPr>
        <p:blipFill>
          <a:blip r:embed="rId2"/>
          <a:stretch/>
        </p:blipFill>
        <p:spPr>
          <a:xfrm>
            <a:off x="7423200" y="3352680"/>
            <a:ext cx="1720800" cy="3353040"/>
          </a:xfrm>
          <a:prstGeom prst="rect">
            <a:avLst/>
          </a:prstGeom>
          <a:ln w="0">
            <a:noFill/>
          </a:ln>
        </p:spPr>
      </p:pic>
      <p:pic>
        <p:nvPicPr>
          <p:cNvPr id="95" name="santa_ho_ho_prt" descr=""/>
          <p:cNvPicPr/>
          <p:nvPr/>
        </p:nvPicPr>
        <p:blipFill>
          <a:blip r:embed="rId3"/>
          <a:stretch/>
        </p:blipFill>
        <p:spPr>
          <a:xfrm>
            <a:off x="3048120" y="2057400"/>
            <a:ext cx="2133360" cy="1706400"/>
          </a:xfrm>
          <a:prstGeom prst="rect">
            <a:avLst/>
          </a:prstGeom>
          <a:ln w="0">
            <a:noFill/>
          </a:ln>
        </p:spPr>
      </p:pic>
      <p:pic>
        <p:nvPicPr>
          <p:cNvPr id="96" name="santa_ho_ho_qx" descr=""/>
          <p:cNvPicPr/>
          <p:nvPr/>
        </p:nvPicPr>
        <p:blipFill>
          <a:blip r:embed="rId4"/>
          <a:stretch/>
        </p:blipFill>
        <p:spPr>
          <a:xfrm>
            <a:off x="4191120" y="3886200"/>
            <a:ext cx="2133360" cy="1706400"/>
          </a:xfrm>
          <a:prstGeom prst="rect">
            <a:avLst/>
          </a:prstGeom>
          <a:ln w="0">
            <a:noFill/>
          </a:ln>
        </p:spPr>
      </p:pic>
      <p:pic>
        <p:nvPicPr>
          <p:cNvPr id="97" name="santa_ho_ho_sld" descr=""/>
          <p:cNvPicPr/>
          <p:nvPr/>
        </p:nvPicPr>
        <p:blipFill>
          <a:blip r:embed="rId5"/>
          <a:stretch/>
        </p:blipFill>
        <p:spPr>
          <a:xfrm>
            <a:off x="5257800" y="2057400"/>
            <a:ext cx="21337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21:20:58Z</dcterms:created>
  <dc:creator/>
  <dc:description/>
  <cp:keywords/>
  <dc:language>en-US</dc:language>
  <cp:lastModifiedBy>GZB</cp:lastModifiedBy>
  <dcterms:modified xsi:type="dcterms:W3CDTF">2013-06-02T03:03:28Z</dcterms:modified>
  <cp:revision>1</cp:revision>
  <dc:subject/>
  <dc:title>ppt.glzy8.com提供海量PPT模板免费下载！</dc:title>
</cp:coreProperties>
</file>