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D52-DCD5-4B85-8773-A3680705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16C-8405-44D1-BCBD-9752A04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C47-DEA4-4B6D-9862-CD1DC802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2E4-8400-4DDF-B238-702915C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90E-28D1-417C-845A-A665BCC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DA6-5481-4875-BA51-8D764760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7D6-D22B-4EE9-915B-371839CE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457-70C8-4A1D-9201-DC383679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636-7CE0-465A-9D09-F609210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1A6-9BF0-4AE0-B3B6-A71A399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4FC-EF86-49F4-9847-9822308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55C-B956-4956-8803-9E39E3D7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2117-84DE-4ECF-AEA0-DAF4BDC65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481860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胖娃简体"/>
                <a:ea typeface="方正胖娃简体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5552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胖娃简体"/>
              </a:rPr>
              <a:t>适用于抽象质感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59200" y="2923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0480" y="400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256760" y="2492280"/>
            <a:ext cx="11128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3040" y="421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95760" y="3427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18680" y="429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6680" y="350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040" y="429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71040" y="306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07760" y="450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