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3EC-E141-4AFC-9CC7-7C00D873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E49-7B47-4BF6-8265-399679DE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D9B-FE5E-4A87-9361-B827C376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C8F-28C9-4486-BC2F-61DFE7FE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119-0CD0-49E3-AB93-2441C63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A18-7E1B-4352-9E3D-054CA8EA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E6C-8F57-4B78-856B-9E84E03B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AC7-46D1-4537-8978-46A2ED1A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F99-CA28-4121-BEE8-40159798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E43-9C1D-45CB-9922-E6F075BB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8244-D166-4054-B0DF-FA96912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D66-6928-40DE-BF52-CA819B6F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7060-A3F7-49B3-BAF6-3F4B307D7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4415400">
            <a:off x="-893880" y="2265120"/>
            <a:ext cx="620712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769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十八岁出门远行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6342840" y="37339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7633b"/>
                </a:solidFill>
                <a:latin typeface="Arial"/>
                <a:ea typeface="隶书"/>
              </a:rPr>
              <a:t>余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通过描述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男孩初次出门远行的经历，反映了孩子世界与成人世界的矛盾冲突，以及涉世未深的孩子对现实世界的困惑、恐惧。它提醒读者，人生是复杂多变的，一个人在成长过程中，会遇到诸多困难与挫折，同时也会有诸多收获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828800" y="27468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主旨感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1520" y="685440"/>
            <a:ext cx="762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74674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一是对荒诞世界的真实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尽管先锋实验小说作家声称，写什么并不重要，最重要的怎么写。但我们在这里并不能完全排除对写什么的考察，否则传统欣赏就无所依傍。只有考察它写的是什么，我们才能对作品的主题进行分析，探究作家到底想给读者传达一个什么意思。这篇作品的情节性和可读性，为我们的这一探究提供了帮助。可以这样理解，通过叙述涉世不深的少年“我”第一次出门远行的离奇遭遇，作者表达了对世界的看法：陌生、荒诞、无法理解，无从把握，从而流露一种人生漂泊的悲观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在余华的许多作品中，人是世界上的匆匆过客，人无端而来又无端而去，他孤独寂寞地走过时间，又独自走向大地。所以他笔下的人物大多是被“抛”在险恶、阴暗的人生道路上，独自面临危机四伏、险象环生的生存环境的。这里的“我”不就是一个被“抛”在一种这样的环境中的少年么？“我”像一条船，行走在柏油马路上，就像在茫茫的大海上航行，从哪里来？到哪里去？彼岸在哪里？这是人们面对的共同难题，人生之旅不就与此相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1219320"/>
            <a:ext cx="90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二是独特的叙述方式和语言表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传统的阅读习惯，总是让人将过多的精力放在作品的所指上，或者说，放在作品所写的内容上，而不重视对表达过程的考察。这篇小说则将我们的注意力从传统的所指中分离，长久地停留于作品独特的叙述和精妙的语言表达上。余华的小说，让人惊讶于小说创作在经历了穷途末路后竟能找到这样的柳暗花明，也让人惊讶于汉语言文字在余华手下经过重组后的神奇魅力。余华自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代初开始创作，但总是在重复着别人的叙述；而在创作这篇小说之后，才真正找到了属于自己的叙述方式。我们阅读这篇小说时，总能感到余华创作时的一种高度灵感状态，习以为常的事情，经他一表述，就能化腐朽为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7760" y="914400"/>
            <a:ext cx="87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作品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629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写下你个人初次远行的经历或成长中的烦恼，探讨面对成长中的挫折、困惑，该怎样调控好自己的心态，树立积极向上的人生观和价值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课后阅读卡夫卡荒诞小说《变形记》，比较一下与余华小说的异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《成才之路》上的练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4572000"/>
            <a:ext cx="1752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余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24080" y="151920"/>
            <a:ext cx="6019920" cy="6324840"/>
          </a:xfrm>
          <a:prstGeom prst="rect">
            <a:avLst/>
          </a:prstGeom>
          <a:solidFill>
            <a:srgbClr val="e4f3f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余华，浙江海盐人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1984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年开始发表小说，是中国内地先锋派小说的代表人物，他的小说受奥地利小说家卡夫卡荒诞小说的影响。《十八岁出门远行》是其成名作，显示出了一种与传统小说不同的现代特色。作品有短篇小说集《十八岁出门远行》《世事如烟》、长篇小说《活着》《在细雨中呼喊》及《战栗》。其中《活着》获意大利格林扎纳———卡佛文学奖。其作品中纯净细密的叙述，打破了日常的语言秩序，组织起一个自足的话语系统，并且以此为基点，建构起一个又一个奇异、怪诞、隐秘的独立于外部世界的真实的文本世界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中宋"/>
              </a:rPr>
              <a:t>先锋实验小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所谓先锋实验小说，是指产生于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世纪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80</a:t>
            </a: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年代中期，继伤痕文学、反思文学、改革文学和寻根文学思潮之后，兴起的一种具有现代派意味的新的文学思潮，代表作家有马原、苏童、格非、孙甘露、余华、北村等。他们的作品打破了以往文学写实的风格，放弃传统的真实观，大胆吸取西方现代派的表现手法，尝试新的小说表现形式，重视叙述方式与语言的创新，为中国当代小说的创新与发展提供了新的可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中宋"/>
              </a:rPr>
              <a:t>《十八岁出门远行》是当代先锋实验作家余华的一篇代表作品，在内容与形式等方面鲜明地体现了先锋小说的一些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主要讲了什么事情？涉及了哪些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小说描述了一个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岁孩子初次出门远行所经历的一些奇怪的生活片段；小说主要写“我”“司机”“抢劫者”之间的矛盾冲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304920"/>
            <a:ext cx="1904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7620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小说中的“我”一直在寻找什么？寻找的过程及结果怎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我”第一次出远门，需要“旅店”，但没有人告诉“我”前面是否有“旅店”。在黄昏来临的时候，“我”感到了自己无所依靠，于是“我”拼命地到处寻找“旅店”。没有找到“旅店”，但“我”搭上了车，暂时的舒服让“我”满足。不幸的是汽车抛锚了。为了维护正义，“我”付出了遍体鳞伤、无限痛苦的代价。“我”最终寻找到了“旅店”———被抢劫的伤痕累累的“汽车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寻找“旅店”的过程中，出现了哪些不合情理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司机态度突然转变，“笑嘻嘻地十分友好地看起我来”，而且还要“我”在车正开着时去车厢取苹果；当我问他去哪里时，他说“开过去看吧”，“我”旅行时没有目的，司机也不在乎方向，只要汽车跑着就行；汽车抛锚时，司机竟能在旁边“认真”地做起了广播体操；有人抢劫车上苹果，他竟无动于衷，只对“我”被打破的鼻子感兴趣；最后司机参加到抢劫者的行列中去，把“我”的背包也抢走了。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这些荒诞情节在小说中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中宋"/>
                <a:ea typeface="华文中宋"/>
              </a:rPr>
              <a:t>荒诞的情节能更突出地揭示主题。“我”与抢劫者和司机的冲突，代表了“我”与成人世界的冲突，更是“我”与外部世界的冲突。荒诞的情节显示了荒诞社会中荒诞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旅店”在小说中有什么象征意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 “</a:t>
            </a:r>
            <a:r>
              <a:rPr b="1" lang="zh-CN" sz="3600" spc="-1" strike="noStrike">
                <a:solidFill>
                  <a:srgbClr val="008000"/>
                </a:solidFill>
                <a:latin typeface="华文中宋"/>
                <a:ea typeface="华文中宋"/>
              </a:rPr>
              <a:t>旅店”是漂泊的灵魂的栖息地，是一处暂时或长久的寄托地。当“我”躺在汽车里感到一丝温暖，并说“我一直在寻找旅店，没想到旅店你竟在这里”时，“旅店”被赋予了“我”心底的一点希望、一份力量，小说在凄婉的伤感中显示了一点亮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在寻找“旅店”的过程中，主人公的情绪有什么变化？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一直在变化———“我”期望、失望；期望、出乎意料、大大失望；期望、更出乎意料、完全失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我”的情绪变化来自客观世界的不可捉摸，想像中的世界和现实世界相差甚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C SYSTEM</cp:lastModifiedBy>
  <dcterms:modified xsi:type="dcterms:W3CDTF">1999-12-31T18:05:3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