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1BC-7320-4AA0-92D9-EAEDD776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151-11B5-4DC3-BFD9-7259BB6D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8CF-6D35-42D5-9BBD-61FD10C0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4FB-CFDB-42F0-8DE1-6EC4CB38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617-61B1-4526-95EF-BA47E6C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4CE-EA93-43B3-B169-102BC8D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55D-1136-425E-8277-EF60C8AA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ED7-86E9-406B-B48C-E4E7155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DBB-6A5A-46C2-B587-202302A1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2BC-1F55-4EAC-948D-7E262E1A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B76-D8F5-4253-AE1C-A5CDFF4A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11D-7066-4635-9271-AD08825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CA8A-7844-4491-997D-8C462D64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82,3,&#24187;&#28783;&#29255; 3" TargetMode="External"/><Relationship Id="rId3" Type="http://schemas.openxmlformats.org/officeDocument/2006/relationships/hyperlink" Target="273,4,&#24187;&#28783;&#29255; 4" TargetMode="External"/><Relationship Id="rId4" Type="http://schemas.openxmlformats.org/officeDocument/2006/relationships/hyperlink" Target="271,5,&#24187;&#28783;&#29255; 5" TargetMode="External"/><Relationship Id="rId5" Type="http://schemas.openxmlformats.org/officeDocument/2006/relationships/hyperlink" Target="285,6,&#24187;&#28783;&#29255; 6" TargetMode="External"/><Relationship Id="rId6" Type="http://schemas.openxmlformats.org/officeDocument/2006/relationships/hyperlink" Target="288,7,&#24187;&#28783;&#29255; 7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1760" y="3657240"/>
            <a:ext cx="4800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给自己一片灿烂的天空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990720"/>
            <a:ext cx="4648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戒烟了吗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烟龄的级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吸烟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世界无烟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幽默小笑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烟草的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04920"/>
            <a:ext cx="86868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烟民：我每周吸一包烟，已经咳嗽了。吸了口烟，从嘴里吹出一个圆圆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徒：我每天吸一包烟，已经吐血了。吸了口烟，从鼻子吹出一个三角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迷：我每天吸一条烟，已经肺结核了。吸了口烟，从耳朵吹出一个奥迪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狂：我每天吸一箱烟，已经肺气肿了。吸了口烟，从屁股后吹出一个五环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神：我每天吸一车烟，已经肺癌了。吸了口烟，从肚脐眼吹出一个福娃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圣：我每天吸一根烟，一吸就吸一天，已经没有肺了。吸了口烟，从别人的嘴里吹出一行汉字：吸烟有利健康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鬼：我每天都吸不了烟，已经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52480" y="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烟草中的尼古丁是一种神经毒素，主要侵害人的神经系统。一些吸烟者在主观上感觉吸烟可以解除疲劳、振作精神等，这是神经系统的一时性兴奋，实际上是尼古丁引起的欣快感。兴奋后的神经系统随即 出现抑制。所以，吸烟后神经肌肉反应的灵敏度和精确度均下降。国外一心理研究机构的一项研究结果表明，吸烟者的智力效能比不吸烟者减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6%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40" y="380880"/>
            <a:ext cx="1058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烟的危害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380988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54360" y="2011320"/>
            <a:ext cx="42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666880"/>
            <a:ext cx="53593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引起国际社会对烟草危害人类健康的重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卫生组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每年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定为“世界无烟日”，并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执行。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无烟日改为每年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81080" y="838080"/>
            <a:ext cx="4724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世界无烟日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公患有心脏病，医生劝他戒烟，并且说，如果不能一下子戒掉，可以先改成每天饭后抽一支。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月后，他又去看医生，医生检查后发现他又有了胃病，大惑不解，问：“这是怎么回事？”“可能是因为我为了遵守您饭后一支烟的建议，每天吃饭次数过多而且不规律吧。”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14600" y="533520"/>
            <a:ext cx="2247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幽默笑话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3352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香烟中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化学成分，其中约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有毒或致癌物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化学致癌物）。香烟燃烧时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化合物在烟雾中缭绕。我们最熟悉的烟草燃烧产物是尼古丁（即烟碱）、烟焦油、一氧化碳、氢氰酸、氨、丙酮、丁烷、砷、镉、甲苯及芳香化合物等一系列有害物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5T03:08:26Z</dcterms:created>
  <dc:creator/>
  <dc:description/>
  <dc:language>en-US</dc:language>
  <cp:lastModifiedBy>未知用户</cp:lastModifiedBy>
  <dcterms:modified xsi:type="dcterms:W3CDTF">2015-07-05T03:09:1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