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82E-0A21-4766-966C-3499A70D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5BE1-03D6-402E-B054-0D94AA1F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193B-6338-48B6-B0DC-942D465C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AC65-182C-4FA6-A2DA-FB7A9C461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42E-E0AF-4E40-9321-B95884F63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D028-9DCE-4E1E-8615-6A8B2B8A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2F9-D592-4CF7-8928-B66065184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DAFC-05DC-441D-AD03-F3CB7BC9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21EE-F43A-4A27-9FDE-20E201AB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309-9214-4768-8BC0-E8459B5B2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6781-D8CA-461F-958A-86C908EB5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15EA-182D-416F-AE3F-CDD57450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511B-5C41-4635-8E9A-9C7504A014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蜀道难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李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525760" y="1981080"/>
          <a:ext cx="409248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5760" y="1981080"/>
                    <a:ext cx="409248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4" name="山15" descr=""/>
          <p:cNvPicPr/>
          <p:nvPr/>
        </p:nvPicPr>
        <p:blipFill>
          <a:blip r:embed="rId3"/>
          <a:stretch/>
        </p:blipFill>
        <p:spPr>
          <a:xfrm>
            <a:off x="0" y="10666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057400" y="585324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课件制作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任志善（中鸿网特约专家、特约作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工作单位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 中山大学附中               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2002.10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上有六龙回日之高标，下有冲波逆折之回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黄鹤之飞尚不得过，猿猱欲度愁攀援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山17" descr=""/>
          <p:cNvPicPr/>
          <p:nvPr/>
        </p:nvPicPr>
        <p:blipFill>
          <a:blip r:embed="rId1"/>
          <a:stretch/>
        </p:blipFill>
        <p:spPr>
          <a:xfrm>
            <a:off x="40384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青泥何盘盘，百步九折萦岩峦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扪参历井仰胁息，以手抚膺坐长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山22" descr=""/>
          <p:cNvPicPr/>
          <p:nvPr/>
        </p:nvPicPr>
        <p:blipFill>
          <a:blip r:embed="rId1"/>
          <a:stretch/>
        </p:blipFill>
        <p:spPr>
          <a:xfrm>
            <a:off x="3962520" y="0"/>
            <a:ext cx="51814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8098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问君西游何时还？畏途巉岩不可攀。但见悲鸟号古木，雄飞雌从绕林间。又闻子规啼夜月，愁空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647960" y="228600"/>
            <a:ext cx="38098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山19" descr=""/>
          <p:cNvPicPr/>
          <p:nvPr/>
        </p:nvPicPr>
        <p:blipFill>
          <a:blip r:embed="rId1"/>
          <a:stretch/>
        </p:blipFill>
        <p:spPr>
          <a:xfrm>
            <a:off x="4038480" y="0"/>
            <a:ext cx="48769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山12" descr=""/>
          <p:cNvPicPr/>
          <p:nvPr/>
        </p:nvPicPr>
        <p:blipFill>
          <a:blip r:embed="rId1"/>
          <a:stretch/>
        </p:blipFill>
        <p:spPr>
          <a:xfrm>
            <a:off x="3048120" y="0"/>
            <a:ext cx="6095880" cy="8610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228600" y="6858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" y="380880"/>
            <a:ext cx="30481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蜀道之难，难于上青天，使人听此凋朱颜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5053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连峰去天不盈尺，枯松倒挂倚绝壁。飞湍瀑流争喧豗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īng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崖转石万壑雷。其险也如此，嗟尔远道之人胡为乎来哉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647960" y="456840"/>
            <a:ext cx="38098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山25" descr=""/>
          <p:cNvPicPr/>
          <p:nvPr/>
        </p:nvPicPr>
        <p:blipFill>
          <a:blip r:embed="rId1"/>
          <a:stretch/>
        </p:blipFill>
        <p:spPr>
          <a:xfrm>
            <a:off x="335268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2670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剑阁峥嵘而崔嵬，一夫当关，万夫莫开。所守或匪亲，化为狼与豺。朝避猛虎，夕避长蛇。磨牙吮血，杀人如麻。锦城虽云乐，不如早还家。蜀道之难，难于上青天，侧身西望长咨嗟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山27" descr=""/>
          <p:cNvPicPr/>
          <p:nvPr/>
        </p:nvPicPr>
        <p:blipFill>
          <a:blip r:embed="rId1"/>
          <a:stretch/>
        </p:blipFill>
        <p:spPr>
          <a:xfrm>
            <a:off x="4495680" y="0"/>
            <a:ext cx="464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按文章思路背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叹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蜀道之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高（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自古难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蜀道来历）←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蜀道高峻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二叹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蜀道之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险（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自古可畏—劝阻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景物凄清）← 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山水险恶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叹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蜀道之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——惨（</a:t>
            </a:r>
            <a:r>
              <a:rPr b="0" lang="zh-CN" sz="3200" spc="-1" strike="noStrike">
                <a:solidFill>
                  <a:srgbClr val="00cc99"/>
                </a:solidFill>
                <a:latin typeface="Times New Roman"/>
              </a:rPr>
              <a:t>战祸惨烈—告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剑阁险要）← 难在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绝（杀人惨景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分析诗歌艺术特色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背诵相关语句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一、大胆的夸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雄伟奇险、强烈深刻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蜀道难、写山高峻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写激流瀑布、写蜀地历史、写人的惊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二、奇特的想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心游万仞、思接千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写历史传说、写人惊魂未定、写山高阻日（神话故事—六龙回日）、写黄鹤之飞、写连绵高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三、强烈的感情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赞叹惊异、震撼人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反复出现的惊叹、磅礴的气势、深刻的感受、强烈充沛起伏动荡变化多端的情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四、变幻的语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cc99"/>
                </a:solidFill>
                <a:latin typeface="Times New Roman"/>
              </a:rPr>
              <a:t>长短不齐、纵横崛崎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全诗句子有三字、四字、五字、七字、九字，前半部分多用长句，气势畅达夸张表现蜀道的高山险川；后半部分写剑阁险恶，多用四字句，跳荡有力，表现惊恐情绪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山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952880" y="5410080"/>
            <a:ext cx="38102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  </a:t>
            </a:r>
            <a:r>
              <a:rPr b="1" lang="zh-CN" sz="9600" spc="-1" strike="noStrike">
                <a:solidFill>
                  <a:srgbClr val="00cc99"/>
                </a:solidFill>
                <a:latin typeface="Times New Roman"/>
                <a:ea typeface="华文行楷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61722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网址：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http://wenxin8.diy.163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imes New Roman"/>
              </a:rPr>
              <a:t>李白简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5238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李白（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701-762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），字太白，号青莲居士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祖籍陇西成纪（今甘肃省秦安县），先世隋时因罪流徙中亚，他出生在安西都护府的碎叶城（今吉尔吉斯境内），五岁时随父迁居绵州彰明县（今四川省江油县）的青莲乡。他自青年时就漫游全国各地，天宝初年曾进住长安，供奉翰林，但不久就遭贬去职。晚年漂泊东南一带，六十二岁病死在当涂县令李阳冰家。李白幼时，他的父亲对他进行过传统教育，青年时接触过道士和纵横家，也受过儒家的影响，思想比较复杂，这在他的作品中有所反映。</a:t>
            </a:r>
            <a:r>
              <a:rPr b="0" lang="zh-CN" sz="2400" spc="-1" strike="noStrike" u="sng">
                <a:solidFill>
                  <a:srgbClr val="3333cc"/>
                </a:solidFill>
                <a:uFillTx/>
                <a:latin typeface="Times New Roman"/>
              </a:rPr>
              <a:t>他性格豪迈，渴望建功立业，但对当时的黑暗社会现实极为不满，他热爱祖国山川，同情下层人民，蔑视权贵，但也有一些饮酒求仙、放纵享乐的思想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的诗现存九百多首，都收在《李太白集》中。在他所有的作品中乐府诗约占四分之一，其代表作为《蜀道难》、《梁父吟》 等，代表了其浪漫主义诗歌的最高成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38088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他也是五言、七言绝句的圣手。五言含蓄、深远，只有王维可以相比；七绝韵味醇美，音节和谐流畅，和王昌龄齐名，被评为有唐三百年的典范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李白诗歌的浪漫主义风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强烈的浪漫主义色彩，是李白作品的艺术特点，</a:t>
            </a:r>
            <a:r>
              <a:rPr b="0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风格雄健奔放，色调瑰玮绚丽，语言清新自然，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是继屈原以后我国最伟大的浪漫主义诗人。他驰骋想象，运用神话的离奇境界，把自己热烈的感情倾注到所描写的对象之中，以惊俗骇世的笔墨，恣意挥洒，描写了壮丽奇谲的世界，借以抒发个人怀抱的抑郁和不平。他鞭挞封建社会的丑恶淋漓尽致，杜甫曾说他：“</a:t>
            </a:r>
            <a:r>
              <a:rPr b="0" lang="zh-CN" sz="2400" spc="-1" strike="noStrike" u="sng">
                <a:solidFill>
                  <a:srgbClr val="00cc99"/>
                </a:solidFill>
                <a:uFillTx/>
                <a:latin typeface="Times New Roman"/>
              </a:rPr>
              <a:t>笔落惊风雨，诗成泣鬼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，皮日休说他：</a:t>
            </a:r>
            <a:r>
              <a:rPr b="0" lang="en-US" sz="2400" spc="-1" strike="noStrike" u="sng">
                <a:solidFill>
                  <a:srgbClr val="00cc99"/>
                </a:solidFill>
                <a:uFillTx/>
                <a:latin typeface="Times New Roman"/>
              </a:rPr>
              <a:t>“言出天地外，思出鬼神表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韩愈说：“李杜文章在，光焰万丈长。”是的，李白诗歌中强烈的爱憎之情和艺术魅力，千百年来一直鼓舞着人们，激发着人们，是我国人民精神财富中的瑰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cc"/>
                </a:solidFill>
                <a:latin typeface="Times New Roman"/>
              </a:rPr>
              <a:t>《蜀道难》的写作背景及目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唐代蜀中商业经济极为发达，入蜀的人乐不思返，而没有认识到这一地区形势险要，自古为封建割据之地，随时有发生叛乱的可能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这首诗大约是开元十九年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3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李白初入长安之作。《蜀道难》是乐府古题，古辞都以蜀道险阻为内容，寓有功业难成之意。正是这一点，触动了李白初入长安追求功名未成的心事。当友人入蜀时，，他便用这一古题写诗送别友人。</a:t>
            </a:r>
            <a:r>
              <a:rPr b="0" lang="zh-CN" sz="2800" spc="-1" strike="noStrike" u="sng">
                <a:solidFill>
                  <a:srgbClr val="00cc99"/>
                </a:solidFill>
                <a:uFillTx/>
                <a:latin typeface="Times New Roman"/>
              </a:rPr>
              <a:t>诗中极力描绘入蜀道路的艰难险阻，表达对蜀中军阀割据作乱和友人旅蜀安危的担忧，更借此抒发世道艰难，志士功业难成的悲愤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疏通字词，看图背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1447920"/>
            <a:ext cx="91440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噫吁</a:t>
            </a:r>
            <a:r>
              <a:rPr b="0" lang="en-US" sz="3200" spc="-1" strike="noStrike" baseline="16000">
                <a:solidFill>
                  <a:srgbClr val="000000"/>
                </a:solidFill>
                <a:latin typeface="Times New Roman"/>
              </a:rPr>
              <a:t> 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戏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ī xū x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鱼凫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ú fú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猿猱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á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扪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é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参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ē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历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膺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īn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   巉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á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飞湍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ā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          喧豗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uī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 baseline="16000">
                <a:solidFill>
                  <a:srgbClr val="ff3300"/>
                </a:solidFill>
                <a:uFillTx/>
                <a:latin typeface="Times New Roman"/>
              </a:rPr>
              <a:t>石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īn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崖            万壑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峥嵘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hēngróng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    崔嵬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īwéi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吮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ǔ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血               咨嗟（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ījiē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981080" y="11430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山1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02106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219320" y="4710240"/>
            <a:ext cx="75438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噫吁 </a:t>
            </a:r>
            <a:r>
              <a:rPr b="1" lang="zh-CN" sz="5400" spc="-1" strike="noStrike" baseline="16000">
                <a:solidFill>
                  <a:srgbClr val="66ff33"/>
                </a:solidFill>
                <a:latin typeface="Times New Roman"/>
              </a:rPr>
              <a:t>口</a:t>
            </a: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戏，危乎高哉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蜀道之难，难于上青天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山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80880" y="4266720"/>
            <a:ext cx="83059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</a:t>
            </a:r>
            <a:r>
              <a:rPr b="1" lang="zh-CN" sz="4400" spc="-1" strike="noStrike">
                <a:solidFill>
                  <a:srgbClr val="008080"/>
                </a:solidFill>
                <a:latin typeface="Times New Roman"/>
                <a:ea typeface="华文新魏"/>
              </a:rPr>
              <a:t>蚕丛及鱼凫，开国何茫然。尔来四万八千岁，不与秦塞通人烟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3124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西当太白有鸟道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可以横绝峨嵋巅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山10" descr=""/>
          <p:cNvPicPr/>
          <p:nvPr/>
        </p:nvPicPr>
        <p:blipFill>
          <a:blip r:embed="rId1"/>
          <a:stretch/>
        </p:blipFill>
        <p:spPr>
          <a:xfrm>
            <a:off x="3809880" y="0"/>
            <a:ext cx="51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2971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地崩山摧壮士死，然后天梯石栈相钩连。</a:t>
            </a:r>
            <a:br>
              <a:rPr sz="24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山23" descr=""/>
          <p:cNvPicPr/>
          <p:nvPr/>
        </p:nvPicPr>
        <p:blipFill>
          <a:blip r:embed="rId1"/>
          <a:stretch/>
        </p:blipFill>
        <p:spPr>
          <a:xfrm>
            <a:off x="3581280" y="0"/>
            <a:ext cx="5562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3T00:18:04Z</dcterms:created>
  <dc:creator>任志善</dc:creator>
  <dc:description/>
  <dc:language>en-US</dc:language>
  <cp:lastModifiedBy>hh</cp:lastModifiedBy>
  <dcterms:modified xsi:type="dcterms:W3CDTF">2015-08-06T08:45:04Z</dcterms:modified>
  <cp:revision>23</cp:revision>
  <dc:subject/>
  <dc:title>蜀道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