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B319-4CEA-4502-BDA0-248B21F25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F8AD-3022-48D4-AF49-B61043B0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10AC-E610-462D-8987-383F7DEF8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A708-5AA1-4423-BA3B-B537F15E7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67757-16D5-437E-9327-EBE887AC7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7650-BE5B-4419-B9D0-FA9E8878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869D-6F5A-4313-A2C5-3078F431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D68D-76C2-48DF-B8CC-45ECFA7B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5BD6-3793-4BCE-A60C-15AAC7B5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C676-1062-4DDA-9674-08114881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FB5C-4139-49A1-9DD8-E3A3AEBE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8DBD-364B-449F-A324-752F9412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55B9-F718-4E82-A235-12F76DD1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AAD5-08B7-4A37-9C66-4565ED8F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ABB9-169B-4E50-A55B-604DD6F3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0303-5C35-4ABA-82DD-96D389CF0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666B-6EDF-4422-B504-2D9B24F88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7C50-BE3C-454F-B7A8-10CE1760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3B3B-2EAD-4093-B837-ADC399E3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CA15-8C65-4175-925C-5EFF83F6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9898-6F4F-4BEB-BC35-E07CA2E3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329F-1977-47F7-BC2A-A172DFF5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9F97-7176-4A7D-9C43-BE00A0B6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B53A-0818-446E-B201-74A5FD67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12448" b="0"/>
          <a:stretch/>
        </p:blipFill>
        <p:spPr>
          <a:xfrm>
            <a:off x="0" y="0"/>
            <a:ext cx="9144000" cy="1131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D3C7-DEBC-404D-A84F-FBC04AE63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19334" r="0" b="0"/>
          <a:stretch/>
        </p:blipFill>
        <p:spPr>
          <a:xfrm>
            <a:off x="0" y="1593720"/>
            <a:ext cx="9144000" cy="5264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7765-2856-4368-AFA7-C6B8883B5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述职报告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763640" y="620640"/>
            <a:ext cx="36003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公司经营状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1315800"/>
            <a:ext cx="6624360" cy="52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——threat(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威胁和挑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63640" y="620640"/>
            <a:ext cx="36003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201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年工作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3640" y="1484280"/>
            <a:ext cx="67690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感谢您的关注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071800" y="1603440"/>
            <a:ext cx="537984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cedef"/>
              </a:gs>
              <a:gs pos="50000">
                <a:srgbClr val="f9fafa"/>
              </a:gs>
              <a:gs pos="100000">
                <a:srgbClr val="ecede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90560" y="1484280"/>
            <a:ext cx="685800" cy="685800"/>
          </a:xfrm>
          <a:prstGeom prst="diamond">
            <a:avLst/>
          </a:prstGeom>
          <a:solidFill>
            <a:srgbClr val="cc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00400" y="16588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岗位资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35280" y="160344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50920" y="2392200"/>
            <a:ext cx="53802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cedef"/>
              </a:gs>
              <a:gs pos="50000">
                <a:srgbClr val="f9fafa"/>
              </a:gs>
              <a:gs pos="100000">
                <a:srgbClr val="ecede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70040" y="2205000"/>
            <a:ext cx="685800" cy="685800"/>
          </a:xfrm>
          <a:prstGeom prst="diamond">
            <a:avLst/>
          </a:prstGeom>
          <a:solidFill>
            <a:srgbClr val="cc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79520" y="24480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参与设计项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14400" y="2322360"/>
            <a:ext cx="3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71800" y="3151080"/>
            <a:ext cx="537984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cedef"/>
              </a:gs>
              <a:gs pos="50000">
                <a:srgbClr val="f9fafa"/>
              </a:gs>
              <a:gs pos="100000">
                <a:srgbClr val="ecede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90560" y="3041640"/>
            <a:ext cx="685800" cy="685800"/>
          </a:xfrm>
          <a:prstGeom prst="diamond">
            <a:avLst/>
          </a:prstGeom>
          <a:solidFill>
            <a:srgbClr val="cc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47840" y="32068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完成任务指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41400" y="3151080"/>
            <a:ext cx="3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071800" y="3943440"/>
            <a:ext cx="537984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cedef"/>
              </a:gs>
              <a:gs pos="50000">
                <a:srgbClr val="f9fafa"/>
              </a:gs>
              <a:gs pos="100000">
                <a:srgbClr val="ecede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90560" y="3824280"/>
            <a:ext cx="685800" cy="685800"/>
          </a:xfrm>
          <a:prstGeom prst="diamond">
            <a:avLst/>
          </a:prstGeom>
          <a:solidFill>
            <a:srgbClr val="cc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00400" y="39988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自身工作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35280" y="394344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0920" y="4768920"/>
            <a:ext cx="53802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cedef"/>
              </a:gs>
              <a:gs pos="50000">
                <a:srgbClr val="f9fafa"/>
              </a:gs>
              <a:gs pos="100000">
                <a:srgbClr val="ecede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70040" y="4649760"/>
            <a:ext cx="685800" cy="685800"/>
          </a:xfrm>
          <a:prstGeom prst="diamond">
            <a:avLst/>
          </a:prstGeom>
          <a:solidFill>
            <a:srgbClr val="cc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79520" y="48243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公司经营状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14400" y="4768920"/>
            <a:ext cx="3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71800" y="5526000"/>
            <a:ext cx="537984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cedef"/>
              </a:gs>
              <a:gs pos="50000">
                <a:srgbClr val="f9fafa"/>
              </a:gs>
              <a:gs pos="100000">
                <a:srgbClr val="ecede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90560" y="5407200"/>
            <a:ext cx="685800" cy="685800"/>
          </a:xfrm>
          <a:prstGeom prst="diamond">
            <a:avLst/>
          </a:prstGeom>
          <a:solidFill>
            <a:srgbClr val="cc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47840" y="5581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01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工作计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41400" y="5526000"/>
            <a:ext cx="3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6249960"/>
            <a:ext cx="35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63640" y="620640"/>
            <a:ext cx="36003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目 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63280" y="563040"/>
            <a:ext cx="36003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岗位资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47640" y="1558800"/>
            <a:ext cx="432144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部       门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姓       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入职时间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现任职务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岗位职责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763640" y="563400"/>
            <a:ext cx="36003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参与设计项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55640" y="2565360"/>
          <a:ext cx="7777080" cy="2303640"/>
        </p:xfrm>
        <a:graphic>
          <a:graphicData uri="http://schemas.openxmlformats.org/drawingml/2006/table">
            <a:tbl>
              <a:tblPr/>
              <a:tblGrid>
                <a:gridCol w="1224000"/>
                <a:gridCol w="1415880"/>
                <a:gridCol w="1320840"/>
                <a:gridCol w="1319400"/>
                <a:gridCol w="1319040"/>
                <a:gridCol w="1177920"/>
              </a:tblGrid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项目名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7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项目地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7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设计时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7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工程面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7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工程造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7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中标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7ea"/>
                    </a:solidFill>
                  </a:tcPr>
                </a:tc>
              </a:tr>
              <a:tr h="88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684360" y="1989000"/>
            <a:ext cx="367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201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年参与设计项目总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763640" y="635040"/>
            <a:ext cx="36003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完成任务指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4360" y="1989000"/>
            <a:ext cx="367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201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年任务指标完成情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828720" y="2637000"/>
          <a:ext cx="7689960" cy="2016000"/>
        </p:xfrm>
        <a:graphic>
          <a:graphicData uri="http://schemas.openxmlformats.org/drawingml/2006/table">
            <a:tbl>
              <a:tblPr/>
              <a:tblGrid>
                <a:gridCol w="880920"/>
                <a:gridCol w="508320"/>
                <a:gridCol w="507960"/>
                <a:gridCol w="507960"/>
                <a:gridCol w="507960"/>
                <a:gridCol w="507960"/>
                <a:gridCol w="507960"/>
                <a:gridCol w="507960"/>
                <a:gridCol w="507960"/>
                <a:gridCol w="507960"/>
                <a:gridCol w="508320"/>
                <a:gridCol w="863280"/>
                <a:gridCol w="865440"/>
              </a:tblGrid>
              <a:tr h="65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月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7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7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7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7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7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7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7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7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7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7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7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7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7ea"/>
                    </a:solidFill>
                  </a:tcPr>
                </a:tc>
              </a:tr>
              <a:tr h="65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任务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d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完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情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ed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763640" y="620640"/>
            <a:ext cx="36003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自身工作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1557360"/>
            <a:ext cx="67672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●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未中标原因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</a:t>
            </a:r>
            <a:br>
              <a:rPr sz="16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●  设计方案满意度分析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●  设计项目的跟进分析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●  成绩与不足分析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763640" y="620640"/>
            <a:ext cx="36003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公司经营状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63640" y="1628640"/>
            <a:ext cx="619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针对目前公司经营状况的分析（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SWO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进行分析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35280" y="1958760"/>
            <a:ext cx="66261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S——strength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（竞争优势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763640" y="620640"/>
            <a:ext cx="36003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公司经营状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35280" y="1293840"/>
            <a:ext cx="676908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——weakn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（竞争劣势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rcRect l="0" t="0" r="12448" b="0"/>
          <a:stretch/>
        </p:blipFill>
        <p:spPr>
          <a:xfrm>
            <a:off x="0" y="0"/>
            <a:ext cx="9144000" cy="11318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763640" y="620640"/>
            <a:ext cx="36003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公司经营状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63640" y="1243080"/>
            <a:ext cx="662472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——opportunity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发展机会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07:28:32Z</dcterms:created>
  <dc:creator/>
  <dc:description/>
  <dc:language>en-US</dc:language>
  <cp:lastModifiedBy>微软用户</cp:lastModifiedBy>
  <dcterms:modified xsi:type="dcterms:W3CDTF">2014-12-10T04:00:39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79</vt:lpwstr>
  </property>
</Properties>
</file>