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A13-F091-4266-B9C9-4A0F86EA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EE4-99BB-4F90-A328-CE6C5CE7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785-61D7-4B5B-9E7E-58672C64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474-3099-4F92-A6F9-DEA17271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A5C-B09C-4F50-9050-11A45B84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58D-1312-42BE-AEA5-2486CCD6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0DD-A489-4FC8-8C47-CAEEFB73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1DE-4E70-4336-A495-25FEA9CB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174-D564-442F-B9C9-01BF89AA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A43-F3EF-4450-8E26-13A4E601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A4B-8541-4B15-82B5-5DA233EE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C8F-034B-4FE0-8308-51D79785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AC34-EF3E-42E7-BABA-51EF956247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86160" y="7142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72040" y="16207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英伦风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3714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997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29977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85840" y="21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11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50695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211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05680" y="210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242892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426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926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071800" y="4643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5712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285920" y="4714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61408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056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192888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1497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6569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662760" y="425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78612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6498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1711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05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857760" y="42735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9266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805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39290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426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2426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44265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3-12-27T03:10:55Z</dcterms:modified>
  <cp:revision>24</cp:revision>
  <dc:subject/>
  <dc:title>幻灯片 1</dc:title>
</cp:coreProperties>
</file>