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891-1B31-46CF-88E8-236822A1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B11-981D-4F9B-90A5-9CA2A9BD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225-EC48-495A-98F6-F022E451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6F8-4E5C-43AF-82C2-3D9881BC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74E-8B2A-4021-A835-370A9DB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60C-FBA6-4B59-AF4A-168EED3B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BD7-B390-4797-8CFC-C1C0B946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504-F10F-4256-902D-6D075791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BA7-E23B-40C8-B733-28E0E5E5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021-CE1C-490E-83F6-5874263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384-0908-4C2F-A53E-57D3ADD1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024-2B9F-4044-8CCC-0BB4E135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2CB4-A11B-477B-B5AD-76E2D737B6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86160" y="714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72040" y="16207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英伦风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3714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997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2997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858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11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50695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211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05680" y="210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42892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426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926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0718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5712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285920" y="4714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61408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192888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1497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6569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662760" y="42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78612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649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05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7760" y="42735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926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805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3929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426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44265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3-12-27T03:10:55Z</dcterms:modified>
  <cp:revision>24</cp:revision>
  <dc:subject/>
  <dc:title>幻灯片 1</dc:title>
</cp:coreProperties>
</file>