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BB08-0241-4145-9D91-12D2A53B6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8B68-8942-423E-BDF5-FF7F9CCA5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81954C-9208-4E3C-89CF-EA72D4435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BC50BC-20E5-464B-9829-B96CDA6F8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E557B2-B76A-4E67-825F-B4248FB1A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9680EF-A967-4E98-BD60-4650D7181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D20162-8246-4CF9-BB3D-B2A8E43A5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AA6909-7022-4AB7-B480-C5C385C4D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39AAA0-A1C9-40E0-A7A2-0F8F10458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80BE16-0CC9-480C-93D7-F2A1B3F52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0166DD-381A-403F-A6E6-05E5FBFA9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DBFC02-ABEC-4FE8-8D2C-DB37196AA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B41F-5DB8-4882-8875-1373B8F40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1E9346-17AC-4695-AB83-40F175EFC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62B314-2F89-4EDF-90A4-2F255797F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C5EFB0-8910-47BA-B639-1A44D97D5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7170EC-BAA4-4254-B013-AE924AB58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A29B6B-0236-49C3-88B3-D7AA17C55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7A9E6F-9DCC-4449-93CE-CB6E1E45C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56BD94-B490-4C7D-A104-69B92B530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AC79C8-128C-496D-9A10-F06E46ACC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49FAF9-44F6-4588-A278-78FB855D2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FF3962-0496-4A36-A19D-0C5083C02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C402-726F-46E4-80D0-B580FE371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C05C38-FB76-4AC7-ACF9-C3C07F53A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A3299C-4F5C-41C5-91E8-49089F4A9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22EF1E-DFF8-4C90-91F2-48854E63C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8C3C33-C03F-4169-A2FF-AC8700F04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7B8A4F-E0C7-48B3-B4A5-C9F21A5CB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2D5836-326F-4669-AC7F-EF48A58D3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E57BB3-8BC0-4B2E-B6D1-892ADD684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1CA4F2-3797-4968-ADA1-0644DCDC4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50FDC1-50BE-4D56-A38C-2ED38BDBA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5FE287-ADB9-4CC4-8504-48EBB72C2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00775-41AF-4541-93DA-B15CEC978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E5F9C4-5B77-487A-8985-56E474F87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51A3E6-E1EA-418E-8C7B-D026AA4EC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BB432E-DFDE-4566-BBBD-E8830AF20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2CC4FD-0221-434A-838B-FCFB3CF9E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18FFA7-FC0B-444E-8245-9C6A7BBB9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D575CD-38C7-435D-BA00-995835F39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3E6143-7C15-4157-93CE-73CCD852B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C53ACE-6482-4FB0-B0C2-642EC484B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1A9EF3-5A19-4704-9854-58B66EB93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1656A8-E682-40FE-B578-A980A6C84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08F43-7B18-4242-B8EB-BF7B1E143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750F12-7285-42DA-BAD4-175E71382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D3E9C2-4672-4C5E-8F84-1BC87EC41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3B59E7-D763-44DE-9418-24A5C4E4C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100B0C-BCCA-4A71-9030-20054966E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0E9A41-C826-4C52-B7C7-CC3D174D7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8CDC1-C538-4E65-827A-6E3B0D050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739F3-4B9F-4AC0-A044-F1A68C69F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8ED88-71E1-4A73-9D51-F7503B810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0AA58-A081-42BE-83CA-A2B342E89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9383D-F6FB-4E45-BFF4-884D15A20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AD00-50E4-4FB3-97CE-BED703A53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F86EA-D688-40EB-A9B4-9118F5D0B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45B1A-CC8C-4CF4-8B40-CD3A68BAD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17B5A-3D1A-426A-8DDF-CF354EAB0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D4146-0C74-4234-BFDB-12461091B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5A7D8-A1DB-4CDE-8F56-7557AEFE0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C49F5-0FFD-4D05-B280-74F724548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4A82B-7482-4F00-BF96-A3CA27C2B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ADF66-A263-456B-A5B9-D089D5328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6E27F-A316-4E9F-82F3-9E36E3292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00A3A-1C75-4B1B-B1F8-606347A46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5522-579B-4944-805C-EBDDEC4D2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FA242-0766-4E1A-B7D0-B344E6221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AA73B-33DA-4682-BF3F-EE7EC0ADC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AADD5-D6F2-4E5C-A769-4206CF726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471DD-3590-42E5-AD60-8DB08BD86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BED8F-6CA2-4C88-86C7-A7DEED5AE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B9962-26E4-4C20-9C9C-ABDE6E389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FBEAF-E2E8-4FFC-9C14-C626A3D12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CF2C6-895A-40FD-B765-512568058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7CE97-8364-4654-BA6F-5435D2FB5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5F09E-D53C-4CBB-97DF-57AC8648D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8FFA-CEE2-4EC8-AB74-DA65CBF3B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F4DD3-9979-49EE-8858-109DBFDC4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E453E-67A2-4E34-93D9-54970D669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AAF7B-FAB5-4C0D-A31B-F1CF06BDD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572DF-C2CA-4862-928D-FCBB20CB1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DF922-7F57-4DD6-8FA8-B1676CED7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C7AF3-40D4-45E6-8D1A-7A85DAD78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95A17-E3B4-43BC-9DA4-58662FBEE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E80ED1-0F3D-4E99-91D6-FDC3D2F0E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492B4-61D0-4A7C-BDA6-DA400632F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84258F-B04F-4619-842E-40D1D7AE8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760D-9E5F-48EC-A37D-82A629965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384A54-AE88-4A51-B102-70D75434A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D16CE8-6921-4E2C-AD07-6557A6397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E636C9-BD9D-45E5-8BA2-9CB52CF88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C72674-55F0-454F-B9B1-06A666B52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D2096F-B5C9-42F0-A379-E8467073E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54080E-7A17-48E4-BF65-C90A8BCD3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6B1AA1-DF77-4281-BA74-2A3AB7BF2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316447-D871-495F-8711-5C78926F2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D26D5C-B6F8-41CF-8E43-C4C41440F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9952F1-CC88-4F16-B5D2-01BEE171E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2129-EAD0-4681-8E00-41E2DF07B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161C08-9B88-4332-A131-C55C53222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6BC08D-2590-49CC-A445-AA639DFDF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0F5F3D-4A1C-429F-94B1-A86EC0C93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DF98E1-BC83-4D77-9E33-4CB61FB61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71831C-23A6-4F98-B9B5-6F36637C5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ECB4D1-D4E6-4CD2-A94A-CD8D32832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6C8F60-5E9C-4EBF-9E2F-04E0AFD16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4BFBD2-71BE-498D-9BFF-8A3331ECE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825CD2-B654-4D0C-B46D-2A55F4204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1FEB8D-A543-4308-9877-FA1BD4680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5655-27E0-484B-9804-BEE8C2EE4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D2F400-DDBA-4CC7-8D8E-2F4BA3F22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6671CF-FF49-42FC-B5D9-731803D46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DA9488-271A-4577-AD8E-13F148990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C223D7-5D12-4986-8680-AF7D2BEE6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F6C23F-2C5C-4060-9089-7C632B959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89B754-11DC-4B23-BE81-56D043615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94320E-9AD3-4760-9DB1-A2A22C67E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62D383-C148-4006-9471-E0F4DF673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6973E9-32CF-4688-A9FA-201C1FCA8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AD9543-51A0-49CD-85B2-98DC5589B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3C0B-A2F2-40A9-A9A8-B91398CB5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26B6D1-B201-40C1-B0D8-F413B7B11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F66CB8-F11B-42A5-99BD-91B3B01A1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63326D-5083-4D79-AB1C-948A2E575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DF3FD9-F308-411E-80F3-79B894144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485670-CE7A-4634-B9F0-1E7595F38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70B79D-5029-48EC-8393-290AFDC37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89017B-2EE1-4363-A87A-E14899BB7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2406CA-24D4-4356-92F2-978E33E8C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9C85A9-08EC-48B0-AB37-98E73AC8D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DD9D87-062D-45EC-AA5A-1FF390C59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70D7-A91F-46AC-B155-EA94869CE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3C3893-98AF-470B-B8D2-3B1DB8BD1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5EC956-6E95-49D5-B7D1-B931976E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DE35F4-DAE3-4030-81A4-8D64594A4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7AC4FB-D2DA-4BF9-8AEE-4AFB0734F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F7F43E-2B34-479D-8DCA-5582DF323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466D52-C8A7-49A6-877C-7FC045A25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856416-B3CC-4E71-ACA6-7A32D8496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766DB0-7880-4780-91B6-BD37BFB00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F46D99-FEC6-4E67-9363-FCB526B5A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755426-4554-453E-88CE-1AE3C39E5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99EF7-A94F-40C6-8085-0D980B159E1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" name="Picture 9" descr="C:\Documents and Settings\Administrator\桌面\素材CNN sccnn.com 388XXC2.jpg"/>
          <p:cNvPicPr/>
          <p:nvPr/>
        </p:nvPicPr>
        <p:blipFill>
          <a:blip r:embed="rId2"/>
          <a:srcRect l="1214" t="14693" r="0" b="861"/>
          <a:stretch/>
        </p:blipFill>
        <p:spPr>
          <a:xfrm>
            <a:off x="-28440" y="0"/>
            <a:ext cx="9172440" cy="5116680"/>
          </a:xfrm>
          <a:prstGeom prst="rect">
            <a:avLst/>
          </a:prstGeom>
          <a:ln w="0">
            <a:noFill/>
          </a:ln>
        </p:spPr>
      </p:pic>
      <p:grpSp>
        <p:nvGrpSpPr>
          <p:cNvPr id="4" name="矩形 7"/>
          <p:cNvGrpSpPr/>
          <p:nvPr/>
        </p:nvGrpSpPr>
        <p:grpSpPr>
          <a:xfrm>
            <a:off x="-12600" y="-6480"/>
            <a:ext cx="9180360" cy="5151600"/>
            <a:chOff x="-12600" y="-6480"/>
            <a:chExt cx="9180360" cy="5151600"/>
          </a:xfrm>
        </p:grpSpPr>
        <p:pic>
          <p:nvPicPr>
            <p:cNvPr id="5" name="矩形 7" descr=""/>
            <p:cNvPicPr/>
            <p:nvPr/>
          </p:nvPicPr>
          <p:blipFill>
            <a:blip r:embed="rId3"/>
            <a:stretch/>
          </p:blipFill>
          <p:spPr>
            <a:xfrm>
              <a:off x="-12600" y="-3240"/>
              <a:ext cx="9180360" cy="514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-12600" y="-6480"/>
              <a:ext cx="9180360" cy="514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" name="矩形 8"/>
          <p:cNvSpPr/>
          <p:nvPr/>
        </p:nvSpPr>
        <p:spPr>
          <a:xfrm>
            <a:off x="-28440" y="4924440"/>
            <a:ext cx="9172440" cy="182520"/>
          </a:xfrm>
          <a:prstGeom prst="rect">
            <a:avLst/>
          </a:prstGeom>
          <a:solidFill>
            <a:srgbClr val="7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矩形 9"/>
          <p:cNvSpPr/>
          <p:nvPr/>
        </p:nvSpPr>
        <p:spPr>
          <a:xfrm>
            <a:off x="-28440" y="4952880"/>
            <a:ext cx="9172440" cy="190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" name="Picture 11" descr=""/>
          <p:cNvPicPr/>
          <p:nvPr/>
        </p:nvPicPr>
        <p:blipFill>
          <a:blip r:embed="rId4"/>
          <a:stretch/>
        </p:blipFill>
        <p:spPr>
          <a:xfrm>
            <a:off x="108000" y="95400"/>
            <a:ext cx="824040" cy="653760"/>
          </a:xfrm>
          <a:prstGeom prst="rect">
            <a:avLst/>
          </a:prstGeom>
          <a:ln w="0">
            <a:noFill/>
          </a:ln>
        </p:spPr>
      </p:pic>
      <p:sp>
        <p:nvSpPr>
          <p:cNvPr id="10" name="直接连接符 11"/>
          <p:cNvSpPr/>
          <p:nvPr/>
        </p:nvSpPr>
        <p:spPr>
          <a:xfrm>
            <a:off x="979560" y="-1440"/>
            <a:ext cx="0" cy="547560"/>
          </a:xfrm>
          <a:prstGeom prst="line">
            <a:avLst/>
          </a:prstGeom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" name="Picture 12" descr=""/>
          <p:cNvPicPr/>
          <p:nvPr/>
        </p:nvPicPr>
        <p:blipFill>
          <a:blip r:embed="rId5"/>
          <a:stretch/>
        </p:blipFill>
        <p:spPr>
          <a:xfrm>
            <a:off x="7132680" y="4027320"/>
            <a:ext cx="1832040" cy="1320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93760" indent="-2937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4320" indent="-24336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79200" indent="-1972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370520" indent="-19728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76292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76292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76292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8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05910-0DF5-4BA5-9E26-99227F1B956A}" type="datetime">
              <a:rPr b="0" lang="zh-CN" sz="11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9"/>
          </p:nvPr>
        </p:nvSpPr>
        <p:spPr>
          <a:xfrm>
            <a:off x="3124080" y="4683240"/>
            <a:ext cx="2897280" cy="357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30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583D5-8897-49B8-AB48-24C1B2D706D4}" type="slidenum">
              <a:rPr b="0" lang="zh-CN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93760" indent="-2937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4320" indent="-24336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79200" indent="-1972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370520" indent="-19728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76292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76292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76292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dt" idx="31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AA368-ADE2-4445-9DE8-FA7C8ED56125}" type="datetime">
              <a:rPr b="0" lang="zh-CN" sz="11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ftr" idx="32"/>
          </p:nvPr>
        </p:nvSpPr>
        <p:spPr>
          <a:xfrm>
            <a:off x="3124080" y="4683240"/>
            <a:ext cx="2897280" cy="357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 type="sldNum" idx="33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EB83B-29A7-470B-81B5-A50B9A2F1272}" type="slidenum">
              <a:rPr b="0" lang="zh-CN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93760" indent="-2937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4320" indent="-24336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79200" indent="-1972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370520" indent="-19728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76292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76292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76292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34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6CA0C-2256-447F-95A7-93D74628BC3B}" type="datetime">
              <a:rPr b="0" lang="zh-CN" sz="11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35"/>
          </p:nvPr>
        </p:nvSpPr>
        <p:spPr>
          <a:xfrm>
            <a:off x="3124080" y="4683240"/>
            <a:ext cx="2897280" cy="357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36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CF37E-E06D-422B-93BC-4A3592BC1CEA}" type="slidenum">
              <a:rPr b="0" lang="zh-CN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93760" indent="-2937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4320" indent="-24336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79200" indent="-1972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370520" indent="-19728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76292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76292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76292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B4814-275D-4C51-A32E-0F09F55849ED}" type="datetime">
              <a:rPr b="0" lang="zh-CN" sz="11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4683240"/>
            <a:ext cx="2897280" cy="357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9989B-2748-4E29-91EA-D49685D5BBD5}" type="slidenum">
              <a:rPr b="0" lang="zh-CN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93760" indent="-2937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4320" indent="-24336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79200" indent="-1972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370520" indent="-19728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76292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76292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76292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730C4-3763-474F-9919-7346B72FB90D}" type="datetime">
              <a:rPr b="0" lang="zh-CN" sz="11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4683240"/>
            <a:ext cx="2897280" cy="357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100A8-6892-4C4A-84DA-4B275B656180}" type="slidenum">
              <a:rPr b="0" lang="zh-CN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93760" indent="-2937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4320" indent="-24336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79200" indent="-1972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370520" indent="-19728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76292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76292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76292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4B476-AF3A-48C9-BEAD-E49011137D86}" type="datetime">
              <a:rPr b="0" lang="zh-CN" sz="11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124080" y="4683240"/>
            <a:ext cx="2897280" cy="357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1CA02-73B4-4409-852F-77A41E451FF2}" type="slidenum">
              <a:rPr b="0" lang="zh-CN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93760" indent="-2937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4320" indent="-24336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79200" indent="-1972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370520" indent="-19728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76292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76292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76292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3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35EFE-D60F-496D-AA6F-A2953211C911}" type="datetime">
              <a:rPr b="0" lang="zh-CN" sz="11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4"/>
          </p:nvPr>
        </p:nvSpPr>
        <p:spPr>
          <a:xfrm>
            <a:off x="3124080" y="4683240"/>
            <a:ext cx="2897280" cy="357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5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1703D-6583-45A9-A30A-20568F412939}" type="slidenum">
              <a:rPr b="0" lang="zh-CN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93760" indent="-2937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4320" indent="-24336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79200" indent="-1972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370520" indent="-19728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76292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76292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76292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6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C52BE-01F7-4594-9710-3FCD08E6ACFA}" type="datetime">
              <a:rPr b="0" lang="zh-CN" sz="11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7"/>
          </p:nvPr>
        </p:nvSpPr>
        <p:spPr>
          <a:xfrm>
            <a:off x="3124080" y="4683240"/>
            <a:ext cx="2897280" cy="357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8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4B9E0-A68D-47D5-A102-AE60F5D6BAA3}" type="slidenum">
              <a:rPr b="0" lang="zh-CN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93760" indent="-2937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4320" indent="-24336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79200" indent="-1972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370520" indent="-19728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76292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76292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76292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5475C-8E19-440D-9AC9-69F0E0462E0B}" type="datetime">
              <a:rPr b="0" lang="zh-CN" sz="11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3124080" y="4683240"/>
            <a:ext cx="2897280" cy="357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BE84E-7CF3-4170-BB1C-74E6AD6D9EB3}" type="slidenum">
              <a:rPr b="0" lang="zh-CN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93760" indent="-2937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4320" indent="-24336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79200" indent="-1972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370520" indent="-19728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76292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76292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76292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22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B3427-ABE0-4776-814D-0F70262B9DAF}" type="datetime">
              <a:rPr b="0" lang="zh-CN" sz="11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3"/>
          </p:nvPr>
        </p:nvSpPr>
        <p:spPr>
          <a:xfrm>
            <a:off x="3124080" y="4683240"/>
            <a:ext cx="2897280" cy="357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4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D93C5-D211-4771-8A55-E16370686C8A}" type="slidenum">
              <a:rPr b="0" lang="zh-CN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93760" indent="-2937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4320" indent="-24336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79200" indent="-1972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370520" indent="-19728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76292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76292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76292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5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066AF-E8D6-43EA-96D6-DE4A730D87C2}" type="datetime">
              <a:rPr b="0" lang="zh-CN" sz="11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6"/>
          </p:nvPr>
        </p:nvSpPr>
        <p:spPr>
          <a:xfrm>
            <a:off x="3124080" y="4683240"/>
            <a:ext cx="2897280" cy="357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7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3BEB5-0EF2-4F80-A21A-DF003F123108}" type="slidenum">
              <a:rPr b="0" lang="zh-CN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矩形 23"/>
          <p:cNvSpPr/>
          <p:nvPr/>
        </p:nvSpPr>
        <p:spPr>
          <a:xfrm>
            <a:off x="468360" y="4659480"/>
            <a:ext cx="10792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0" name="组合 3"/>
          <p:cNvGrpSpPr/>
          <p:nvPr/>
        </p:nvGrpSpPr>
        <p:grpSpPr>
          <a:xfrm>
            <a:off x="-28440" y="0"/>
            <a:ext cx="9196920" cy="5153040"/>
            <a:chOff x="-28440" y="0"/>
            <a:chExt cx="9196920" cy="5153040"/>
          </a:xfrm>
        </p:grpSpPr>
        <p:pic>
          <p:nvPicPr>
            <p:cNvPr id="501" name="Picture 9" descr="C:\Documents and Settings\Administrator\桌面\素材CNN sccnn.com 388XXC2.jpg"/>
            <p:cNvPicPr/>
            <p:nvPr/>
          </p:nvPicPr>
          <p:blipFill>
            <a:blip r:embed="rId1"/>
            <a:srcRect l="1214" t="10841" r="0" b="5044"/>
            <a:stretch/>
          </p:blipFill>
          <p:spPr>
            <a:xfrm>
              <a:off x="-28440" y="0"/>
              <a:ext cx="9172440" cy="5146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02" name="矩形 5"/>
            <p:cNvGrpSpPr/>
            <p:nvPr/>
          </p:nvGrpSpPr>
          <p:grpSpPr>
            <a:xfrm>
              <a:off x="-11880" y="0"/>
              <a:ext cx="9180360" cy="5153040"/>
              <a:chOff x="-11880" y="0"/>
              <a:chExt cx="9180360" cy="5153040"/>
            </a:xfrm>
          </p:grpSpPr>
          <p:pic>
            <p:nvPicPr>
              <p:cNvPr id="503" name="矩形 5" descr=""/>
              <p:cNvPicPr/>
              <p:nvPr/>
            </p:nvPicPr>
            <p:blipFill>
              <a:blip r:embed="rId2"/>
              <a:stretch/>
            </p:blipFill>
            <p:spPr>
              <a:xfrm>
                <a:off x="-11160" y="0"/>
                <a:ext cx="9179640" cy="515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4" name=""/>
              <p:cNvSpPr/>
              <p:nvPr/>
            </p:nvSpPr>
            <p:spPr>
              <a:xfrm>
                <a:off x="-11880" y="0"/>
                <a:ext cx="9179640" cy="515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05" name="组合 6"/>
          <p:cNvGrpSpPr/>
          <p:nvPr/>
        </p:nvGrpSpPr>
        <p:grpSpPr>
          <a:xfrm>
            <a:off x="-28440" y="830160"/>
            <a:ext cx="9171000" cy="420840"/>
            <a:chOff x="-28440" y="830160"/>
            <a:chExt cx="9171000" cy="420840"/>
          </a:xfrm>
        </p:grpSpPr>
        <p:sp>
          <p:nvSpPr>
            <p:cNvPr id="506" name="直接连接符 7"/>
            <p:cNvSpPr/>
            <p:nvPr/>
          </p:nvSpPr>
          <p:spPr>
            <a:xfrm>
              <a:off x="-18720" y="830160"/>
              <a:ext cx="9144360" cy="0"/>
            </a:xfrm>
            <a:prstGeom prst="line">
              <a:avLst/>
            </a:prstGeom>
            <a:ln w="3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矩形 8"/>
            <p:cNvSpPr/>
            <p:nvPr/>
          </p:nvSpPr>
          <p:spPr>
            <a:xfrm>
              <a:off x="-28440" y="858600"/>
              <a:ext cx="9171000" cy="39240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08" name="Picture 12" descr=""/>
          <p:cNvPicPr/>
          <p:nvPr/>
        </p:nvPicPr>
        <p:blipFill>
          <a:blip r:embed="rId3"/>
          <a:stretch/>
        </p:blipFill>
        <p:spPr>
          <a:xfrm>
            <a:off x="-268200" y="76320"/>
            <a:ext cx="7353360" cy="5303880"/>
          </a:xfrm>
          <a:prstGeom prst="rect">
            <a:avLst/>
          </a:prstGeom>
          <a:ln w="0">
            <a:noFill/>
          </a:ln>
        </p:spPr>
      </p:pic>
      <p:grpSp>
        <p:nvGrpSpPr>
          <p:cNvPr id="509" name="组合 11"/>
          <p:cNvGrpSpPr/>
          <p:nvPr/>
        </p:nvGrpSpPr>
        <p:grpSpPr>
          <a:xfrm>
            <a:off x="5315040" y="2373480"/>
            <a:ext cx="3786120" cy="3006720"/>
            <a:chOff x="5315040" y="2373480"/>
            <a:chExt cx="3786120" cy="3006720"/>
          </a:xfrm>
        </p:grpSpPr>
        <p:pic>
          <p:nvPicPr>
            <p:cNvPr id="510" name="Picture 11" descr=""/>
            <p:cNvPicPr/>
            <p:nvPr/>
          </p:nvPicPr>
          <p:blipFill>
            <a:blip r:embed="rId4"/>
            <a:stretch/>
          </p:blipFill>
          <p:spPr>
            <a:xfrm>
              <a:off x="5315040" y="2373480"/>
              <a:ext cx="3786120" cy="300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1" name="TextBox 8"/>
            <p:cNvSpPr/>
            <p:nvPr/>
          </p:nvSpPr>
          <p:spPr>
            <a:xfrm rot="21440400">
              <a:off x="6572520" y="4164120"/>
              <a:ext cx="1554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适用于年终总结 </a:t>
              </a:r>
              <a:r>
                <a:rPr b="0" lang="en-US" sz="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/ </a:t>
              </a:r>
              <a:r>
                <a:rPr b="0" lang="zh-CN" sz="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汇报 </a:t>
              </a:r>
              <a:r>
                <a:rPr b="0" lang="en-US" sz="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/ </a:t>
              </a:r>
              <a:r>
                <a:rPr b="0" lang="zh-CN" sz="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提案及相关类别演示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直接连接符 14"/>
            <p:cNvSpPr/>
            <p:nvPr/>
          </p:nvSpPr>
          <p:spPr>
            <a:xfrm flipV="1">
              <a:off x="6172200" y="4115160"/>
              <a:ext cx="2343240" cy="95040"/>
            </a:xfrm>
            <a:prstGeom prst="line">
              <a:avLst/>
            </a:prstGeom>
            <a:ln w="324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3" name="矩形 17"/>
          <p:cNvSpPr/>
          <p:nvPr/>
        </p:nvSpPr>
        <p:spPr>
          <a:xfrm>
            <a:off x="8775720" y="4976640"/>
            <a:ext cx="169920" cy="511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4" name="组合 18"/>
          <p:cNvGrpSpPr/>
          <p:nvPr/>
        </p:nvGrpSpPr>
        <p:grpSpPr>
          <a:xfrm>
            <a:off x="291960" y="208080"/>
            <a:ext cx="3616560" cy="1199880"/>
            <a:chOff x="291960" y="208080"/>
            <a:chExt cx="3616560" cy="1199880"/>
          </a:xfrm>
        </p:grpSpPr>
        <p:pic>
          <p:nvPicPr>
            <p:cNvPr id="515" name="TextBox 242" descr=""/>
            <p:cNvPicPr/>
            <p:nvPr/>
          </p:nvPicPr>
          <p:blipFill>
            <a:blip r:embed="rId5"/>
            <a:stretch/>
          </p:blipFill>
          <p:spPr>
            <a:xfrm>
              <a:off x="1097280" y="412920"/>
              <a:ext cx="2811240" cy="53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6" name="矩形 21" descr=""/>
            <p:cNvPicPr/>
            <p:nvPr/>
          </p:nvPicPr>
          <p:blipFill>
            <a:blip r:embed="rId6"/>
            <a:stretch/>
          </p:blipFill>
          <p:spPr>
            <a:xfrm>
              <a:off x="291960" y="208080"/>
              <a:ext cx="1475640" cy="119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7" name="矩形 11"/>
          <p:cNvSpPr/>
          <p:nvPr/>
        </p:nvSpPr>
        <p:spPr>
          <a:xfrm rot="21431400">
            <a:off x="6251760" y="3006720"/>
            <a:ext cx="210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 Black"/>
                <a:ea typeface="微软雅黑"/>
              </a:rPr>
              <a:t>201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3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3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6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6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3" presetSubtype="3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6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TextBox 1"/>
          <p:cNvSpPr/>
          <p:nvPr/>
        </p:nvSpPr>
        <p:spPr>
          <a:xfrm>
            <a:off x="998640" y="227160"/>
            <a:ext cx="14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 录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9" name="组合 2"/>
          <p:cNvGrpSpPr/>
          <p:nvPr/>
        </p:nvGrpSpPr>
        <p:grpSpPr>
          <a:xfrm>
            <a:off x="958680" y="1157400"/>
            <a:ext cx="2894400" cy="1569960"/>
            <a:chOff x="958680" y="1157400"/>
            <a:chExt cx="2894400" cy="1569960"/>
          </a:xfrm>
        </p:grpSpPr>
        <p:grpSp>
          <p:nvGrpSpPr>
            <p:cNvPr id="520" name="组合 39"/>
            <p:cNvGrpSpPr/>
            <p:nvPr/>
          </p:nvGrpSpPr>
          <p:grpSpPr>
            <a:xfrm>
              <a:off x="1521720" y="1481040"/>
              <a:ext cx="2331360" cy="884520"/>
              <a:chOff x="1521720" y="1481040"/>
              <a:chExt cx="2331360" cy="884520"/>
            </a:xfrm>
          </p:grpSpPr>
          <p:sp>
            <p:nvSpPr>
              <p:cNvPr id="521" name="矩形 5"/>
              <p:cNvSpPr/>
              <p:nvPr/>
            </p:nvSpPr>
            <p:spPr>
              <a:xfrm>
                <a:off x="1521720" y="1563480"/>
                <a:ext cx="830160" cy="565560"/>
              </a:xfrm>
              <a:prstGeom prst="rect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矩形 6"/>
              <p:cNvSpPr/>
              <p:nvPr/>
            </p:nvSpPr>
            <p:spPr>
              <a:xfrm>
                <a:off x="2389320" y="1481040"/>
                <a:ext cx="12294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8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目  录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TextBox 5"/>
              <p:cNvSpPr/>
              <p:nvPr/>
            </p:nvSpPr>
            <p:spPr>
              <a:xfrm>
                <a:off x="2157480" y="1890720"/>
                <a:ext cx="169560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500" spc="-1" strike="noStrike">
                    <a:solidFill>
                      <a:srgbClr val="c00000"/>
                    </a:solidFill>
                    <a:latin typeface="Arial"/>
                    <a:ea typeface="Arial"/>
                  </a:rPr>
                  <a:t>ONTENTS</a:t>
                </a:r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524" name="矩形 4" descr=""/>
            <p:cNvPicPr/>
            <p:nvPr/>
          </p:nvPicPr>
          <p:blipFill>
            <a:blip r:embed="rId1"/>
            <a:stretch/>
          </p:blipFill>
          <p:spPr>
            <a:xfrm>
              <a:off x="958680" y="1157400"/>
              <a:ext cx="1905480" cy="1569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5" name="组合 8"/>
          <p:cNvGrpSpPr/>
          <p:nvPr/>
        </p:nvGrpSpPr>
        <p:grpSpPr>
          <a:xfrm>
            <a:off x="4124160" y="1479600"/>
            <a:ext cx="4073760" cy="551160"/>
            <a:chOff x="4124160" y="1479600"/>
            <a:chExt cx="4073760" cy="551160"/>
          </a:xfrm>
        </p:grpSpPr>
        <p:sp>
          <p:nvSpPr>
            <p:cNvPr id="526" name="矩形 9"/>
            <p:cNvSpPr/>
            <p:nvPr/>
          </p:nvSpPr>
          <p:spPr>
            <a:xfrm>
              <a:off x="4124160" y="1522440"/>
              <a:ext cx="4073760" cy="45108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27" name="椭圆 10"/>
            <p:cNvGrpSpPr/>
            <p:nvPr/>
          </p:nvGrpSpPr>
          <p:grpSpPr>
            <a:xfrm>
              <a:off x="4248720" y="1566720"/>
              <a:ext cx="378000" cy="378000"/>
              <a:chOff x="4248720" y="1566720"/>
              <a:chExt cx="378000" cy="378000"/>
            </a:xfrm>
          </p:grpSpPr>
          <p:pic>
            <p:nvPicPr>
              <p:cNvPr id="528" name="椭圆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4248720" y="1566720"/>
                <a:ext cx="378000" cy="37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9" name=""/>
              <p:cNvSpPr/>
              <p:nvPr/>
            </p:nvSpPr>
            <p:spPr>
              <a:xfrm>
                <a:off x="4303800" y="1620720"/>
                <a:ext cx="268560" cy="26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30" name="矩形 11"/>
            <p:cNvSpPr/>
            <p:nvPr/>
          </p:nvSpPr>
          <p:spPr>
            <a:xfrm>
              <a:off x="4159080" y="1479600"/>
              <a:ext cx="6015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" name="TextBox 12"/>
            <p:cNvSpPr/>
            <p:nvPr/>
          </p:nvSpPr>
          <p:spPr>
            <a:xfrm>
              <a:off x="5658840" y="156528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2" name="组合 13"/>
          <p:cNvGrpSpPr/>
          <p:nvPr/>
        </p:nvGrpSpPr>
        <p:grpSpPr>
          <a:xfrm>
            <a:off x="4124160" y="2060640"/>
            <a:ext cx="4073760" cy="551160"/>
            <a:chOff x="4124160" y="2060640"/>
            <a:chExt cx="4073760" cy="551160"/>
          </a:xfrm>
        </p:grpSpPr>
        <p:sp>
          <p:nvSpPr>
            <p:cNvPr id="533" name="矩形 14"/>
            <p:cNvSpPr/>
            <p:nvPr/>
          </p:nvSpPr>
          <p:spPr>
            <a:xfrm>
              <a:off x="4124160" y="2103480"/>
              <a:ext cx="4073760" cy="45108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34" name="椭圆 15"/>
            <p:cNvGrpSpPr/>
            <p:nvPr/>
          </p:nvGrpSpPr>
          <p:grpSpPr>
            <a:xfrm>
              <a:off x="4248720" y="2145600"/>
              <a:ext cx="378000" cy="378000"/>
              <a:chOff x="4248720" y="2145600"/>
              <a:chExt cx="378000" cy="378000"/>
            </a:xfrm>
          </p:grpSpPr>
          <p:pic>
            <p:nvPicPr>
              <p:cNvPr id="535" name="椭圆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4248720" y="2145600"/>
                <a:ext cx="378000" cy="37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6" name=""/>
              <p:cNvSpPr/>
              <p:nvPr/>
            </p:nvSpPr>
            <p:spPr>
              <a:xfrm>
                <a:off x="4303800" y="2201400"/>
                <a:ext cx="268560" cy="26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37" name="矩形 16"/>
            <p:cNvSpPr/>
            <p:nvPr/>
          </p:nvSpPr>
          <p:spPr>
            <a:xfrm>
              <a:off x="4159080" y="2060640"/>
              <a:ext cx="6015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8" name="TextBox 17"/>
            <p:cNvSpPr/>
            <p:nvPr/>
          </p:nvSpPr>
          <p:spPr>
            <a:xfrm>
              <a:off x="5658840" y="213192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9" name="组合 18"/>
          <p:cNvGrpSpPr/>
          <p:nvPr/>
        </p:nvGrpSpPr>
        <p:grpSpPr>
          <a:xfrm>
            <a:off x="4124160" y="2627280"/>
            <a:ext cx="4073760" cy="551160"/>
            <a:chOff x="4124160" y="2627280"/>
            <a:chExt cx="4073760" cy="551160"/>
          </a:xfrm>
        </p:grpSpPr>
        <p:sp>
          <p:nvSpPr>
            <p:cNvPr id="540" name="矩形 19"/>
            <p:cNvSpPr/>
            <p:nvPr/>
          </p:nvSpPr>
          <p:spPr>
            <a:xfrm>
              <a:off x="4124160" y="2670120"/>
              <a:ext cx="4073760" cy="44964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1" name="椭圆 20"/>
            <p:cNvGrpSpPr/>
            <p:nvPr/>
          </p:nvGrpSpPr>
          <p:grpSpPr>
            <a:xfrm>
              <a:off x="4248720" y="2712600"/>
              <a:ext cx="378000" cy="378000"/>
              <a:chOff x="4248720" y="2712600"/>
              <a:chExt cx="378000" cy="378000"/>
            </a:xfrm>
          </p:grpSpPr>
          <p:pic>
            <p:nvPicPr>
              <p:cNvPr id="542" name="椭圆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4248720" y="2712600"/>
                <a:ext cx="378000" cy="37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3" name=""/>
              <p:cNvSpPr/>
              <p:nvPr/>
            </p:nvSpPr>
            <p:spPr>
              <a:xfrm>
                <a:off x="4303800" y="2767680"/>
                <a:ext cx="268560" cy="26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44" name="矩形 21"/>
            <p:cNvSpPr/>
            <p:nvPr/>
          </p:nvSpPr>
          <p:spPr>
            <a:xfrm>
              <a:off x="4159080" y="2627280"/>
              <a:ext cx="6015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" name="TextBox 22"/>
            <p:cNvSpPr/>
            <p:nvPr/>
          </p:nvSpPr>
          <p:spPr>
            <a:xfrm>
              <a:off x="5658840" y="271296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6" name="组合 23"/>
          <p:cNvGrpSpPr/>
          <p:nvPr/>
        </p:nvGrpSpPr>
        <p:grpSpPr>
          <a:xfrm>
            <a:off x="3835440" y="1511280"/>
            <a:ext cx="63360" cy="3632400"/>
            <a:chOff x="3835440" y="1511280"/>
            <a:chExt cx="63360" cy="3632400"/>
          </a:xfrm>
        </p:grpSpPr>
        <p:sp>
          <p:nvSpPr>
            <p:cNvPr id="547" name="直接连接符 24"/>
            <p:cNvSpPr/>
            <p:nvPr/>
          </p:nvSpPr>
          <p:spPr>
            <a:xfrm>
              <a:off x="3835440" y="1511280"/>
              <a:ext cx="0" cy="363240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8" name="直接连接符 25"/>
            <p:cNvSpPr/>
            <p:nvPr/>
          </p:nvSpPr>
          <p:spPr>
            <a:xfrm>
              <a:off x="3898800" y="1511280"/>
              <a:ext cx="0" cy="3619800"/>
            </a:xfrm>
            <a:prstGeom prst="line">
              <a:avLst/>
            </a:prstGeom>
            <a:ln w="324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9" name="组合 26"/>
          <p:cNvGrpSpPr/>
          <p:nvPr/>
        </p:nvGrpSpPr>
        <p:grpSpPr>
          <a:xfrm>
            <a:off x="3835440" y="1511280"/>
            <a:ext cx="63360" cy="1608120"/>
            <a:chOff x="3835440" y="1511280"/>
            <a:chExt cx="63360" cy="1608120"/>
          </a:xfrm>
        </p:grpSpPr>
        <p:sp>
          <p:nvSpPr>
            <p:cNvPr id="550" name="直接连接符 27"/>
            <p:cNvSpPr/>
            <p:nvPr/>
          </p:nvSpPr>
          <p:spPr>
            <a:xfrm>
              <a:off x="3835440" y="1511280"/>
              <a:ext cx="0" cy="160812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" name="直接连接符 28"/>
            <p:cNvSpPr/>
            <p:nvPr/>
          </p:nvSpPr>
          <p:spPr>
            <a:xfrm>
              <a:off x="3898800" y="1511280"/>
              <a:ext cx="0" cy="1602000"/>
            </a:xfrm>
            <a:prstGeom prst="line">
              <a:avLst/>
            </a:prstGeom>
            <a:ln w="324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2" name="组合 16"/>
          <p:cNvGrpSpPr/>
          <p:nvPr/>
        </p:nvGrpSpPr>
        <p:grpSpPr>
          <a:xfrm>
            <a:off x="0" y="0"/>
            <a:ext cx="1011240" cy="803160"/>
            <a:chOff x="0" y="0"/>
            <a:chExt cx="1011240" cy="803160"/>
          </a:xfrm>
        </p:grpSpPr>
        <p:pic>
          <p:nvPicPr>
            <p:cNvPr id="553" name="图片 11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1011240" cy="80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4" name="矩形 11"/>
            <p:cNvSpPr/>
            <p:nvPr/>
          </p:nvSpPr>
          <p:spPr>
            <a:xfrm rot="21431400">
              <a:off x="229680" y="169560"/>
              <a:ext cx="644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 Black"/>
                  <a:ea typeface="微软雅黑"/>
                </a:rPr>
                <a:t>2015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4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4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4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4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22" presetSubtype="4">
                                  <p:stCondLst>
                                    <p:cond delay="8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7" dur="2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54" dur="3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3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3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2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3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3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2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3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3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Box 1"/>
          <p:cNvSpPr/>
          <p:nvPr/>
        </p:nvSpPr>
        <p:spPr>
          <a:xfrm>
            <a:off x="998640" y="227160"/>
            <a:ext cx="14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过渡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6" name="组合 25"/>
          <p:cNvGrpSpPr/>
          <p:nvPr/>
        </p:nvGrpSpPr>
        <p:grpSpPr>
          <a:xfrm>
            <a:off x="958680" y="1157400"/>
            <a:ext cx="2894400" cy="1569960"/>
            <a:chOff x="958680" y="1157400"/>
            <a:chExt cx="2894400" cy="1569960"/>
          </a:xfrm>
        </p:grpSpPr>
        <p:grpSp>
          <p:nvGrpSpPr>
            <p:cNvPr id="557" name="组合 2"/>
            <p:cNvGrpSpPr/>
            <p:nvPr/>
          </p:nvGrpSpPr>
          <p:grpSpPr>
            <a:xfrm>
              <a:off x="1521720" y="1481040"/>
              <a:ext cx="2331360" cy="884520"/>
              <a:chOff x="1521720" y="1481040"/>
              <a:chExt cx="2331360" cy="884520"/>
            </a:xfrm>
          </p:grpSpPr>
          <p:sp>
            <p:nvSpPr>
              <p:cNvPr id="558" name="矩形 5"/>
              <p:cNvSpPr/>
              <p:nvPr/>
            </p:nvSpPr>
            <p:spPr>
              <a:xfrm>
                <a:off x="1521720" y="1563480"/>
                <a:ext cx="830160" cy="565560"/>
              </a:xfrm>
              <a:prstGeom prst="rect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9" name="矩形 6"/>
              <p:cNvSpPr/>
              <p:nvPr/>
            </p:nvSpPr>
            <p:spPr>
              <a:xfrm>
                <a:off x="2389320" y="1481040"/>
                <a:ext cx="12294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8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目  录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0" name="TextBox 5"/>
              <p:cNvSpPr/>
              <p:nvPr/>
            </p:nvSpPr>
            <p:spPr>
              <a:xfrm>
                <a:off x="2157480" y="1890720"/>
                <a:ext cx="169560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500" spc="-1" strike="noStrike">
                    <a:solidFill>
                      <a:srgbClr val="c00000"/>
                    </a:solidFill>
                    <a:latin typeface="Arial"/>
                    <a:ea typeface="Arial"/>
                  </a:rPr>
                  <a:t>ONTENTS</a:t>
                </a:r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561" name="矩形 4" descr=""/>
            <p:cNvPicPr/>
            <p:nvPr/>
          </p:nvPicPr>
          <p:blipFill>
            <a:blip r:embed="rId1"/>
            <a:stretch/>
          </p:blipFill>
          <p:spPr>
            <a:xfrm>
              <a:off x="958680" y="1157400"/>
              <a:ext cx="1905480" cy="1569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2" name="组合 7"/>
          <p:cNvGrpSpPr/>
          <p:nvPr/>
        </p:nvGrpSpPr>
        <p:grpSpPr>
          <a:xfrm>
            <a:off x="3835440" y="1511280"/>
            <a:ext cx="63360" cy="1608120"/>
            <a:chOff x="3835440" y="1511280"/>
            <a:chExt cx="63360" cy="1608120"/>
          </a:xfrm>
        </p:grpSpPr>
        <p:sp>
          <p:nvSpPr>
            <p:cNvPr id="563" name="直接连接符 9"/>
            <p:cNvSpPr/>
            <p:nvPr/>
          </p:nvSpPr>
          <p:spPr>
            <a:xfrm>
              <a:off x="3835440" y="1511280"/>
              <a:ext cx="0" cy="160812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" name="直接连接符 10"/>
            <p:cNvSpPr/>
            <p:nvPr/>
          </p:nvSpPr>
          <p:spPr>
            <a:xfrm>
              <a:off x="3898800" y="1511280"/>
              <a:ext cx="0" cy="1602000"/>
            </a:xfrm>
            <a:prstGeom prst="line">
              <a:avLst/>
            </a:prstGeom>
            <a:ln w="324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5" name="组合 10"/>
          <p:cNvGrpSpPr/>
          <p:nvPr/>
        </p:nvGrpSpPr>
        <p:grpSpPr>
          <a:xfrm>
            <a:off x="4124160" y="1479600"/>
            <a:ext cx="4073760" cy="551160"/>
            <a:chOff x="4124160" y="1479600"/>
            <a:chExt cx="4073760" cy="551160"/>
          </a:xfrm>
        </p:grpSpPr>
        <p:sp>
          <p:nvSpPr>
            <p:cNvPr id="566" name="矩形 12"/>
            <p:cNvSpPr/>
            <p:nvPr/>
          </p:nvSpPr>
          <p:spPr>
            <a:xfrm>
              <a:off x="4124160" y="1522440"/>
              <a:ext cx="4073760" cy="45108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67" name="椭圆 13"/>
            <p:cNvGrpSpPr/>
            <p:nvPr/>
          </p:nvGrpSpPr>
          <p:grpSpPr>
            <a:xfrm>
              <a:off x="4248720" y="1566720"/>
              <a:ext cx="378000" cy="378000"/>
              <a:chOff x="4248720" y="1566720"/>
              <a:chExt cx="378000" cy="378000"/>
            </a:xfrm>
          </p:grpSpPr>
          <p:pic>
            <p:nvPicPr>
              <p:cNvPr id="568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4248720" y="1566720"/>
                <a:ext cx="378000" cy="37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9" name=""/>
              <p:cNvSpPr/>
              <p:nvPr/>
            </p:nvSpPr>
            <p:spPr>
              <a:xfrm>
                <a:off x="4303800" y="1620720"/>
                <a:ext cx="268560" cy="26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70" name="矩形 14"/>
            <p:cNvSpPr/>
            <p:nvPr/>
          </p:nvSpPr>
          <p:spPr>
            <a:xfrm>
              <a:off x="4159080" y="1479600"/>
              <a:ext cx="6015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" name="TextBox 15"/>
            <p:cNvSpPr/>
            <p:nvPr/>
          </p:nvSpPr>
          <p:spPr>
            <a:xfrm>
              <a:off x="5658840" y="156528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2" name="组合 15"/>
          <p:cNvGrpSpPr/>
          <p:nvPr/>
        </p:nvGrpSpPr>
        <p:grpSpPr>
          <a:xfrm>
            <a:off x="4124160" y="2060640"/>
            <a:ext cx="4073760" cy="551160"/>
            <a:chOff x="4124160" y="2060640"/>
            <a:chExt cx="4073760" cy="551160"/>
          </a:xfrm>
        </p:grpSpPr>
        <p:sp>
          <p:nvSpPr>
            <p:cNvPr id="573" name="矩形 17"/>
            <p:cNvSpPr/>
            <p:nvPr/>
          </p:nvSpPr>
          <p:spPr>
            <a:xfrm>
              <a:off x="4124160" y="2103480"/>
              <a:ext cx="4073760" cy="4510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4" name="椭圆 18"/>
            <p:cNvGrpSpPr/>
            <p:nvPr/>
          </p:nvGrpSpPr>
          <p:grpSpPr>
            <a:xfrm>
              <a:off x="4248720" y="2145600"/>
              <a:ext cx="378000" cy="378000"/>
              <a:chOff x="4248720" y="2145600"/>
              <a:chExt cx="378000" cy="378000"/>
            </a:xfrm>
          </p:grpSpPr>
          <p:pic>
            <p:nvPicPr>
              <p:cNvPr id="575" name="椭圆 18" descr=""/>
              <p:cNvPicPr/>
              <p:nvPr/>
            </p:nvPicPr>
            <p:blipFill>
              <a:blip r:embed="rId3"/>
              <a:stretch/>
            </p:blipFill>
            <p:spPr>
              <a:xfrm>
                <a:off x="4248720" y="2145600"/>
                <a:ext cx="378000" cy="37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6" name=""/>
              <p:cNvSpPr/>
              <p:nvPr/>
            </p:nvSpPr>
            <p:spPr>
              <a:xfrm>
                <a:off x="4303800" y="2201400"/>
                <a:ext cx="268560" cy="26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77" name="矩形 19"/>
            <p:cNvSpPr/>
            <p:nvPr/>
          </p:nvSpPr>
          <p:spPr>
            <a:xfrm>
              <a:off x="4159080" y="2060640"/>
              <a:ext cx="6015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8" name="TextBox 20"/>
            <p:cNvSpPr/>
            <p:nvPr/>
          </p:nvSpPr>
          <p:spPr>
            <a:xfrm>
              <a:off x="5658840" y="213192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9" name="组合 20"/>
          <p:cNvGrpSpPr/>
          <p:nvPr/>
        </p:nvGrpSpPr>
        <p:grpSpPr>
          <a:xfrm>
            <a:off x="4124160" y="2627280"/>
            <a:ext cx="4073760" cy="551160"/>
            <a:chOff x="4124160" y="2627280"/>
            <a:chExt cx="4073760" cy="551160"/>
          </a:xfrm>
        </p:grpSpPr>
        <p:sp>
          <p:nvSpPr>
            <p:cNvPr id="580" name="矩形 22"/>
            <p:cNvSpPr/>
            <p:nvPr/>
          </p:nvSpPr>
          <p:spPr>
            <a:xfrm>
              <a:off x="4124160" y="2670120"/>
              <a:ext cx="4073760" cy="4496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81" name="椭圆 23"/>
            <p:cNvGrpSpPr/>
            <p:nvPr/>
          </p:nvGrpSpPr>
          <p:grpSpPr>
            <a:xfrm>
              <a:off x="4248720" y="2712600"/>
              <a:ext cx="378000" cy="378000"/>
              <a:chOff x="4248720" y="2712600"/>
              <a:chExt cx="378000" cy="378000"/>
            </a:xfrm>
          </p:grpSpPr>
          <p:pic>
            <p:nvPicPr>
              <p:cNvPr id="582" name="椭圆 23" descr=""/>
              <p:cNvPicPr/>
              <p:nvPr/>
            </p:nvPicPr>
            <p:blipFill>
              <a:blip r:embed="rId4"/>
              <a:stretch/>
            </p:blipFill>
            <p:spPr>
              <a:xfrm>
                <a:off x="4248720" y="2712600"/>
                <a:ext cx="378000" cy="37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3" name=""/>
              <p:cNvSpPr/>
              <p:nvPr/>
            </p:nvSpPr>
            <p:spPr>
              <a:xfrm>
                <a:off x="4303800" y="2767680"/>
                <a:ext cx="268560" cy="26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84" name="矩形 24"/>
            <p:cNvSpPr/>
            <p:nvPr/>
          </p:nvSpPr>
          <p:spPr>
            <a:xfrm>
              <a:off x="4159080" y="2627280"/>
              <a:ext cx="6015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TextBox 25"/>
            <p:cNvSpPr/>
            <p:nvPr/>
          </p:nvSpPr>
          <p:spPr>
            <a:xfrm>
              <a:off x="5658840" y="271296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6" name="组合 26"/>
          <p:cNvGrpSpPr/>
          <p:nvPr/>
        </p:nvGrpSpPr>
        <p:grpSpPr>
          <a:xfrm>
            <a:off x="0" y="0"/>
            <a:ext cx="1011240" cy="803160"/>
            <a:chOff x="0" y="0"/>
            <a:chExt cx="1011240" cy="803160"/>
          </a:xfrm>
        </p:grpSpPr>
        <p:pic>
          <p:nvPicPr>
            <p:cNvPr id="587" name="图片 27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1011240" cy="80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8" name="矩形 11"/>
            <p:cNvSpPr/>
            <p:nvPr/>
          </p:nvSpPr>
          <p:spPr>
            <a:xfrm rot="21431400">
              <a:off x="229680" y="169560"/>
              <a:ext cx="644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 Black"/>
                  <a:ea typeface="微软雅黑"/>
                </a:rPr>
                <a:t>2015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组合 5"/>
          <p:cNvGrpSpPr/>
          <p:nvPr/>
        </p:nvGrpSpPr>
        <p:grpSpPr>
          <a:xfrm>
            <a:off x="3061080" y="1060560"/>
            <a:ext cx="3030120" cy="1726200"/>
            <a:chOff x="3061080" y="1060560"/>
            <a:chExt cx="3030120" cy="1726200"/>
          </a:xfrm>
        </p:grpSpPr>
        <p:grpSp>
          <p:nvGrpSpPr>
            <p:cNvPr id="590" name="组合 21"/>
            <p:cNvGrpSpPr/>
            <p:nvPr/>
          </p:nvGrpSpPr>
          <p:grpSpPr>
            <a:xfrm>
              <a:off x="3061080" y="1060560"/>
              <a:ext cx="1725480" cy="1726200"/>
              <a:chOff x="3061080" y="1060560"/>
              <a:chExt cx="1725480" cy="1726200"/>
            </a:xfrm>
          </p:grpSpPr>
          <p:grpSp>
            <p:nvGrpSpPr>
              <p:cNvPr id="591" name="组合 5"/>
              <p:cNvGrpSpPr/>
              <p:nvPr/>
            </p:nvGrpSpPr>
            <p:grpSpPr>
              <a:xfrm>
                <a:off x="3061080" y="1060560"/>
                <a:ext cx="1725480" cy="1726200"/>
                <a:chOff x="3061080" y="1060560"/>
                <a:chExt cx="1725480" cy="1726200"/>
              </a:xfrm>
            </p:grpSpPr>
            <p:sp>
              <p:nvSpPr>
                <p:cNvPr id="592" name="椭圆 4"/>
                <p:cNvSpPr/>
                <p:nvPr/>
              </p:nvSpPr>
              <p:spPr>
                <a:xfrm>
                  <a:off x="3378240" y="1380960"/>
                  <a:ext cx="1091160" cy="1094040"/>
                </a:xfrm>
                <a:prstGeom prst="ellipse">
                  <a:avLst/>
                </a:prstGeom>
                <a:solidFill>
                  <a:srgbClr val="404040"/>
                </a:solidFill>
                <a:ln w="190440">
                  <a:solidFill>
                    <a:srgbClr val="404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93" name="空心弧 3"/>
                <p:cNvSpPr/>
                <p:nvPr/>
              </p:nvSpPr>
              <p:spPr>
                <a:xfrm rot="14672400">
                  <a:off x="3275640" y="1276560"/>
                  <a:ext cx="1295640" cy="1294200"/>
                </a:xfrm>
                <a:custGeom>
                  <a:avLst/>
                  <a:gdLst/>
                  <a:ahLst/>
                  <a:rect l="l" t="t" r="r" b="b"/>
                  <a:pathLst>
                    <a:path w="2603094" h="2602394">
                      <a:moveTo>
                        <a:pt x="0" y="1301197"/>
                      </a:moveTo>
                      <a:cubicBezTo>
                        <a:pt x="0" y="651863"/>
                        <a:pt x="478845" y="101917"/>
                        <a:pt x="1122154" y="12419"/>
                      </a:cubicBezTo>
                      <a:cubicBezTo>
                        <a:pt x="1765393" y="-77069"/>
                        <a:pt x="2376185" y="321182"/>
                        <a:pt x="2553591" y="945751"/>
                      </a:cubicBezTo>
                      <a:cubicBezTo>
                        <a:pt x="2731034" y="1570451"/>
                        <a:pt x="2420589" y="2230310"/>
                        <a:pt x="1826106" y="2492037"/>
                      </a:cubicBezTo>
                      <a:lnTo>
                        <a:pt x="1676666" y="2152781"/>
                      </a:lnTo>
                      <a:cubicBezTo>
                        <a:pt x="2101855" y="1965628"/>
                        <a:pt x="2323895" y="1493735"/>
                        <a:pt x="2196972" y="1046992"/>
                      </a:cubicBezTo>
                      <a:cubicBezTo>
                        <a:pt x="2070087" y="600381"/>
                        <a:pt x="1633278" y="315605"/>
                        <a:pt x="1173262" y="379589"/>
                      </a:cubicBezTo>
                      <a:cubicBezTo>
                        <a:pt x="713176" y="443583"/>
                        <a:pt x="370710" y="836852"/>
                        <a:pt x="370710" y="1301196"/>
                      </a:cubicBezTo>
                      <a:lnTo>
                        <a:pt x="0" y="1301197"/>
                      </a:lnTo>
                      <a:close/>
                    </a:path>
                  </a:pathLst>
                </a:custGeom>
                <a:solidFill>
                  <a:srgbClr val="c00000"/>
                </a:solidFill>
                <a:ln w="25560">
                  <a:solidFill>
                    <a:srgbClr val="c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94" name="组合 10"/>
              <p:cNvGrpSpPr/>
              <p:nvPr/>
            </p:nvGrpSpPr>
            <p:grpSpPr>
              <a:xfrm>
                <a:off x="3639960" y="1810800"/>
                <a:ext cx="567360" cy="468000"/>
                <a:chOff x="3639960" y="1810800"/>
                <a:chExt cx="567360" cy="468000"/>
              </a:xfrm>
            </p:grpSpPr>
            <p:grpSp>
              <p:nvGrpSpPr>
                <p:cNvPr id="595" name="组合 6"/>
                <p:cNvGrpSpPr/>
                <p:nvPr/>
              </p:nvGrpSpPr>
              <p:grpSpPr>
                <a:xfrm>
                  <a:off x="3639960" y="1822680"/>
                  <a:ext cx="267840" cy="364680"/>
                  <a:chOff x="3639960" y="1822680"/>
                  <a:chExt cx="267840" cy="364680"/>
                </a:xfrm>
              </p:grpSpPr>
              <p:sp>
                <p:nvSpPr>
                  <p:cNvPr id="596" name="椭圆 7"/>
                  <p:cNvSpPr/>
                  <p:nvPr/>
                </p:nvSpPr>
                <p:spPr>
                  <a:xfrm>
                    <a:off x="3676320" y="1937160"/>
                    <a:ext cx="209160" cy="237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404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97" name="椭圆 8"/>
                  <p:cNvSpPr/>
                  <p:nvPr/>
                </p:nvSpPr>
                <p:spPr>
                  <a:xfrm>
                    <a:off x="3723840" y="1822680"/>
                    <a:ext cx="112320" cy="115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404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280" bIns="352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98" name="矩形 9"/>
                  <p:cNvSpPr/>
                  <p:nvPr/>
                </p:nvSpPr>
                <p:spPr>
                  <a:xfrm>
                    <a:off x="3639960" y="2064600"/>
                    <a:ext cx="267840" cy="122760"/>
                  </a:xfrm>
                  <a:prstGeom prst="rect">
                    <a:avLst/>
                  </a:prstGeom>
                  <a:solidFill>
                    <a:srgbClr val="404040"/>
                  </a:solidFill>
                  <a:ln w="25560">
                    <a:solidFill>
                      <a:srgbClr val="404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599" name="组合 16"/>
                <p:cNvGrpSpPr/>
                <p:nvPr/>
              </p:nvGrpSpPr>
              <p:grpSpPr>
                <a:xfrm>
                  <a:off x="3939480" y="1821600"/>
                  <a:ext cx="267840" cy="364680"/>
                  <a:chOff x="3939480" y="1821600"/>
                  <a:chExt cx="267840" cy="364680"/>
                </a:xfrm>
              </p:grpSpPr>
              <p:sp>
                <p:nvSpPr>
                  <p:cNvPr id="600" name="椭圆 17"/>
                  <p:cNvSpPr/>
                  <p:nvPr/>
                </p:nvSpPr>
                <p:spPr>
                  <a:xfrm>
                    <a:off x="3975840" y="1931760"/>
                    <a:ext cx="209160" cy="241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404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01" name="椭圆 18"/>
                  <p:cNvSpPr/>
                  <p:nvPr/>
                </p:nvSpPr>
                <p:spPr>
                  <a:xfrm>
                    <a:off x="4025160" y="1821600"/>
                    <a:ext cx="112320" cy="1119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404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02" name="矩形 19"/>
                  <p:cNvSpPr/>
                  <p:nvPr/>
                </p:nvSpPr>
                <p:spPr>
                  <a:xfrm>
                    <a:off x="3939480" y="2066400"/>
                    <a:ext cx="267840" cy="119880"/>
                  </a:xfrm>
                  <a:prstGeom prst="rect">
                    <a:avLst/>
                  </a:prstGeom>
                  <a:solidFill>
                    <a:srgbClr val="404040"/>
                  </a:solidFill>
                  <a:ln w="25560">
                    <a:solidFill>
                      <a:srgbClr val="404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603" name="组合 12"/>
                <p:cNvGrpSpPr/>
                <p:nvPr/>
              </p:nvGrpSpPr>
              <p:grpSpPr>
                <a:xfrm>
                  <a:off x="3751920" y="1810800"/>
                  <a:ext cx="344160" cy="468000"/>
                  <a:chOff x="3751920" y="1810800"/>
                  <a:chExt cx="344160" cy="468000"/>
                </a:xfrm>
              </p:grpSpPr>
              <p:sp>
                <p:nvSpPr>
                  <p:cNvPr id="604" name="椭圆 13"/>
                  <p:cNvSpPr/>
                  <p:nvPr/>
                </p:nvSpPr>
                <p:spPr>
                  <a:xfrm>
                    <a:off x="3798000" y="1955520"/>
                    <a:ext cx="269280" cy="30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404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05" name="椭圆 14"/>
                  <p:cNvSpPr/>
                  <p:nvPr/>
                </p:nvSpPr>
                <p:spPr>
                  <a:xfrm>
                    <a:off x="3860280" y="1810800"/>
                    <a:ext cx="145080" cy="1447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404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06" name="矩形 15"/>
                  <p:cNvSpPr/>
                  <p:nvPr/>
                </p:nvSpPr>
                <p:spPr>
                  <a:xfrm>
                    <a:off x="3751920" y="2126160"/>
                    <a:ext cx="344160" cy="152640"/>
                  </a:xfrm>
                  <a:prstGeom prst="rect">
                    <a:avLst/>
                  </a:prstGeom>
                  <a:solidFill>
                    <a:srgbClr val="404040"/>
                  </a:solidFill>
                  <a:ln w="25560">
                    <a:solidFill>
                      <a:srgbClr val="404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607" name="加号 20"/>
              <p:cNvSpPr/>
              <p:nvPr/>
            </p:nvSpPr>
            <p:spPr>
              <a:xfrm rot="5400000">
                <a:off x="4166280" y="1699200"/>
                <a:ext cx="144360" cy="155520"/>
              </a:xfrm>
              <a:custGeom>
                <a:avLst/>
                <a:gdLst/>
                <a:ahLst/>
                <a:rect l="l" t="t" r="r" b="b"/>
                <a:pathLst>
                  <a:path w="290297" h="312926">
                    <a:moveTo>
                      <a:pt x="38479" y="132489"/>
                    </a:moveTo>
                    <a:lnTo>
                      <a:pt x="121174" y="132489"/>
                    </a:lnTo>
                    <a:lnTo>
                      <a:pt x="121174" y="41478"/>
                    </a:lnTo>
                    <a:lnTo>
                      <a:pt x="169123" y="41478"/>
                    </a:lnTo>
                    <a:lnTo>
                      <a:pt x="169123" y="132489"/>
                    </a:lnTo>
                    <a:lnTo>
                      <a:pt x="251818" y="132489"/>
                    </a:lnTo>
                    <a:lnTo>
                      <a:pt x="251818" y="180437"/>
                    </a:lnTo>
                    <a:lnTo>
                      <a:pt x="169123" y="180437"/>
                    </a:lnTo>
                    <a:lnTo>
                      <a:pt x="169123" y="271448"/>
                    </a:lnTo>
                    <a:lnTo>
                      <a:pt x="121174" y="271448"/>
                    </a:lnTo>
                    <a:lnTo>
                      <a:pt x="121174" y="180437"/>
                    </a:lnTo>
                    <a:lnTo>
                      <a:pt x="38479" y="180437"/>
                    </a:lnTo>
                    <a:lnTo>
                      <a:pt x="38479" y="132489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08" name="TextBox 22"/>
            <p:cNvSpPr/>
            <p:nvPr/>
          </p:nvSpPr>
          <p:spPr>
            <a:xfrm>
              <a:off x="4654080" y="1433520"/>
              <a:ext cx="1314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Ebrima"/>
                </a:rPr>
                <a:t>70%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" name="TextBox 23"/>
            <p:cNvSpPr/>
            <p:nvPr/>
          </p:nvSpPr>
          <p:spPr>
            <a:xfrm>
              <a:off x="4654080" y="1888920"/>
              <a:ext cx="1437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输入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0" name="TextBox 25"/>
            <p:cNvSpPr/>
            <p:nvPr/>
          </p:nvSpPr>
          <p:spPr>
            <a:xfrm>
              <a:off x="4654080" y="2089440"/>
              <a:ext cx="1437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输入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" name="TextBox 26"/>
            <p:cNvSpPr/>
            <p:nvPr/>
          </p:nvSpPr>
          <p:spPr>
            <a:xfrm>
              <a:off x="4654080" y="2288520"/>
              <a:ext cx="1437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输入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2" name="组合 2"/>
          <p:cNvGrpSpPr/>
          <p:nvPr/>
        </p:nvGrpSpPr>
        <p:grpSpPr>
          <a:xfrm>
            <a:off x="1594440" y="2680920"/>
            <a:ext cx="5777640" cy="2183400"/>
            <a:chOff x="1594440" y="2680920"/>
            <a:chExt cx="5777640" cy="2183400"/>
          </a:xfrm>
        </p:grpSpPr>
        <p:grpSp>
          <p:nvGrpSpPr>
            <p:cNvPr id="613" name="组合 41992"/>
            <p:cNvGrpSpPr/>
            <p:nvPr/>
          </p:nvGrpSpPr>
          <p:grpSpPr>
            <a:xfrm>
              <a:off x="1594440" y="2680920"/>
              <a:ext cx="1251360" cy="2117160"/>
              <a:chOff x="1594440" y="2680920"/>
              <a:chExt cx="1251360" cy="2117160"/>
            </a:xfrm>
          </p:grpSpPr>
          <p:sp>
            <p:nvSpPr>
              <p:cNvPr id="614" name="TextBox 33"/>
              <p:cNvSpPr/>
              <p:nvPr/>
            </p:nvSpPr>
            <p:spPr>
              <a:xfrm>
                <a:off x="1657440" y="4320720"/>
                <a:ext cx="1125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点击输入文本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空心弧 27"/>
              <p:cNvSpPr/>
              <p:nvPr/>
            </p:nvSpPr>
            <p:spPr>
              <a:xfrm rot="18348600">
                <a:off x="1772280" y="2857680"/>
                <a:ext cx="895320" cy="897120"/>
              </a:xfrm>
              <a:custGeom>
                <a:avLst/>
                <a:gdLst/>
                <a:ahLst/>
                <a:rect l="l" t="t" r="r" b="b"/>
                <a:pathLst>
                  <a:path w="964381" h="965599">
                    <a:moveTo>
                      <a:pt x="734448" y="894261"/>
                    </a:moveTo>
                    <a:cubicBezTo>
                      <a:pt x="547262" y="1009310"/>
                      <a:pt x="306078" y="983164"/>
                      <a:pt x="147823" y="830666"/>
                    </a:cubicBezTo>
                    <a:cubicBezTo>
                      <a:pt x="-10126" y="678462"/>
                      <a:pt x="-45661" y="438736"/>
                      <a:pt x="61331" y="247161"/>
                    </a:cubicBezTo>
                    <a:cubicBezTo>
                      <a:pt x="168499" y="55270"/>
                      <a:pt x="391612" y="-39893"/>
                      <a:pt x="604061" y="15673"/>
                    </a:cubicBezTo>
                    <a:cubicBezTo>
                      <a:pt x="816309" y="71187"/>
                      <a:pt x="964382" y="263152"/>
                      <a:pt x="964382" y="482798"/>
                    </a:cubicBezTo>
                    <a:lnTo>
                      <a:pt x="723286" y="482800"/>
                    </a:lnTo>
                    <a:cubicBezTo>
                      <a:pt x="723286" y="372866"/>
                      <a:pt x="649286" y="276780"/>
                      <a:pt x="543198" y="248962"/>
                    </a:cubicBezTo>
                    <a:cubicBezTo>
                      <a:pt x="436909" y="221092"/>
                      <a:pt x="325268" y="268785"/>
                      <a:pt x="271699" y="364946"/>
                    </a:cubicBezTo>
                    <a:cubicBezTo>
                      <a:pt x="218306" y="460791"/>
                      <a:pt x="236048" y="580672"/>
                      <a:pt x="314899" y="656847"/>
                    </a:cubicBezTo>
                    <a:cubicBezTo>
                      <a:pt x="394055" y="733316"/>
                      <a:pt x="514784" y="746425"/>
                      <a:pt x="608436" y="688719"/>
                    </a:cubicBezTo>
                    <a:lnTo>
                      <a:pt x="734448" y="894261"/>
                    </a:lnTo>
                    <a:close/>
                  </a:path>
                </a:pathLst>
              </a:custGeom>
              <a:solidFill>
                <a:srgbClr val="c00000"/>
              </a:solidFill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6" name="椭圆 28"/>
              <p:cNvSpPr/>
              <p:nvPr/>
            </p:nvSpPr>
            <p:spPr>
              <a:xfrm>
                <a:off x="1870200" y="2955960"/>
                <a:ext cx="700200" cy="699840"/>
              </a:xfrm>
              <a:prstGeom prst="ellipse">
                <a:avLst/>
              </a:prstGeom>
              <a:solidFill>
                <a:srgbClr val="262626"/>
              </a:solidFill>
              <a:ln w="25560">
                <a:solidFill>
                  <a:srgbClr val="26262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7" name="TextBox 31"/>
              <p:cNvSpPr/>
              <p:nvPr/>
            </p:nvSpPr>
            <p:spPr>
              <a:xfrm>
                <a:off x="1851120" y="3800520"/>
                <a:ext cx="737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Ebrima"/>
                  </a:rPr>
                  <a:t>80%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8" name="TextBox 32"/>
              <p:cNvSpPr/>
              <p:nvPr/>
            </p:nvSpPr>
            <p:spPr>
              <a:xfrm>
                <a:off x="1657440" y="4129920"/>
                <a:ext cx="1125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点击输入文本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9" name="TextBox 34"/>
              <p:cNvSpPr/>
              <p:nvPr/>
            </p:nvSpPr>
            <p:spPr>
              <a:xfrm>
                <a:off x="1657440" y="4521600"/>
                <a:ext cx="1125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点击输入文本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圆角矩形标注 30"/>
              <p:cNvSpPr/>
              <p:nvPr/>
            </p:nvSpPr>
            <p:spPr>
              <a:xfrm>
                <a:off x="2043000" y="3200400"/>
                <a:ext cx="353880" cy="210960"/>
              </a:xfrm>
              <a:prstGeom prst="wedgeRoundRectCallout">
                <a:avLst>
                  <a:gd name="adj1" fmla="val -26555"/>
                  <a:gd name="adj2" fmla="val 96134"/>
                  <a:gd name="adj3" fmla="val 16667"/>
                </a:avLst>
              </a:prstGeom>
              <a:solidFill>
                <a:srgbClr val="ffffff"/>
              </a:solidFill>
              <a:ln w="25560">
                <a:solidFill>
                  <a:srgbClr val="26262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1" name="圆角矩形标注 36"/>
              <p:cNvSpPr/>
              <p:nvPr/>
            </p:nvSpPr>
            <p:spPr>
              <a:xfrm>
                <a:off x="2040120" y="3138480"/>
                <a:ext cx="360360" cy="210960"/>
              </a:xfrm>
              <a:prstGeom prst="wedgeRoundRectCallout">
                <a:avLst>
                  <a:gd name="adj1" fmla="val 36087"/>
                  <a:gd name="adj2" fmla="val 96134"/>
                  <a:gd name="adj3" fmla="val 16667"/>
                </a:avLst>
              </a:prstGeom>
              <a:solidFill>
                <a:srgbClr val="ffffff"/>
              </a:solidFill>
              <a:ln w="25560">
                <a:solidFill>
                  <a:srgbClr val="26262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22" name="组合 41993"/>
            <p:cNvGrpSpPr/>
            <p:nvPr/>
          </p:nvGrpSpPr>
          <p:grpSpPr>
            <a:xfrm>
              <a:off x="3914640" y="2681640"/>
              <a:ext cx="1310760" cy="2116440"/>
              <a:chOff x="3914640" y="2681640"/>
              <a:chExt cx="1310760" cy="2116440"/>
            </a:xfrm>
          </p:grpSpPr>
          <p:sp>
            <p:nvSpPr>
              <p:cNvPr id="623" name="TextBox 39"/>
              <p:cNvSpPr/>
              <p:nvPr/>
            </p:nvSpPr>
            <p:spPr>
              <a:xfrm>
                <a:off x="3914640" y="4320360"/>
                <a:ext cx="13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点击输入文本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4" name="空心弧 40"/>
              <p:cNvSpPr/>
              <p:nvPr/>
            </p:nvSpPr>
            <p:spPr>
              <a:xfrm rot="18348600">
                <a:off x="4122720" y="2858760"/>
                <a:ext cx="895320" cy="895320"/>
              </a:xfrm>
              <a:custGeom>
                <a:avLst/>
                <a:gdLst/>
                <a:ahLst/>
                <a:rect l="l" t="t" r="r" b="b"/>
                <a:pathLst>
                  <a:path w="963940" h="963398">
                    <a:moveTo>
                      <a:pt x="6912" y="562983"/>
                    </a:moveTo>
                    <a:cubicBezTo>
                      <a:pt x="-27735" y="360721"/>
                      <a:pt x="69632" y="158727"/>
                      <a:pt x="249486" y="59744"/>
                    </a:cubicBezTo>
                    <a:cubicBezTo>
                      <a:pt x="429209" y="-39167"/>
                      <a:pt x="651884" y="-13521"/>
                      <a:pt x="804387" y="123652"/>
                    </a:cubicBezTo>
                    <a:lnTo>
                      <a:pt x="657769" y="286472"/>
                    </a:lnTo>
                    <a:cubicBezTo>
                      <a:pt x="574608" y="211741"/>
                      <a:pt x="453214" y="197769"/>
                      <a:pt x="355220" y="251649"/>
                    </a:cubicBezTo>
                    <a:cubicBezTo>
                      <a:pt x="257094" y="305602"/>
                      <a:pt x="203970" y="415744"/>
                      <a:pt x="222879" y="526030"/>
                    </a:cubicBezTo>
                    <a:lnTo>
                      <a:pt x="6912" y="562983"/>
                    </a:lnTo>
                    <a:close/>
                  </a:path>
                </a:pathLst>
              </a:custGeom>
              <a:solidFill>
                <a:srgbClr val="c00000"/>
              </a:solidFill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5" name="椭圆 41"/>
              <p:cNvSpPr/>
              <p:nvPr/>
            </p:nvSpPr>
            <p:spPr>
              <a:xfrm>
                <a:off x="4219560" y="2955960"/>
                <a:ext cx="701640" cy="699840"/>
              </a:xfrm>
              <a:prstGeom prst="ellipse">
                <a:avLst/>
              </a:prstGeom>
              <a:solidFill>
                <a:srgbClr val="262626"/>
              </a:solidFill>
              <a:ln w="25560">
                <a:solidFill>
                  <a:srgbClr val="26262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6" name="TextBox 42"/>
              <p:cNvSpPr/>
              <p:nvPr/>
            </p:nvSpPr>
            <p:spPr>
              <a:xfrm>
                <a:off x="4201200" y="3801240"/>
                <a:ext cx="737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Ebrima"/>
                  </a:rPr>
                  <a:t>40%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7" name="TextBox 43"/>
              <p:cNvSpPr/>
              <p:nvPr/>
            </p:nvSpPr>
            <p:spPr>
              <a:xfrm>
                <a:off x="3914640" y="4129560"/>
                <a:ext cx="13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点击输入文本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8" name="TextBox 44"/>
              <p:cNvSpPr/>
              <p:nvPr/>
            </p:nvSpPr>
            <p:spPr>
              <a:xfrm>
                <a:off x="3914640" y="4521600"/>
                <a:ext cx="13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点击输入文本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29" name="组合 54"/>
              <p:cNvGrpSpPr/>
              <p:nvPr/>
            </p:nvGrpSpPr>
            <p:grpSpPr>
              <a:xfrm>
                <a:off x="4383000" y="3140280"/>
                <a:ext cx="373680" cy="332640"/>
                <a:chOff x="4383000" y="3140280"/>
                <a:chExt cx="373680" cy="332640"/>
              </a:xfrm>
            </p:grpSpPr>
            <p:pic>
              <p:nvPicPr>
                <p:cNvPr id="630" name="组合 51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4383000" y="3140280"/>
                  <a:ext cx="373680" cy="332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31" name="椭圆 53"/>
                <p:cNvSpPr/>
                <p:nvPr/>
              </p:nvSpPr>
              <p:spPr>
                <a:xfrm>
                  <a:off x="4502160" y="3251880"/>
                  <a:ext cx="124200" cy="1231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26262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32" name="组合 41994"/>
            <p:cNvGrpSpPr/>
            <p:nvPr/>
          </p:nvGrpSpPr>
          <p:grpSpPr>
            <a:xfrm>
              <a:off x="6122160" y="2681640"/>
              <a:ext cx="1249920" cy="2182680"/>
              <a:chOff x="6122160" y="2681640"/>
              <a:chExt cx="1249920" cy="2182680"/>
            </a:xfrm>
          </p:grpSpPr>
          <p:sp>
            <p:nvSpPr>
              <p:cNvPr id="633" name="TextBox 57"/>
              <p:cNvSpPr/>
              <p:nvPr/>
            </p:nvSpPr>
            <p:spPr>
              <a:xfrm>
                <a:off x="6185520" y="4176720"/>
                <a:ext cx="1123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点击输入文本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4" name="空心弧 58"/>
              <p:cNvSpPr/>
              <p:nvPr/>
            </p:nvSpPr>
            <p:spPr>
              <a:xfrm rot="18348600">
                <a:off x="6299280" y="2858760"/>
                <a:ext cx="895320" cy="895320"/>
              </a:xfrm>
              <a:custGeom>
                <a:avLst/>
                <a:gdLst/>
                <a:ahLst/>
                <a:rect l="l" t="t" r="r" b="b"/>
                <a:pathLst>
                  <a:path w="964627" h="965155">
                    <a:moveTo>
                      <a:pt x="249563" y="59909"/>
                    </a:moveTo>
                    <a:cubicBezTo>
                      <a:pt x="429513" y="-39292"/>
                      <a:pt x="652519" y="-13545"/>
                      <a:pt x="805159" y="124056"/>
                    </a:cubicBezTo>
                    <a:lnTo>
                      <a:pt x="658353" y="287084"/>
                    </a:lnTo>
                    <a:cubicBezTo>
                      <a:pt x="575130" y="211992"/>
                      <a:pt x="453511" y="197942"/>
                      <a:pt x="355388" y="252084"/>
                    </a:cubicBezTo>
                    <a:lnTo>
                      <a:pt x="249563" y="59909"/>
                    </a:lnTo>
                    <a:close/>
                  </a:path>
                </a:pathLst>
              </a:custGeom>
              <a:solidFill>
                <a:srgbClr val="c00000"/>
              </a:solidFill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5" name="椭圆 59"/>
              <p:cNvSpPr/>
              <p:nvPr/>
            </p:nvSpPr>
            <p:spPr>
              <a:xfrm>
                <a:off x="6397560" y="2955960"/>
                <a:ext cx="698400" cy="699840"/>
              </a:xfrm>
              <a:prstGeom prst="ellipse">
                <a:avLst/>
              </a:prstGeom>
              <a:solidFill>
                <a:srgbClr val="262626"/>
              </a:solidFill>
              <a:ln w="25560">
                <a:solidFill>
                  <a:srgbClr val="26262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6" name="TextBox 60"/>
              <p:cNvSpPr/>
              <p:nvPr/>
            </p:nvSpPr>
            <p:spPr>
              <a:xfrm>
                <a:off x="6379200" y="3827520"/>
                <a:ext cx="735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Ebrima"/>
                  </a:rPr>
                  <a:t>20%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7" name="TextBox 61"/>
              <p:cNvSpPr/>
              <p:nvPr/>
            </p:nvSpPr>
            <p:spPr>
              <a:xfrm>
                <a:off x="6185520" y="4377240"/>
                <a:ext cx="1123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点击输入文本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8" name="TextBox 62"/>
              <p:cNvSpPr/>
              <p:nvPr/>
            </p:nvSpPr>
            <p:spPr>
              <a:xfrm>
                <a:off x="6185520" y="4587840"/>
                <a:ext cx="1123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点击输入文本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39" name="组合 41988"/>
              <p:cNvGrpSpPr/>
              <p:nvPr/>
            </p:nvGrpSpPr>
            <p:grpSpPr>
              <a:xfrm>
                <a:off x="6588000" y="3066480"/>
                <a:ext cx="317880" cy="368280"/>
                <a:chOff x="6588000" y="3066480"/>
                <a:chExt cx="317880" cy="368280"/>
              </a:xfrm>
            </p:grpSpPr>
            <p:sp>
              <p:nvSpPr>
                <p:cNvPr id="640" name="椭圆 41986"/>
                <p:cNvSpPr/>
                <p:nvPr/>
              </p:nvSpPr>
              <p:spPr>
                <a:xfrm>
                  <a:off x="6675480" y="3066480"/>
                  <a:ext cx="142920" cy="295560"/>
                </a:xfrm>
                <a:prstGeom prst="ellipse">
                  <a:avLst/>
                </a:prstGeom>
                <a:solidFill>
                  <a:srgbClr val="262626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41" name="流程图: 手动操作 55"/>
                <p:cNvSpPr/>
                <p:nvPr/>
              </p:nvSpPr>
              <p:spPr>
                <a:xfrm flipV="1">
                  <a:off x="6588000" y="3164040"/>
                  <a:ext cx="317880" cy="270360"/>
                </a:xfrm>
                <a:prstGeom prst="flowChartManualOperation">
                  <a:avLst/>
                </a:pr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42" name="五角星 41984"/>
                <p:cNvSpPr/>
                <p:nvPr/>
              </p:nvSpPr>
              <p:spPr>
                <a:xfrm>
                  <a:off x="6684840" y="3277800"/>
                  <a:ext cx="123840" cy="122400"/>
                </a:xfrm>
                <a:custGeom>
                  <a:avLst/>
                  <a:gdLst/>
                  <a:ahLst/>
                  <a:rect l="l" t="t" r="r" b="b"/>
                  <a:pathLst>
                    <a:path w="196210" h="193589">
                      <a:moveTo>
                        <a:pt x="0" y="73944"/>
                      </a:moveTo>
                      <a:lnTo>
                        <a:pt x="74946" y="73945"/>
                      </a:lnTo>
                      <a:lnTo>
                        <a:pt x="98105" y="0"/>
                      </a:lnTo>
                      <a:lnTo>
                        <a:pt x="121264" y="73945"/>
                      </a:lnTo>
                      <a:lnTo>
                        <a:pt x="196210" y="73944"/>
                      </a:lnTo>
                      <a:lnTo>
                        <a:pt x="135577" y="119644"/>
                      </a:lnTo>
                      <a:lnTo>
                        <a:pt x="158737" y="193589"/>
                      </a:lnTo>
                      <a:lnTo>
                        <a:pt x="98105" y="147888"/>
                      </a:lnTo>
                      <a:lnTo>
                        <a:pt x="37473" y="193589"/>
                      </a:lnTo>
                      <a:lnTo>
                        <a:pt x="60633" y="119644"/>
                      </a:lnTo>
                      <a:lnTo>
                        <a:pt x="0" y="73944"/>
                      </a:lnTo>
                      <a:close/>
                    </a:path>
                  </a:pathLst>
                </a:custGeom>
                <a:solidFill>
                  <a:srgbClr val="262626"/>
                </a:solidFill>
                <a:ln w="25560">
                  <a:solidFill>
                    <a:srgbClr val="26262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43" name="椭圆 41987"/>
                <p:cNvSpPr/>
                <p:nvPr/>
              </p:nvSpPr>
              <p:spPr>
                <a:xfrm flipV="1">
                  <a:off x="6670440" y="3199320"/>
                  <a:ext cx="28440" cy="28440"/>
                </a:xfrm>
                <a:prstGeom prst="ellipse">
                  <a:avLst/>
                </a:prstGeom>
                <a:solidFill>
                  <a:srgbClr val="262626"/>
                </a:solidFill>
                <a:ln w="25560">
                  <a:solidFill>
                    <a:srgbClr val="26262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44" name="椭圆 70"/>
                <p:cNvSpPr/>
                <p:nvPr/>
              </p:nvSpPr>
              <p:spPr>
                <a:xfrm flipV="1">
                  <a:off x="6801120" y="3199320"/>
                  <a:ext cx="29880" cy="28440"/>
                </a:xfrm>
                <a:prstGeom prst="ellipse">
                  <a:avLst/>
                </a:prstGeom>
                <a:solidFill>
                  <a:srgbClr val="262626"/>
                </a:solidFill>
                <a:ln w="25560">
                  <a:solidFill>
                    <a:srgbClr val="26262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645" name="组合 60"/>
          <p:cNvGrpSpPr/>
          <p:nvPr/>
        </p:nvGrpSpPr>
        <p:grpSpPr>
          <a:xfrm>
            <a:off x="0" y="0"/>
            <a:ext cx="1011240" cy="803160"/>
            <a:chOff x="0" y="0"/>
            <a:chExt cx="1011240" cy="803160"/>
          </a:xfrm>
        </p:grpSpPr>
        <p:pic>
          <p:nvPicPr>
            <p:cNvPr id="646" name="图片 61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11240" cy="80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7" name="矩形 11"/>
            <p:cNvSpPr/>
            <p:nvPr/>
          </p:nvSpPr>
          <p:spPr>
            <a:xfrm rot="21431400">
              <a:off x="229680" y="169560"/>
              <a:ext cx="644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 Black"/>
                  <a:ea typeface="微软雅黑"/>
                </a:rPr>
                <a:t>2015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48" name="TextBox 1"/>
          <p:cNvSpPr/>
          <p:nvPr/>
        </p:nvSpPr>
        <p:spPr>
          <a:xfrm>
            <a:off x="998640" y="227160"/>
            <a:ext cx="24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4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4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TextBox 1"/>
          <p:cNvSpPr/>
          <p:nvPr/>
        </p:nvSpPr>
        <p:spPr>
          <a:xfrm>
            <a:off x="998640" y="227160"/>
            <a:ext cx="24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0" name="组合 2"/>
          <p:cNvGrpSpPr/>
          <p:nvPr/>
        </p:nvGrpSpPr>
        <p:grpSpPr>
          <a:xfrm>
            <a:off x="2987640" y="3643200"/>
            <a:ext cx="1289160" cy="276480"/>
            <a:chOff x="2987640" y="3643200"/>
            <a:chExt cx="1289160" cy="276480"/>
          </a:xfrm>
        </p:grpSpPr>
        <p:pic>
          <p:nvPicPr>
            <p:cNvPr id="651" name="Group 137" descr=""/>
            <p:cNvPicPr/>
            <p:nvPr/>
          </p:nvPicPr>
          <p:blipFill>
            <a:blip r:embed="rId1"/>
            <a:stretch/>
          </p:blipFill>
          <p:spPr>
            <a:xfrm>
              <a:off x="2987640" y="3724560"/>
              <a:ext cx="272880" cy="8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Text Box 9"/>
            <p:cNvSpPr/>
            <p:nvPr/>
          </p:nvSpPr>
          <p:spPr>
            <a:xfrm>
              <a:off x="3170880" y="3643200"/>
              <a:ext cx="110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61220"/>
                  </a:solidFill>
                  <a:latin typeface="Calibri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3" name="组合 7"/>
          <p:cNvGrpSpPr/>
          <p:nvPr/>
        </p:nvGrpSpPr>
        <p:grpSpPr>
          <a:xfrm>
            <a:off x="4952880" y="3643200"/>
            <a:ext cx="1295640" cy="276480"/>
            <a:chOff x="4952880" y="3643200"/>
            <a:chExt cx="1295640" cy="276480"/>
          </a:xfrm>
        </p:grpSpPr>
        <p:pic>
          <p:nvPicPr>
            <p:cNvPr id="654" name="Group 136" descr=""/>
            <p:cNvPicPr/>
            <p:nvPr/>
          </p:nvPicPr>
          <p:blipFill>
            <a:blip r:embed="rId2"/>
            <a:stretch/>
          </p:blipFill>
          <p:spPr>
            <a:xfrm>
              <a:off x="4952880" y="3730680"/>
              <a:ext cx="262800" cy="7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Text Box 9"/>
            <p:cNvSpPr/>
            <p:nvPr/>
          </p:nvSpPr>
          <p:spPr>
            <a:xfrm>
              <a:off x="5135400" y="3643200"/>
              <a:ext cx="1113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61220"/>
                  </a:solidFill>
                  <a:latin typeface="Calibri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6" name="组合 12"/>
          <p:cNvGrpSpPr/>
          <p:nvPr/>
        </p:nvGrpSpPr>
        <p:grpSpPr>
          <a:xfrm>
            <a:off x="2050920" y="1460520"/>
            <a:ext cx="5407200" cy="1980360"/>
            <a:chOff x="2050920" y="1460520"/>
            <a:chExt cx="5407200" cy="1980360"/>
          </a:xfrm>
        </p:grpSpPr>
        <p:sp>
          <p:nvSpPr>
            <p:cNvPr id="657" name="直接连接符​​ 8"/>
            <p:cNvSpPr/>
            <p:nvPr/>
          </p:nvSpPr>
          <p:spPr>
            <a:xfrm flipV="1">
              <a:off x="3323880" y="1599840"/>
              <a:ext cx="0" cy="1514520"/>
            </a:xfrm>
            <a:prstGeom prst="line">
              <a:avLst/>
            </a:prstGeom>
            <a:ln w="9360">
              <a:solidFill>
                <a:srgbClr val="06122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8" name="直接连接符​​ 9"/>
            <p:cNvSpPr/>
            <p:nvPr/>
          </p:nvSpPr>
          <p:spPr>
            <a:xfrm flipV="1">
              <a:off x="4538520" y="1599840"/>
              <a:ext cx="0" cy="1514520"/>
            </a:xfrm>
            <a:prstGeom prst="line">
              <a:avLst/>
            </a:prstGeom>
            <a:ln w="9360">
              <a:solidFill>
                <a:srgbClr val="06122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9" name="直接连接符​​ 10"/>
            <p:cNvSpPr/>
            <p:nvPr/>
          </p:nvSpPr>
          <p:spPr>
            <a:xfrm flipV="1">
              <a:off x="5745240" y="1599840"/>
              <a:ext cx="0" cy="1514520"/>
            </a:xfrm>
            <a:prstGeom prst="line">
              <a:avLst/>
            </a:prstGeom>
            <a:ln w="9360">
              <a:solidFill>
                <a:srgbClr val="06122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0" name="直接连接符​​ 11"/>
            <p:cNvSpPr/>
            <p:nvPr/>
          </p:nvSpPr>
          <p:spPr>
            <a:xfrm flipV="1">
              <a:off x="6978960" y="1599840"/>
              <a:ext cx="0" cy="1514520"/>
            </a:xfrm>
            <a:prstGeom prst="line">
              <a:avLst/>
            </a:prstGeom>
            <a:ln w="9360">
              <a:solidFill>
                <a:srgbClr val="06122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Line 8"/>
            <p:cNvSpPr/>
            <p:nvPr/>
          </p:nvSpPr>
          <p:spPr>
            <a:xfrm flipH="1">
              <a:off x="2058840" y="1460520"/>
              <a:ext cx="10800" cy="1657440"/>
            </a:xfrm>
            <a:prstGeom prst="line">
              <a:avLst/>
            </a:prstGeom>
            <a:ln w="25560">
              <a:solidFill>
                <a:srgbClr val="0612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2" name="Line 8"/>
            <p:cNvSpPr/>
            <p:nvPr/>
          </p:nvSpPr>
          <p:spPr>
            <a:xfrm>
              <a:off x="2050920" y="3114720"/>
              <a:ext cx="5407200" cy="0"/>
            </a:xfrm>
            <a:prstGeom prst="line">
              <a:avLst/>
            </a:prstGeom>
            <a:ln w="25560">
              <a:solidFill>
                <a:srgbClr val="06122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3" name="AutoShape 14"/>
            <p:cNvSpPr/>
            <p:nvPr/>
          </p:nvSpPr>
          <p:spPr>
            <a:xfrm>
              <a:off x="2403360" y="1714320"/>
              <a:ext cx="1744560" cy="24732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4" name="Freeform 32"/>
            <p:cNvSpPr/>
            <p:nvPr/>
          </p:nvSpPr>
          <p:spPr>
            <a:xfrm>
              <a:off x="2091960" y="2077920"/>
              <a:ext cx="4875480" cy="976320"/>
            </a:xfrm>
            <a:custGeom>
              <a:avLst/>
              <a:gdLst>
                <a:gd name="textAreaLeft" fmla="*/ 0 w 4875480"/>
                <a:gd name="textAreaRight" fmla="*/ 4875840 w 4875480"/>
                <a:gd name="textAreaTop" fmla="*/ 0 h 976320"/>
                <a:gd name="textAreaBottom" fmla="*/ 976680 h 976320"/>
              </a:gdLst>
              <a:ahLst/>
              <a:rect l="textAreaLeft" t="textAreaTop" r="textAreaRight" b="textAreaBottom"/>
              <a:pathLst>
                <a:path w="3651" h="903">
                  <a:moveTo>
                    <a:pt x="0" y="162"/>
                  </a:moveTo>
                  <a:cubicBezTo>
                    <a:pt x="144" y="249"/>
                    <a:pt x="498" y="651"/>
                    <a:pt x="666" y="747"/>
                  </a:cubicBezTo>
                  <a:cubicBezTo>
                    <a:pt x="894" y="903"/>
                    <a:pt x="1047" y="801"/>
                    <a:pt x="1122" y="732"/>
                  </a:cubicBezTo>
                  <a:cubicBezTo>
                    <a:pt x="1473" y="348"/>
                    <a:pt x="1521" y="267"/>
                    <a:pt x="1626" y="174"/>
                  </a:cubicBezTo>
                  <a:cubicBezTo>
                    <a:pt x="1797" y="0"/>
                    <a:pt x="1923" y="18"/>
                    <a:pt x="2121" y="141"/>
                  </a:cubicBezTo>
                  <a:cubicBezTo>
                    <a:pt x="2331" y="306"/>
                    <a:pt x="2433" y="399"/>
                    <a:pt x="2583" y="491"/>
                  </a:cubicBezTo>
                  <a:cubicBezTo>
                    <a:pt x="2772" y="603"/>
                    <a:pt x="3003" y="501"/>
                    <a:pt x="3087" y="467"/>
                  </a:cubicBezTo>
                  <a:cubicBezTo>
                    <a:pt x="3240" y="402"/>
                    <a:pt x="3518" y="235"/>
                    <a:pt x="3651" y="186"/>
                  </a:cubicBezTo>
                </a:path>
              </a:pathLst>
            </a:custGeom>
            <a:noFill/>
            <a:ln w="38160">
              <a:solidFill>
                <a:srgbClr val="c00000"/>
              </a:solidFill>
              <a:prstDash val="lg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5" name="Rectangle 34"/>
            <p:cNvSpPr/>
            <p:nvPr/>
          </p:nvSpPr>
          <p:spPr>
            <a:xfrm>
              <a:off x="2060280" y="2227320"/>
              <a:ext cx="53640" cy="42840"/>
            </a:xfrm>
            <a:prstGeom prst="rect">
              <a:avLst/>
            </a:prstGeom>
            <a:solidFill>
              <a:srgbClr val="c00000"/>
            </a:solidFill>
            <a:ln w="93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" name="Rectangle 39"/>
            <p:cNvSpPr/>
            <p:nvPr/>
          </p:nvSpPr>
          <p:spPr>
            <a:xfrm>
              <a:off x="3336840" y="2940120"/>
              <a:ext cx="53640" cy="42840"/>
            </a:xfrm>
            <a:prstGeom prst="rect">
              <a:avLst/>
            </a:prstGeom>
            <a:solidFill>
              <a:srgbClr val="c00000"/>
            </a:solidFill>
            <a:ln w="93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" name="Rectangle 44"/>
            <p:cNvSpPr/>
            <p:nvPr/>
          </p:nvSpPr>
          <p:spPr>
            <a:xfrm>
              <a:off x="5727600" y="2633760"/>
              <a:ext cx="52200" cy="42840"/>
            </a:xfrm>
            <a:prstGeom prst="rect">
              <a:avLst/>
            </a:prstGeom>
            <a:solidFill>
              <a:srgbClr val="c00000"/>
            </a:solidFill>
            <a:ln w="93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8" name="Rectangle 49"/>
            <p:cNvSpPr/>
            <p:nvPr/>
          </p:nvSpPr>
          <p:spPr>
            <a:xfrm>
              <a:off x="6951960" y="2243160"/>
              <a:ext cx="52200" cy="42840"/>
            </a:xfrm>
            <a:prstGeom prst="rect">
              <a:avLst/>
            </a:prstGeom>
            <a:solidFill>
              <a:srgbClr val="c00000"/>
            </a:solidFill>
            <a:ln w="93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9" name="Freeform 59"/>
            <p:cNvSpPr/>
            <p:nvPr/>
          </p:nvSpPr>
          <p:spPr>
            <a:xfrm>
              <a:off x="2098440" y="1701720"/>
              <a:ext cx="4874040" cy="955440"/>
            </a:xfrm>
            <a:custGeom>
              <a:avLst/>
              <a:gdLst>
                <a:gd name="textAreaLeft" fmla="*/ 0 w 4874040"/>
                <a:gd name="textAreaRight" fmla="*/ 4874400 w 4874040"/>
                <a:gd name="textAreaTop" fmla="*/ 0 h 955440"/>
                <a:gd name="textAreaBottom" fmla="*/ 955800 h 955440"/>
              </a:gdLst>
              <a:ahLst/>
              <a:rect l="textAreaLeft" t="textAreaTop" r="textAreaRight" b="textAreaBottom"/>
              <a:pathLst>
                <a:path w="3650" h="885">
                  <a:moveTo>
                    <a:pt x="0" y="885"/>
                  </a:moveTo>
                  <a:cubicBezTo>
                    <a:pt x="459" y="784"/>
                    <a:pt x="685" y="729"/>
                    <a:pt x="917" y="664"/>
                  </a:cubicBezTo>
                  <a:cubicBezTo>
                    <a:pt x="1106" y="612"/>
                    <a:pt x="1642" y="428"/>
                    <a:pt x="1828" y="346"/>
                  </a:cubicBezTo>
                  <a:cubicBezTo>
                    <a:pt x="1964" y="290"/>
                    <a:pt x="2356" y="94"/>
                    <a:pt x="2463" y="69"/>
                  </a:cubicBezTo>
                  <a:cubicBezTo>
                    <a:pt x="2742" y="0"/>
                    <a:pt x="2882" y="116"/>
                    <a:pt x="2944" y="154"/>
                  </a:cubicBezTo>
                  <a:cubicBezTo>
                    <a:pt x="3150" y="288"/>
                    <a:pt x="3477" y="649"/>
                    <a:pt x="3650" y="774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0" name="Rectangle 61"/>
            <p:cNvSpPr/>
            <p:nvPr/>
          </p:nvSpPr>
          <p:spPr>
            <a:xfrm>
              <a:off x="2050920" y="2631960"/>
              <a:ext cx="71280" cy="55440"/>
            </a:xfrm>
            <a:prstGeom prst="rect">
              <a:avLst/>
            </a:prstGeom>
            <a:solidFill>
              <a:srgbClr val="00b0f0"/>
            </a:solidFill>
            <a:ln w="93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1" name="Rectangle 66"/>
            <p:cNvSpPr/>
            <p:nvPr/>
          </p:nvSpPr>
          <p:spPr>
            <a:xfrm>
              <a:off x="3327120" y="2359080"/>
              <a:ext cx="71280" cy="56880"/>
            </a:xfrm>
            <a:prstGeom prst="rect">
              <a:avLst/>
            </a:prstGeom>
            <a:solidFill>
              <a:srgbClr val="00b0f0"/>
            </a:solidFill>
            <a:ln w="93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2" name="Rectangle 71"/>
            <p:cNvSpPr/>
            <p:nvPr/>
          </p:nvSpPr>
          <p:spPr>
            <a:xfrm>
              <a:off x="5726160" y="1714320"/>
              <a:ext cx="71280" cy="55440"/>
            </a:xfrm>
            <a:prstGeom prst="rect">
              <a:avLst/>
            </a:prstGeom>
            <a:solidFill>
              <a:srgbClr val="00b0f0"/>
            </a:solidFill>
            <a:ln w="93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3" name="Rectangle 76"/>
            <p:cNvSpPr/>
            <p:nvPr/>
          </p:nvSpPr>
          <p:spPr>
            <a:xfrm>
              <a:off x="6942240" y="2504880"/>
              <a:ext cx="69840" cy="56880"/>
            </a:xfrm>
            <a:prstGeom prst="rect">
              <a:avLst/>
            </a:prstGeom>
            <a:solidFill>
              <a:srgbClr val="56606a"/>
            </a:solidFill>
            <a:ln w="9360">
              <a:solidFill>
                <a:srgbClr val="5660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" name="Oval 8"/>
            <p:cNvSpPr/>
            <p:nvPr/>
          </p:nvSpPr>
          <p:spPr>
            <a:xfrm>
              <a:off x="4456080" y="2025720"/>
              <a:ext cx="220680" cy="17748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612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" name="Rectangle 121"/>
            <p:cNvSpPr/>
            <p:nvPr/>
          </p:nvSpPr>
          <p:spPr>
            <a:xfrm>
              <a:off x="4529160" y="2077920"/>
              <a:ext cx="88560" cy="7128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" name="Rectangle 133"/>
            <p:cNvSpPr/>
            <p:nvPr/>
          </p:nvSpPr>
          <p:spPr>
            <a:xfrm>
              <a:off x="2622240" y="1674720"/>
              <a:ext cx="1434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点击输入文本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77" name="组合 146"/>
            <p:cNvGrpSpPr/>
            <p:nvPr/>
          </p:nvGrpSpPr>
          <p:grpSpPr>
            <a:xfrm>
              <a:off x="4198680" y="1714320"/>
              <a:ext cx="306360" cy="298440"/>
              <a:chOff x="4198680" y="1714320"/>
              <a:chExt cx="306360" cy="298440"/>
            </a:xfrm>
          </p:grpSpPr>
          <p:sp>
            <p:nvSpPr>
              <p:cNvPr id="678" name="任意多边形 143"/>
              <p:cNvSpPr/>
              <p:nvPr/>
            </p:nvSpPr>
            <p:spPr>
              <a:xfrm>
                <a:off x="4206240" y="1714320"/>
                <a:ext cx="360" cy="258120"/>
              </a:xfrm>
              <a:custGeom>
                <a:avLst/>
                <a:gdLst/>
                <a:ahLst/>
                <a:rect l="l" t="t" r="r" b="b"/>
                <a:pathLst>
                  <a:path w="0" h="323850">
                    <a:moveTo>
                      <a:pt x="0" y="0"/>
                    </a:moveTo>
                    <a:lnTo>
                      <a:pt x="0" y="323850"/>
                    </a:ln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6122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任意多边形 144"/>
              <p:cNvSpPr/>
              <p:nvPr/>
            </p:nvSpPr>
            <p:spPr>
              <a:xfrm>
                <a:off x="4198680" y="1835640"/>
                <a:ext cx="306360" cy="17712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77120"/>
                  <a:gd name="textAreaBottom" fmla="*/ 177480 h 177120"/>
                </a:gdLst>
                <a:ahLst/>
                <a:rect l="textAreaLeft" t="textAreaTop" r="textAreaRight" b="textAreaBottom"/>
                <a:pathLst>
                  <a:path w="266700" h="222250">
                    <a:moveTo>
                      <a:pt x="0" y="0"/>
                    </a:moveTo>
                    <a:lnTo>
                      <a:pt x="266700" y="222250"/>
                    </a:ln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6122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80" name="Text Box 9"/>
            <p:cNvSpPr/>
            <p:nvPr/>
          </p:nvSpPr>
          <p:spPr>
            <a:xfrm>
              <a:off x="2206440" y="3133800"/>
              <a:ext cx="94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61220"/>
                  </a:solidFill>
                  <a:latin typeface="Calibri"/>
                  <a:ea typeface="微软雅黑"/>
                </a:rPr>
                <a:t>添加文本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" name="Text Box 9"/>
            <p:cNvSpPr/>
            <p:nvPr/>
          </p:nvSpPr>
          <p:spPr>
            <a:xfrm>
              <a:off x="3444840" y="3133800"/>
              <a:ext cx="94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61220"/>
                  </a:solidFill>
                  <a:latin typeface="Calibri"/>
                  <a:ea typeface="微软雅黑"/>
                </a:rPr>
                <a:t>添加文本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2" name="Text Box 9"/>
            <p:cNvSpPr/>
            <p:nvPr/>
          </p:nvSpPr>
          <p:spPr>
            <a:xfrm>
              <a:off x="4687920" y="3133800"/>
              <a:ext cx="94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61220"/>
                  </a:solidFill>
                  <a:latin typeface="Calibri"/>
                  <a:ea typeface="微软雅黑"/>
                </a:rPr>
                <a:t>添加文本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" name="Text Box 9"/>
            <p:cNvSpPr/>
            <p:nvPr/>
          </p:nvSpPr>
          <p:spPr>
            <a:xfrm>
              <a:off x="5916600" y="3133800"/>
              <a:ext cx="94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61220"/>
                  </a:solidFill>
                  <a:latin typeface="Calibri"/>
                  <a:ea typeface="微软雅黑"/>
                </a:rPr>
                <a:t>添加文本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4" name="组合 40"/>
          <p:cNvGrpSpPr/>
          <p:nvPr/>
        </p:nvGrpSpPr>
        <p:grpSpPr>
          <a:xfrm>
            <a:off x="0" y="0"/>
            <a:ext cx="1011240" cy="803160"/>
            <a:chOff x="0" y="0"/>
            <a:chExt cx="1011240" cy="803160"/>
          </a:xfrm>
        </p:grpSpPr>
        <p:pic>
          <p:nvPicPr>
            <p:cNvPr id="685" name="图片 41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11240" cy="80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6" name="矩形 11"/>
            <p:cNvSpPr/>
            <p:nvPr/>
          </p:nvSpPr>
          <p:spPr>
            <a:xfrm rot="21431400">
              <a:off x="229680" y="169560"/>
              <a:ext cx="644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 Black"/>
                  <a:ea typeface="微软雅黑"/>
                </a:rPr>
                <a:t>2015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TextBox 1"/>
          <p:cNvSpPr/>
          <p:nvPr/>
        </p:nvSpPr>
        <p:spPr>
          <a:xfrm>
            <a:off x="998640" y="227160"/>
            <a:ext cx="24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8" name="组合 2"/>
          <p:cNvGrpSpPr/>
          <p:nvPr/>
        </p:nvGrpSpPr>
        <p:grpSpPr>
          <a:xfrm>
            <a:off x="2022480" y="1492200"/>
            <a:ext cx="5407200" cy="1980720"/>
            <a:chOff x="2022480" y="1492200"/>
            <a:chExt cx="5407200" cy="1980720"/>
          </a:xfrm>
        </p:grpSpPr>
        <p:sp>
          <p:nvSpPr>
            <p:cNvPr id="689" name="直接连接符​​ 8"/>
            <p:cNvSpPr/>
            <p:nvPr/>
          </p:nvSpPr>
          <p:spPr>
            <a:xfrm flipV="1">
              <a:off x="3295440" y="1631880"/>
              <a:ext cx="0" cy="1514880"/>
            </a:xfrm>
            <a:prstGeom prst="line">
              <a:avLst/>
            </a:prstGeom>
            <a:ln w="9360">
              <a:solidFill>
                <a:srgbClr val="06122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0" name="直接连接符​​ 9"/>
            <p:cNvSpPr/>
            <p:nvPr/>
          </p:nvSpPr>
          <p:spPr>
            <a:xfrm flipV="1">
              <a:off x="4510080" y="1631880"/>
              <a:ext cx="0" cy="1514880"/>
            </a:xfrm>
            <a:prstGeom prst="line">
              <a:avLst/>
            </a:prstGeom>
            <a:ln w="9360">
              <a:solidFill>
                <a:srgbClr val="06122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1" name="直接连接符​​ 10"/>
            <p:cNvSpPr/>
            <p:nvPr/>
          </p:nvSpPr>
          <p:spPr>
            <a:xfrm flipV="1">
              <a:off x="5716800" y="1631880"/>
              <a:ext cx="0" cy="1514880"/>
            </a:xfrm>
            <a:prstGeom prst="line">
              <a:avLst/>
            </a:prstGeom>
            <a:ln w="9360">
              <a:solidFill>
                <a:srgbClr val="06122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2" name="直接连接符​​ 11"/>
            <p:cNvSpPr/>
            <p:nvPr/>
          </p:nvSpPr>
          <p:spPr>
            <a:xfrm flipV="1">
              <a:off x="6950520" y="1631880"/>
              <a:ext cx="0" cy="1514880"/>
            </a:xfrm>
            <a:prstGeom prst="line">
              <a:avLst/>
            </a:prstGeom>
            <a:ln w="9360">
              <a:solidFill>
                <a:srgbClr val="06122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3" name="Line 8"/>
            <p:cNvSpPr/>
            <p:nvPr/>
          </p:nvSpPr>
          <p:spPr>
            <a:xfrm flipH="1">
              <a:off x="2030400" y="1492200"/>
              <a:ext cx="10800" cy="1657440"/>
            </a:xfrm>
            <a:prstGeom prst="line">
              <a:avLst/>
            </a:prstGeom>
            <a:ln w="25560">
              <a:solidFill>
                <a:srgbClr val="0612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4" name="Text Box 9"/>
            <p:cNvSpPr/>
            <p:nvPr/>
          </p:nvSpPr>
          <p:spPr>
            <a:xfrm>
              <a:off x="2176200" y="3165840"/>
              <a:ext cx="94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61220"/>
                  </a:solidFill>
                  <a:latin typeface="Calibri"/>
                  <a:ea typeface="微软雅黑"/>
                </a:rPr>
                <a:t>添加文本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5" name="Text Box 9"/>
            <p:cNvSpPr/>
            <p:nvPr/>
          </p:nvSpPr>
          <p:spPr>
            <a:xfrm>
              <a:off x="3414600" y="3165840"/>
              <a:ext cx="94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61220"/>
                  </a:solidFill>
                  <a:latin typeface="Calibri"/>
                  <a:ea typeface="微软雅黑"/>
                </a:rPr>
                <a:t>添加文本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6" name="Text Box 9"/>
            <p:cNvSpPr/>
            <p:nvPr/>
          </p:nvSpPr>
          <p:spPr>
            <a:xfrm>
              <a:off x="4657680" y="3165840"/>
              <a:ext cx="94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61220"/>
                  </a:solidFill>
                  <a:latin typeface="Calibri"/>
                  <a:ea typeface="微软雅黑"/>
                </a:rPr>
                <a:t>添加文本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" name="Text Box 9"/>
            <p:cNvSpPr/>
            <p:nvPr/>
          </p:nvSpPr>
          <p:spPr>
            <a:xfrm>
              <a:off x="5886720" y="3165840"/>
              <a:ext cx="94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61220"/>
                  </a:solidFill>
                  <a:latin typeface="Calibri"/>
                  <a:ea typeface="微软雅黑"/>
                </a:rPr>
                <a:t>添加文本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8" name="矩形 12"/>
            <p:cNvSpPr/>
            <p:nvPr/>
          </p:nvSpPr>
          <p:spPr>
            <a:xfrm>
              <a:off x="2334960" y="2116080"/>
              <a:ext cx="288720" cy="1027080"/>
            </a:xfrm>
            <a:prstGeom prst="rect">
              <a:avLst/>
            </a:prstGeom>
            <a:gradFill rotWithShape="0">
              <a:gsLst>
                <a:gs pos="0">
                  <a:srgbClr val="00b0f0"/>
                </a:gs>
                <a:gs pos="100000">
                  <a:srgbClr val="00b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9" name="矩形 13"/>
            <p:cNvSpPr/>
            <p:nvPr/>
          </p:nvSpPr>
          <p:spPr>
            <a:xfrm>
              <a:off x="2676240" y="2352600"/>
              <a:ext cx="288720" cy="79056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0" name="矩形 14"/>
            <p:cNvSpPr/>
            <p:nvPr/>
          </p:nvSpPr>
          <p:spPr>
            <a:xfrm>
              <a:off x="3570120" y="2495520"/>
              <a:ext cx="287280" cy="6476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1" name="矩形 15"/>
            <p:cNvSpPr/>
            <p:nvPr/>
          </p:nvSpPr>
          <p:spPr>
            <a:xfrm>
              <a:off x="3911760" y="1847880"/>
              <a:ext cx="287280" cy="129564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2" name="矩形 16"/>
            <p:cNvSpPr/>
            <p:nvPr/>
          </p:nvSpPr>
          <p:spPr>
            <a:xfrm>
              <a:off x="4735440" y="2003400"/>
              <a:ext cx="287280" cy="114012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3" name="矩形 17"/>
            <p:cNvSpPr/>
            <p:nvPr/>
          </p:nvSpPr>
          <p:spPr>
            <a:xfrm>
              <a:off x="5077080" y="1631880"/>
              <a:ext cx="287280" cy="151164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4" name="矩形 18"/>
            <p:cNvSpPr/>
            <p:nvPr/>
          </p:nvSpPr>
          <p:spPr>
            <a:xfrm>
              <a:off x="6040800" y="2116080"/>
              <a:ext cx="288720" cy="102708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5" name="矩形 19"/>
            <p:cNvSpPr/>
            <p:nvPr/>
          </p:nvSpPr>
          <p:spPr>
            <a:xfrm>
              <a:off x="6382080" y="2352600"/>
              <a:ext cx="288720" cy="79056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6" name="Line 8"/>
            <p:cNvSpPr/>
            <p:nvPr/>
          </p:nvSpPr>
          <p:spPr>
            <a:xfrm>
              <a:off x="2022480" y="3146760"/>
              <a:ext cx="5407200" cy="0"/>
            </a:xfrm>
            <a:prstGeom prst="line">
              <a:avLst/>
            </a:prstGeom>
            <a:ln w="25560">
              <a:solidFill>
                <a:srgbClr val="06122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7" name="组合 21"/>
          <p:cNvGrpSpPr/>
          <p:nvPr/>
        </p:nvGrpSpPr>
        <p:grpSpPr>
          <a:xfrm>
            <a:off x="4986360" y="3705120"/>
            <a:ext cx="765360" cy="307080"/>
            <a:chOff x="4986360" y="3705120"/>
            <a:chExt cx="765360" cy="307080"/>
          </a:xfrm>
        </p:grpSpPr>
        <p:sp>
          <p:nvSpPr>
            <p:cNvPr id="708" name="矩形 22"/>
            <p:cNvSpPr/>
            <p:nvPr/>
          </p:nvSpPr>
          <p:spPr>
            <a:xfrm>
              <a:off x="4986360" y="3751200"/>
              <a:ext cx="287280" cy="21456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9" name="TextBox 35"/>
            <p:cNvSpPr/>
            <p:nvPr/>
          </p:nvSpPr>
          <p:spPr>
            <a:xfrm>
              <a:off x="5357520" y="370512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61220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0" name="组合 24"/>
          <p:cNvGrpSpPr/>
          <p:nvPr/>
        </p:nvGrpSpPr>
        <p:grpSpPr>
          <a:xfrm>
            <a:off x="2820960" y="3705120"/>
            <a:ext cx="795600" cy="307080"/>
            <a:chOff x="2820960" y="3705120"/>
            <a:chExt cx="795600" cy="307080"/>
          </a:xfrm>
        </p:grpSpPr>
        <p:sp>
          <p:nvSpPr>
            <p:cNvPr id="711" name="矩形 25"/>
            <p:cNvSpPr/>
            <p:nvPr/>
          </p:nvSpPr>
          <p:spPr>
            <a:xfrm>
              <a:off x="2820960" y="3768480"/>
              <a:ext cx="311040" cy="19692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" name="TextBox 36"/>
            <p:cNvSpPr/>
            <p:nvPr/>
          </p:nvSpPr>
          <p:spPr>
            <a:xfrm>
              <a:off x="3222360" y="370512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61220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3" name="组合 28"/>
          <p:cNvGrpSpPr/>
          <p:nvPr/>
        </p:nvGrpSpPr>
        <p:grpSpPr>
          <a:xfrm>
            <a:off x="0" y="0"/>
            <a:ext cx="1011240" cy="803160"/>
            <a:chOff x="0" y="0"/>
            <a:chExt cx="1011240" cy="803160"/>
          </a:xfrm>
        </p:grpSpPr>
        <p:pic>
          <p:nvPicPr>
            <p:cNvPr id="714" name="图片 29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011240" cy="80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5" name="矩形 11"/>
            <p:cNvSpPr/>
            <p:nvPr/>
          </p:nvSpPr>
          <p:spPr>
            <a:xfrm rot="21431400">
              <a:off x="229680" y="169560"/>
              <a:ext cx="644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 Black"/>
                  <a:ea typeface="微软雅黑"/>
                </a:rPr>
                <a:t>2015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6" name="组合 1"/>
          <p:cNvGrpSpPr/>
          <p:nvPr/>
        </p:nvGrpSpPr>
        <p:grpSpPr>
          <a:xfrm>
            <a:off x="1258920" y="1492200"/>
            <a:ext cx="6697800" cy="2808360"/>
            <a:chOff x="1258920" y="1492200"/>
            <a:chExt cx="6697800" cy="2808360"/>
          </a:xfrm>
        </p:grpSpPr>
        <p:sp>
          <p:nvSpPr>
            <p:cNvPr id="717" name="直接连接符 4"/>
            <p:cNvSpPr/>
            <p:nvPr/>
          </p:nvSpPr>
          <p:spPr>
            <a:xfrm flipH="1">
              <a:off x="1488960" y="4286520"/>
              <a:ext cx="6467760" cy="14040"/>
            </a:xfrm>
            <a:prstGeom prst="line">
              <a:avLst/>
            </a:prstGeom>
            <a:ln w="284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18" name="组合 5"/>
            <p:cNvGrpSpPr/>
            <p:nvPr/>
          </p:nvGrpSpPr>
          <p:grpSpPr>
            <a:xfrm>
              <a:off x="1258920" y="1492200"/>
              <a:ext cx="5964480" cy="2808360"/>
              <a:chOff x="1258920" y="1492200"/>
              <a:chExt cx="5964480" cy="2808360"/>
            </a:xfrm>
          </p:grpSpPr>
          <p:sp>
            <p:nvSpPr>
              <p:cNvPr id="719" name="直接连接符 3"/>
              <p:cNvSpPr/>
              <p:nvPr/>
            </p:nvSpPr>
            <p:spPr>
              <a:xfrm>
                <a:off x="1258920" y="1492200"/>
                <a:ext cx="0" cy="2808360"/>
              </a:xfrm>
              <a:prstGeom prst="line">
                <a:avLst/>
              </a:prstGeom>
              <a:ln w="28440">
                <a:solidFill>
                  <a:srgbClr val="404040"/>
                </a:solidFill>
                <a:miter/>
                <a:headEnd len="lg" type="oval" w="lg"/>
                <a:tailEnd len="lg" type="oval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0" name="直接连接符 24"/>
              <p:cNvSpPr/>
              <p:nvPr/>
            </p:nvSpPr>
            <p:spPr>
              <a:xfrm flipH="1">
                <a:off x="1258920" y="4300560"/>
                <a:ext cx="1039680" cy="0"/>
              </a:xfrm>
              <a:prstGeom prst="line">
                <a:avLst/>
              </a:prstGeom>
              <a:ln w="28440">
                <a:solidFill>
                  <a:srgbClr val="404040"/>
                </a:solidFill>
                <a:miter/>
                <a:headEnd len="lg" type="oval" w="lg"/>
                <a:tailEnd len="lg" type="oval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721" name="组合 1"/>
              <p:cNvGrpSpPr/>
              <p:nvPr/>
            </p:nvGrpSpPr>
            <p:grpSpPr>
              <a:xfrm>
                <a:off x="1823400" y="1707840"/>
                <a:ext cx="5355000" cy="2592720"/>
                <a:chOff x="1823400" y="1707840"/>
                <a:chExt cx="5355000" cy="2592720"/>
              </a:xfrm>
            </p:grpSpPr>
            <p:sp>
              <p:nvSpPr>
                <p:cNvPr id="722" name="圆角矩形 34"/>
                <p:cNvSpPr/>
                <p:nvPr/>
              </p:nvSpPr>
              <p:spPr>
                <a:xfrm>
                  <a:off x="6227640" y="1707840"/>
                  <a:ext cx="950760" cy="2184840"/>
                </a:xfrm>
                <a:custGeom>
                  <a:avLst/>
                  <a:gdLst>
                    <a:gd name="textAreaLeft" fmla="*/ 46080 w 950760"/>
                    <a:gd name="textAreaRight" fmla="*/ 904680 w 950760"/>
                    <a:gd name="textAreaTop" fmla="*/ 46080 h 2184840"/>
                    <a:gd name="textAreaBottom" fmla="*/ 2138760 h 2184840"/>
                  </a:gdLst>
                  <a:ahLst/>
                  <a:rect l="textAreaLeft" t="textAreaTop" r="textAreaRight" b="textAreaBottom"/>
                  <a:pathLst>
                    <a:path w="21600" h="49626">
                      <a:moveTo>
                        <a:pt x="3600" y="0"/>
                      </a:moveTo>
                      <a:arcTo wR="3600" hR="3600" stAng="16200000" swAng="-5400000"/>
                      <a:lnTo>
                        <a:pt x="0" y="46026"/>
                      </a:lnTo>
                      <a:arcTo wR="3600" hR="3600" stAng="10800000" swAng="-5400000"/>
                      <a:lnTo>
                        <a:pt x="18000" y="4962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d9d9d9"/>
                </a:solidFill>
                <a:ln w="25560">
                  <a:solidFill>
                    <a:srgbClr val="d9d9d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23" name="圆角矩形 33"/>
                <p:cNvSpPr/>
                <p:nvPr/>
              </p:nvSpPr>
              <p:spPr>
                <a:xfrm>
                  <a:off x="4757400" y="1707840"/>
                  <a:ext cx="950760" cy="2184840"/>
                </a:xfrm>
                <a:custGeom>
                  <a:avLst/>
                  <a:gdLst>
                    <a:gd name="textAreaLeft" fmla="*/ 46080 w 950760"/>
                    <a:gd name="textAreaRight" fmla="*/ 904680 w 950760"/>
                    <a:gd name="textAreaTop" fmla="*/ 46080 h 2184840"/>
                    <a:gd name="textAreaBottom" fmla="*/ 2138760 h 2184840"/>
                  </a:gdLst>
                  <a:ahLst/>
                  <a:rect l="textAreaLeft" t="textAreaTop" r="textAreaRight" b="textAreaBottom"/>
                  <a:pathLst>
                    <a:path w="21600" h="49626">
                      <a:moveTo>
                        <a:pt x="3600" y="0"/>
                      </a:moveTo>
                      <a:arcTo wR="3600" hR="3600" stAng="16200000" swAng="-5400000"/>
                      <a:lnTo>
                        <a:pt x="0" y="46026"/>
                      </a:lnTo>
                      <a:arcTo wR="3600" hR="3600" stAng="10800000" swAng="-5400000"/>
                      <a:lnTo>
                        <a:pt x="18000" y="4962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d9d9d9"/>
                </a:solidFill>
                <a:ln w="25560">
                  <a:solidFill>
                    <a:srgbClr val="d9d9d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24" name="圆角矩形 32"/>
                <p:cNvSpPr/>
                <p:nvPr/>
              </p:nvSpPr>
              <p:spPr>
                <a:xfrm>
                  <a:off x="3290400" y="1707840"/>
                  <a:ext cx="949320" cy="2184840"/>
                </a:xfrm>
                <a:custGeom>
                  <a:avLst/>
                  <a:gdLst>
                    <a:gd name="textAreaLeft" fmla="*/ 46080 w 949320"/>
                    <a:gd name="textAreaRight" fmla="*/ 903240 w 949320"/>
                    <a:gd name="textAreaTop" fmla="*/ 46080 h 2184840"/>
                    <a:gd name="textAreaBottom" fmla="*/ 2138760 h 2184840"/>
                  </a:gdLst>
                  <a:ahLst/>
                  <a:rect l="textAreaLeft" t="textAreaTop" r="textAreaRight" b="textAreaBottom"/>
                  <a:pathLst>
                    <a:path w="21600" h="49701">
                      <a:moveTo>
                        <a:pt x="3600" y="0"/>
                      </a:moveTo>
                      <a:arcTo wR="3600" hR="3600" stAng="16200000" swAng="-5400000"/>
                      <a:lnTo>
                        <a:pt x="0" y="46101"/>
                      </a:lnTo>
                      <a:arcTo wR="3600" hR="3600" stAng="10800000" swAng="-5400000"/>
                      <a:lnTo>
                        <a:pt x="18000" y="49701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d9d9d9"/>
                </a:solidFill>
                <a:ln w="25560">
                  <a:solidFill>
                    <a:srgbClr val="d9d9d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25" name="圆角矩形 28"/>
                <p:cNvSpPr/>
                <p:nvPr/>
              </p:nvSpPr>
              <p:spPr>
                <a:xfrm>
                  <a:off x="1823760" y="1707840"/>
                  <a:ext cx="950760" cy="2184840"/>
                </a:xfrm>
                <a:custGeom>
                  <a:avLst/>
                  <a:gdLst>
                    <a:gd name="textAreaLeft" fmla="*/ 46080 w 950760"/>
                    <a:gd name="textAreaRight" fmla="*/ 904680 w 950760"/>
                    <a:gd name="textAreaTop" fmla="*/ 46080 h 2184840"/>
                    <a:gd name="textAreaBottom" fmla="*/ 2138760 h 2184840"/>
                  </a:gdLst>
                  <a:ahLst/>
                  <a:rect l="textAreaLeft" t="textAreaTop" r="textAreaRight" b="textAreaBottom"/>
                  <a:pathLst>
                    <a:path w="21600" h="49626">
                      <a:moveTo>
                        <a:pt x="3600" y="0"/>
                      </a:moveTo>
                      <a:arcTo wR="3600" hR="3600" stAng="16200000" swAng="-5400000"/>
                      <a:lnTo>
                        <a:pt x="0" y="46026"/>
                      </a:lnTo>
                      <a:arcTo wR="3600" hR="3600" stAng="10800000" swAng="-5400000"/>
                      <a:lnTo>
                        <a:pt x="18000" y="4962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d9d9d9"/>
                </a:solidFill>
                <a:ln w="25560">
                  <a:solidFill>
                    <a:srgbClr val="d9d9d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726" name="组合 13"/>
                <p:cNvGrpSpPr/>
                <p:nvPr/>
              </p:nvGrpSpPr>
              <p:grpSpPr>
                <a:xfrm>
                  <a:off x="1823400" y="1923120"/>
                  <a:ext cx="5355000" cy="2377440"/>
                  <a:chOff x="1823400" y="1923120"/>
                  <a:chExt cx="5355000" cy="2377440"/>
                </a:xfrm>
              </p:grpSpPr>
              <p:sp>
                <p:nvSpPr>
                  <p:cNvPr id="727" name="矩形 9"/>
                  <p:cNvSpPr/>
                  <p:nvPr/>
                </p:nvSpPr>
                <p:spPr>
                  <a:xfrm>
                    <a:off x="1823400" y="3484440"/>
                    <a:ext cx="950760" cy="816120"/>
                  </a:xfrm>
                  <a:prstGeom prst="rect">
                    <a:avLst/>
                  </a:prstGeom>
                  <a:solidFill>
                    <a:srgbClr val="c00000"/>
                  </a:solidFill>
                  <a:ln w="25560">
                    <a:solidFill>
                      <a:srgbClr val="c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728" name="组合 12"/>
                  <p:cNvGrpSpPr/>
                  <p:nvPr/>
                </p:nvGrpSpPr>
                <p:grpSpPr>
                  <a:xfrm>
                    <a:off x="3291480" y="2815920"/>
                    <a:ext cx="950040" cy="1484640"/>
                    <a:chOff x="3291480" y="2815920"/>
                    <a:chExt cx="950040" cy="1484640"/>
                  </a:xfrm>
                </p:grpSpPr>
                <p:sp>
                  <p:nvSpPr>
                    <p:cNvPr id="729" name="矩形 10"/>
                    <p:cNvSpPr/>
                    <p:nvPr/>
                  </p:nvSpPr>
                  <p:spPr>
                    <a:xfrm>
                      <a:off x="3291480" y="2955600"/>
                      <a:ext cx="950040" cy="1344960"/>
                    </a:xfrm>
                    <a:prstGeom prst="rect">
                      <a:avLst/>
                    </a:prstGeom>
                    <a:solidFill>
                      <a:srgbClr val="c00000"/>
                    </a:solidFill>
                    <a:ln w="25560">
                      <a:solidFill>
                        <a:srgbClr val="c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730" name="圆角矩形 11"/>
                    <p:cNvSpPr/>
                    <p:nvPr/>
                  </p:nvSpPr>
                  <p:spPr>
                    <a:xfrm>
                      <a:off x="3291480" y="2815920"/>
                      <a:ext cx="950040" cy="325440"/>
                    </a:xfrm>
                    <a:prstGeom prst="roundRect">
                      <a:avLst>
                        <a:gd name="adj" fmla="val 16667"/>
                      </a:avLst>
                    </a:prstGeom>
                    <a:solidFill>
                      <a:srgbClr val="c00000"/>
                    </a:solidFill>
                    <a:ln w="25560">
                      <a:solidFill>
                        <a:srgbClr val="c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731" name="圆角矩形 14"/>
                  <p:cNvSpPr/>
                  <p:nvPr/>
                </p:nvSpPr>
                <p:spPr>
                  <a:xfrm>
                    <a:off x="1823400" y="3344760"/>
                    <a:ext cx="950760" cy="39384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c00000"/>
                  </a:solidFill>
                  <a:ln w="25560">
                    <a:solidFill>
                      <a:srgbClr val="c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732" name="组合 15"/>
                  <p:cNvGrpSpPr/>
                  <p:nvPr/>
                </p:nvGrpSpPr>
                <p:grpSpPr>
                  <a:xfrm>
                    <a:off x="4759920" y="2499840"/>
                    <a:ext cx="950040" cy="1800720"/>
                    <a:chOff x="4759920" y="2499840"/>
                    <a:chExt cx="950040" cy="1800720"/>
                  </a:xfrm>
                </p:grpSpPr>
                <p:sp>
                  <p:nvSpPr>
                    <p:cNvPr id="733" name="矩形 16"/>
                    <p:cNvSpPr/>
                    <p:nvPr/>
                  </p:nvSpPr>
                  <p:spPr>
                    <a:xfrm>
                      <a:off x="4759920" y="2667960"/>
                      <a:ext cx="950040" cy="1632600"/>
                    </a:xfrm>
                    <a:prstGeom prst="rect">
                      <a:avLst/>
                    </a:prstGeom>
                    <a:solidFill>
                      <a:srgbClr val="c00000"/>
                    </a:solidFill>
                    <a:ln w="25560">
                      <a:solidFill>
                        <a:srgbClr val="c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734" name="圆角矩形 17"/>
                    <p:cNvSpPr/>
                    <p:nvPr/>
                  </p:nvSpPr>
                  <p:spPr>
                    <a:xfrm>
                      <a:off x="4759920" y="2499840"/>
                      <a:ext cx="950040" cy="393840"/>
                    </a:xfrm>
                    <a:prstGeom prst="roundRect">
                      <a:avLst>
                        <a:gd name="adj" fmla="val 16667"/>
                      </a:avLst>
                    </a:prstGeom>
                    <a:solidFill>
                      <a:srgbClr val="c00000"/>
                    </a:solidFill>
                    <a:ln w="25560">
                      <a:solidFill>
                        <a:srgbClr val="c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735" name="组合 18"/>
                  <p:cNvGrpSpPr/>
                  <p:nvPr/>
                </p:nvGrpSpPr>
                <p:grpSpPr>
                  <a:xfrm>
                    <a:off x="6228000" y="1923120"/>
                    <a:ext cx="950400" cy="2377440"/>
                    <a:chOff x="6228000" y="1923120"/>
                    <a:chExt cx="950400" cy="2377440"/>
                  </a:xfrm>
                </p:grpSpPr>
                <p:sp>
                  <p:nvSpPr>
                    <p:cNvPr id="736" name="矩形 19"/>
                    <p:cNvSpPr/>
                    <p:nvPr/>
                  </p:nvSpPr>
                  <p:spPr>
                    <a:xfrm>
                      <a:off x="6228000" y="2311920"/>
                      <a:ext cx="950400" cy="1988640"/>
                    </a:xfrm>
                    <a:prstGeom prst="rect">
                      <a:avLst/>
                    </a:prstGeom>
                    <a:solidFill>
                      <a:srgbClr val="c00000"/>
                    </a:solidFill>
                    <a:ln w="25560">
                      <a:solidFill>
                        <a:srgbClr val="c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737" name="圆角矩形 20"/>
                    <p:cNvSpPr/>
                    <p:nvPr/>
                  </p:nvSpPr>
                  <p:spPr>
                    <a:xfrm>
                      <a:off x="6228000" y="1923120"/>
                      <a:ext cx="950400" cy="479520"/>
                    </a:xfrm>
                    <a:prstGeom prst="roundRect">
                      <a:avLst>
                        <a:gd name="adj" fmla="val 16667"/>
                      </a:avLst>
                    </a:prstGeom>
                    <a:solidFill>
                      <a:srgbClr val="c00000"/>
                    </a:solidFill>
                    <a:ln w="25560">
                      <a:solidFill>
                        <a:srgbClr val="c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sp>
              <p:nvSpPr>
                <p:cNvPr id="738" name="直接连接符 27"/>
                <p:cNvSpPr/>
                <p:nvPr/>
              </p:nvSpPr>
              <p:spPr>
                <a:xfrm flipH="1">
                  <a:off x="2297880" y="4300560"/>
                  <a:ext cx="1469880" cy="0"/>
                </a:xfrm>
                <a:prstGeom prst="line">
                  <a:avLst/>
                </a:prstGeom>
                <a:ln w="28440">
                  <a:solidFill>
                    <a:srgbClr val="404040"/>
                  </a:solidFill>
                  <a:miter/>
                  <a:headEnd len="lg" type="oval" w="lg"/>
                  <a:tailEnd len="lg" type="oval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39" name="直接连接符 29"/>
                <p:cNvSpPr/>
                <p:nvPr/>
              </p:nvSpPr>
              <p:spPr>
                <a:xfrm flipH="1">
                  <a:off x="3791880" y="4300560"/>
                  <a:ext cx="1469880" cy="0"/>
                </a:xfrm>
                <a:prstGeom prst="line">
                  <a:avLst/>
                </a:prstGeom>
                <a:ln w="28440">
                  <a:solidFill>
                    <a:srgbClr val="404040"/>
                  </a:solidFill>
                  <a:miter/>
                  <a:headEnd len="lg" type="oval" w="lg"/>
                  <a:tailEnd len="lg" type="oval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40" name="直接连接符 30"/>
                <p:cNvSpPr/>
                <p:nvPr/>
              </p:nvSpPr>
              <p:spPr>
                <a:xfrm flipH="1">
                  <a:off x="5262120" y="4300560"/>
                  <a:ext cx="1468440" cy="0"/>
                </a:xfrm>
                <a:prstGeom prst="line">
                  <a:avLst/>
                </a:prstGeom>
                <a:ln w="28440">
                  <a:solidFill>
                    <a:srgbClr val="404040"/>
                  </a:solidFill>
                  <a:miter/>
                  <a:headEnd len="lg" type="oval" w="lg"/>
                  <a:tailEnd len="lg" type="oval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741" name="TextBox 2"/>
              <p:cNvSpPr/>
              <p:nvPr/>
            </p:nvSpPr>
            <p:spPr>
              <a:xfrm>
                <a:off x="1778760" y="3332160"/>
                <a:ext cx="995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</a:rPr>
                  <a:t>45%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2" name="TextBox 31"/>
              <p:cNvSpPr/>
              <p:nvPr/>
            </p:nvSpPr>
            <p:spPr>
              <a:xfrm>
                <a:off x="3270960" y="2787840"/>
                <a:ext cx="995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</a:rPr>
                  <a:t>45%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3" name="TextBox 35"/>
              <p:cNvSpPr/>
              <p:nvPr/>
            </p:nvSpPr>
            <p:spPr>
              <a:xfrm>
                <a:off x="4758120" y="2500200"/>
                <a:ext cx="995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</a:rPr>
                  <a:t>70%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4" name="TextBox 36"/>
              <p:cNvSpPr/>
              <p:nvPr/>
            </p:nvSpPr>
            <p:spPr>
              <a:xfrm>
                <a:off x="6228360" y="1923480"/>
                <a:ext cx="995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</a:rPr>
                  <a:t>90%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45" name="TextBox 7"/>
            <p:cNvSpPr/>
            <p:nvPr/>
          </p:nvSpPr>
          <p:spPr>
            <a:xfrm>
              <a:off x="1809720" y="3629160"/>
              <a:ext cx="109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输入文本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TextBox 37"/>
            <p:cNvSpPr/>
            <p:nvPr/>
          </p:nvSpPr>
          <p:spPr>
            <a:xfrm>
              <a:off x="1801800" y="3830760"/>
              <a:ext cx="109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输入文本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TextBox 38"/>
            <p:cNvSpPr/>
            <p:nvPr/>
          </p:nvSpPr>
          <p:spPr>
            <a:xfrm>
              <a:off x="1801800" y="4011840"/>
              <a:ext cx="109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输入文本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TextBox 39"/>
            <p:cNvSpPr/>
            <p:nvPr/>
          </p:nvSpPr>
          <p:spPr>
            <a:xfrm>
              <a:off x="3259080" y="3230640"/>
              <a:ext cx="1092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输入文本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9" name="TextBox 40"/>
            <p:cNvSpPr/>
            <p:nvPr/>
          </p:nvSpPr>
          <p:spPr>
            <a:xfrm>
              <a:off x="3251160" y="3432240"/>
              <a:ext cx="1092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输入文本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0" name="TextBox 41"/>
            <p:cNvSpPr/>
            <p:nvPr/>
          </p:nvSpPr>
          <p:spPr>
            <a:xfrm>
              <a:off x="3251160" y="3614760"/>
              <a:ext cx="1092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输入文本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1" name="TextBox 42"/>
            <p:cNvSpPr/>
            <p:nvPr/>
          </p:nvSpPr>
          <p:spPr>
            <a:xfrm>
              <a:off x="4705560" y="2943360"/>
              <a:ext cx="109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输入文本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2" name="TextBox 43"/>
            <p:cNvSpPr/>
            <p:nvPr/>
          </p:nvSpPr>
          <p:spPr>
            <a:xfrm>
              <a:off x="4695840" y="3143160"/>
              <a:ext cx="1092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输入文本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3" name="TextBox 44"/>
            <p:cNvSpPr/>
            <p:nvPr/>
          </p:nvSpPr>
          <p:spPr>
            <a:xfrm>
              <a:off x="4695840" y="3326040"/>
              <a:ext cx="1092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输入文本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4" name="TextBox 45"/>
            <p:cNvSpPr/>
            <p:nvPr/>
          </p:nvSpPr>
          <p:spPr>
            <a:xfrm>
              <a:off x="6205680" y="2367000"/>
              <a:ext cx="109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输入文本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5" name="TextBox 46"/>
            <p:cNvSpPr/>
            <p:nvPr/>
          </p:nvSpPr>
          <p:spPr>
            <a:xfrm>
              <a:off x="6197760" y="2568600"/>
              <a:ext cx="109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输入文本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6" name="TextBox 47"/>
            <p:cNvSpPr/>
            <p:nvPr/>
          </p:nvSpPr>
          <p:spPr>
            <a:xfrm>
              <a:off x="6197760" y="2749680"/>
              <a:ext cx="109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输入文本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7" name="TextBox 4"/>
          <p:cNvSpPr/>
          <p:nvPr/>
        </p:nvSpPr>
        <p:spPr>
          <a:xfrm>
            <a:off x="1650960" y="451008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TextBox 4"/>
          <p:cNvSpPr/>
          <p:nvPr/>
        </p:nvSpPr>
        <p:spPr>
          <a:xfrm>
            <a:off x="3157560" y="451008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TextBox 4"/>
          <p:cNvSpPr/>
          <p:nvPr/>
        </p:nvSpPr>
        <p:spPr>
          <a:xfrm>
            <a:off x="4572000" y="451008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TextBox 4"/>
          <p:cNvSpPr/>
          <p:nvPr/>
        </p:nvSpPr>
        <p:spPr>
          <a:xfrm>
            <a:off x="6078600" y="451008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1" name="组合 48"/>
          <p:cNvGrpSpPr/>
          <p:nvPr/>
        </p:nvGrpSpPr>
        <p:grpSpPr>
          <a:xfrm>
            <a:off x="0" y="0"/>
            <a:ext cx="1011240" cy="803160"/>
            <a:chOff x="0" y="0"/>
            <a:chExt cx="1011240" cy="803160"/>
          </a:xfrm>
        </p:grpSpPr>
        <p:pic>
          <p:nvPicPr>
            <p:cNvPr id="762" name="图片 49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011240" cy="80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矩形 11"/>
            <p:cNvSpPr/>
            <p:nvPr/>
          </p:nvSpPr>
          <p:spPr>
            <a:xfrm rot="21431400">
              <a:off x="229680" y="169560"/>
              <a:ext cx="644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 Black"/>
                  <a:ea typeface="微软雅黑"/>
                </a:rPr>
                <a:t>2015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4" name="TextBox 1"/>
          <p:cNvSpPr/>
          <p:nvPr/>
        </p:nvSpPr>
        <p:spPr>
          <a:xfrm>
            <a:off x="998640" y="227160"/>
            <a:ext cx="24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5" name="Picture 9" descr="C:\Documents and Settings\Administrator\桌面\素材CNN sccnn.com 388XXC2.jpg"/>
          <p:cNvPicPr/>
          <p:nvPr/>
        </p:nvPicPr>
        <p:blipFill>
          <a:blip r:embed="rId1"/>
          <a:srcRect l="1214" t="10841" r="0" b="5044"/>
          <a:stretch/>
        </p:blipFill>
        <p:spPr>
          <a:xfrm>
            <a:off x="-28440" y="0"/>
            <a:ext cx="9172440" cy="5143680"/>
          </a:xfrm>
          <a:prstGeom prst="rect">
            <a:avLst/>
          </a:prstGeom>
          <a:ln w="0">
            <a:noFill/>
          </a:ln>
        </p:spPr>
      </p:pic>
      <p:grpSp>
        <p:nvGrpSpPr>
          <p:cNvPr id="766" name="矩形 4"/>
          <p:cNvGrpSpPr/>
          <p:nvPr/>
        </p:nvGrpSpPr>
        <p:grpSpPr>
          <a:xfrm>
            <a:off x="-12600" y="0"/>
            <a:ext cx="9180360" cy="5151600"/>
            <a:chOff x="-12600" y="0"/>
            <a:chExt cx="9180360" cy="5151600"/>
          </a:xfrm>
        </p:grpSpPr>
        <p:pic>
          <p:nvPicPr>
            <p:cNvPr id="767" name="矩形 4" descr=""/>
            <p:cNvPicPr/>
            <p:nvPr/>
          </p:nvPicPr>
          <p:blipFill>
            <a:blip r:embed="rId2"/>
            <a:stretch/>
          </p:blipFill>
          <p:spPr>
            <a:xfrm>
              <a:off x="-12600" y="0"/>
              <a:ext cx="9180360" cy="515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8" name=""/>
            <p:cNvSpPr/>
            <p:nvPr/>
          </p:nvSpPr>
          <p:spPr>
            <a:xfrm>
              <a:off x="-12600" y="0"/>
              <a:ext cx="9180360" cy="515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9" name="直接连接符 5"/>
          <p:cNvSpPr/>
          <p:nvPr/>
        </p:nvSpPr>
        <p:spPr>
          <a:xfrm>
            <a:off x="-19080" y="830160"/>
            <a:ext cx="9144000" cy="0"/>
          </a:xfrm>
          <a:prstGeom prst="line">
            <a:avLst/>
          </a:prstGeom>
          <a:ln w="3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矩形 6"/>
          <p:cNvSpPr/>
          <p:nvPr/>
        </p:nvSpPr>
        <p:spPr>
          <a:xfrm>
            <a:off x="-28440" y="858960"/>
            <a:ext cx="9171000" cy="392040"/>
          </a:xfrm>
          <a:prstGeom prst="rect">
            <a:avLst/>
          </a:prstGeom>
          <a:solidFill>
            <a:srgbClr val="c00000"/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1" name="Picture 12" descr=""/>
          <p:cNvPicPr/>
          <p:nvPr/>
        </p:nvPicPr>
        <p:blipFill>
          <a:blip r:embed="rId3"/>
          <a:stretch/>
        </p:blipFill>
        <p:spPr>
          <a:xfrm>
            <a:off x="-257040" y="-76320"/>
            <a:ext cx="7353000" cy="5303880"/>
          </a:xfrm>
          <a:prstGeom prst="rect">
            <a:avLst/>
          </a:prstGeom>
          <a:ln w="0">
            <a:noFill/>
          </a:ln>
        </p:spPr>
      </p:pic>
      <p:grpSp>
        <p:nvGrpSpPr>
          <p:cNvPr id="772" name="组合 61"/>
          <p:cNvGrpSpPr/>
          <p:nvPr/>
        </p:nvGrpSpPr>
        <p:grpSpPr>
          <a:xfrm>
            <a:off x="423720" y="355680"/>
            <a:ext cx="2967120" cy="891000"/>
            <a:chOff x="423720" y="355680"/>
            <a:chExt cx="2967120" cy="891000"/>
          </a:xfrm>
        </p:grpSpPr>
        <p:sp>
          <p:nvSpPr>
            <p:cNvPr id="773" name="TextBox 242"/>
            <p:cNvSpPr/>
            <p:nvPr/>
          </p:nvSpPr>
          <p:spPr>
            <a:xfrm>
              <a:off x="423720" y="355680"/>
              <a:ext cx="2967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404040"/>
                  </a:solidFill>
                  <a:latin typeface="方正综艺简体"/>
                  <a:ea typeface="方正综艺简体"/>
                </a:rPr>
                <a:t>Thank You! 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4" name="TextBox 18"/>
            <p:cNvSpPr/>
            <p:nvPr/>
          </p:nvSpPr>
          <p:spPr>
            <a:xfrm>
              <a:off x="806760" y="847800"/>
              <a:ext cx="9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谢谢观看！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31T05:15:54Z</dcterms:created>
  <dc:creator>锐普PPT</dc:creator>
  <dc:description>本素材由锐普原创，免费分享，版权归锐普PPT所有并受法律保护。欢迎转载，不得销售，不得修改版权信息，并请注明出处：锐普PPT论坛：www.rapidbbs.cn，锐普PPT商城：www.rapidppt.com。否则将承担法律责任。</dc:description>
  <dc:language>en-US</dc:language>
  <cp:lastModifiedBy>Administrator</cp:lastModifiedBy>
  <dcterms:modified xsi:type="dcterms:W3CDTF">2015-03-23T07:09:53Z</dcterms:modified>
  <cp:revision>21</cp:revision>
  <dc:subject/>
  <dc:title>锐普出品-红色3D箭头2013年商务演示PPT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85</vt:lpwstr>
  </property>
</Properties>
</file>