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whoosh.wav" ContentType="audio/x-wav"/>
  <Override PartName="/ppt/media/image5.png" ContentType="image/png"/>
  <Override PartName="/ppt/media/image6.png" ContentType="image/png"/>
  <Override PartName="/ppt/media/applause.wav" ContentType="audio/x-wav"/>
  <Override PartName="/ppt/media/image8.png" ContentType="image/png"/>
  <Override PartName="/ppt/media/wind.wav" ContentType="audio/x-wav"/>
  <Override PartName="/ppt/media/chimes.wav" ContentType="audio/x-wav"/>
  <Override PartName="/ppt/media/click.wav" ContentType="audio/x-wav"/>
  <Override PartName="/ppt/media/hammer.wav" ContentType="audio/x-wav"/>
  <Override PartName="/ppt/media/image2.jpeg" ContentType="image/jpeg"/>
  <Override PartName="/ppt/media/drumroll.wav" ContentType="audio/x-wav"/>
  <Override PartName="/ppt/media/image3.jpeg" ContentType="image/jpeg"/>
  <Override PartName="/ppt/media/voltage.wav" ContentType="audio/x-wav"/>
  <Override PartName="/ppt/media/image4.png" ContentType="image/png"/>
  <Override PartName="/ppt/media/laser.wav" ContentType="audio/x-wav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875-A174-471E-B04D-9AF22E4B8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B841-29D6-42BA-934E-A3FD1A5A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97A25E-2057-477A-9937-D24F8D29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111E1-E651-461B-80E4-819D368B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CB42E2-81F2-42B5-B4C8-D7A79792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85EED9-D946-42A3-9716-18CABAAF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5BBDB7-6655-46B8-B141-D59DDBD4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D01964-0CFE-4F2D-8DAC-9E577629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B11477-5380-4C08-B592-D97B598B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1D306A-07AF-4CA9-94EC-7D58EE747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7469D-73A5-40EA-BCD5-E7C102E7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79B68-C849-491A-93F7-0E5EC68F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FA60-0483-47FA-9005-DED8E8D2D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DB2F02-38C2-4C81-96FD-6788C080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C60DE-902D-4FC0-BD51-DD2BD5B5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41B1CF-319B-439B-8721-8D7E004B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4EC872-1F92-4DFB-8418-F5EEA9204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6EA8DA-F411-4702-BAC7-72F4BE255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2883A-21BC-43AA-8BD0-87B1C02F7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6E901-2AE2-4F27-9BDC-F550EDC6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9C4EC6-C363-4CA3-BBB5-67B5CDBD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7051A-7933-4521-B9B2-C61035CA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94739A-4EF9-4605-9AB3-E78278A4C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BE6-F22B-4428-9056-3DBAA58ED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AACBC-40B3-41CD-AA70-6F2919F8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A1041-FA6F-4FF4-B36E-69E64B982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18E30-5116-4808-9E84-B7C7DA1D2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0F261F-A488-4487-9C1E-1CE8DF0A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6A006E-0439-409B-9740-6EA6DFF01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F145D-3822-4952-BF55-FD8DB7AF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DF3DFD-087F-4FDF-A595-F2FE65433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31ED8A-C2B6-475A-B602-4306954B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A62F1E-056D-49F1-9CC8-2BFEEEB7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CD1AB-F16B-458C-9F9C-D4FE17A4C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5C267-448E-4B1C-A0BB-EAAF37B1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99E528-0D57-4E8B-997B-C37BF144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3FAE3D-C8E7-4458-9E07-25BB4F282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3C0F1-3244-43B9-A3AC-921A3537A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340D46-366B-4E3F-8EA2-952B2201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F2D7A-9676-401C-B1F1-A78904294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E365A-15DE-4DA0-97BB-20FE713D5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8198BA-D34A-4533-BFF5-CDF669AF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0BF13-2716-4BFC-B133-559654CC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87764-698B-4F45-82B3-2D24693B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02EEF1-7767-4306-A3D3-32755C2B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A8EF6B-7DD7-4EB7-9F54-CB7133C7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72C23A-EBA5-46FA-9B38-41DFF12A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36075-9E1D-4BB7-AF6F-7F8CC61D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2D0CC-69E3-49F7-8365-C28BDA4B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D96A1F-35CF-480A-948A-152FCAC42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1E813B-D4EB-4977-B4A0-752DFFDA5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EEED8-6242-4D42-906D-6F37EE78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1300C-FDBF-4946-8693-B17E8599F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1C8DE-9C76-47FF-AA47-A7DB7CB47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28DA80-A2CE-4B09-B228-DB4877B4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CBCBA-2DA3-4C3F-B7EA-CF6F540C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6CC1-C695-473E-B279-492239A3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C7D0CE-5A11-4AF1-B604-6220D10C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EE8FDA-C6AD-4E6E-95CF-052D8F135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80B3F2-ABAD-4B41-8321-7ED44273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2F55CC-4FC0-460F-B5D8-3F988A7CD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36B5B-ECCD-492E-84FF-63849618D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93471-C475-4A1F-9499-8FD29DBB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1D595-EB62-4519-BDB3-B1B099BC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A4112-5ABE-49D6-8881-A785FB36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0733BA-2C7F-4D70-848C-08F60159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C0918-0772-4219-A0FE-826769CA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4B5-CA13-492F-90AB-06BDA9DEC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6EA70-3B30-422F-9EB7-6361F3D9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546BC9-230F-410B-BD20-D9C1E992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085318-E0FA-4FD4-9462-8D04F54A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950C1-0E86-4684-B69F-FA19481A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94A8CD-601E-405F-A549-0E151114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EFC74-90E9-43A0-AD14-35EF25E2F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4764A-D5D0-4B76-8CF6-42C9BBA54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4F5F79-43B7-4D75-B8C8-688FA06D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86BAD1-6067-4166-B0EE-6CEEEEB07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0F4B7E-A867-4BB6-B2BF-79676723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58F0-45D4-4D2A-9676-DCF433620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0E45BA9-7662-41E6-9473-1499D50D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BA9943-2A01-4D29-9970-EB62EC93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27CAC5-7FE5-4BBF-B564-6C6391E3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A667FD-390B-49F0-8A7B-F4380F9AA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E1497C0-3DFC-4748-AD84-1CBBE4AA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AB1BE-8ED1-4FE4-B498-B78B39603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E05714-B8AD-47C8-963B-7E4451A7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0891F-3F19-4EA8-99A5-001B58B8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672A9E-F4BF-4106-80CD-92E4EFC24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61AF7-4E9F-4D85-AFFA-4FE9E931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5CF-3221-4E90-A04D-D0BC0495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4C01FD-AC6A-48BF-954D-139A9AFDA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84DD3D-BCA3-435F-957C-1E3575723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B53436-F431-4BC2-AFC7-3B46D74D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CE5D2-577B-4307-B48B-5A5B46F1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DD0F9C-6324-4F6B-A54D-AB980F53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CC20AF-86D2-43D7-85BF-95EF2347B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4E3EDC-E000-49CE-9B32-589854AF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E3BCDA-39D9-4BE4-B9CC-EBC80B0D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08DE09-5FD7-4F34-A9E6-195709D6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D10D4-7EF9-46F4-9C2A-038DC3C5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E48-37E8-444B-A2E1-DE977945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36E378-7534-4D74-BD2F-8980069C6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CFB5B-6AB8-4160-BBDE-2954BC3BB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E8BBC-81F1-4F2C-9159-996B3BA39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D43CF-B4E8-4F43-9366-4662395D9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3AB0D-6FEF-4504-8DEA-690C42E8D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9690A-B17A-47E4-8833-3C41E6BFE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3B1394-7F9D-4ECC-913D-29BE095D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38B2D-348E-4DF4-9C4C-1E990043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A6B9D-FED2-4743-BAA7-D02B0D947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4C2EC-170D-4C14-9A9C-3A9EA491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8905-EEBA-42B3-AECF-D19E2460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1E0A6-37BB-43B7-8B52-3BA778DE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F2CA7-FBA0-4BD4-8CA2-139493236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2C565-FBF7-48F1-B23E-311CFC8B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23A55A-472B-4F9A-B104-EAB9C4637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929C0-60C1-4B9A-B880-33407B72C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ADA548-1D70-4F52-ADD3-472893932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85E80-FA6C-4DB8-A8D8-4CB0C1323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B27C9-9673-48FA-9F4C-494DDF62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C9ECD7-8904-48FC-8CF4-A35D81B5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0F0B7F-3B12-43C1-8D55-7D8CA0189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CCA0-9AE8-41BD-9F9C-E206FAD3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D1B766-1E7D-452C-B10E-755D2A0A8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E719BC-8C10-4C0C-B103-04B7799F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3D5DF-4A7B-4932-BFF3-13D334487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F8A06B-CCC9-40BD-AEDC-D751BC21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556CC5-A8B6-4700-9359-9561248F0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381887-99A9-49AA-ADF6-B2D59105B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5928F1-7E35-480E-906F-C2C0F7765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DC007C-A7E4-4CA9-A697-1FCA25A02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D4A1CC-E6CA-47F3-A739-79C532BD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358285-D6E4-4275-AC15-D54DFBAE2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E8D-1E06-4ECF-8DD9-B0A01362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229217-D5F4-415B-B7C5-FCF24D1F8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DC6EE-A2CC-44EB-827B-698D2D2F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272239-F483-49BE-B36D-F8AA709E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1BC65-76E2-409D-9265-E44069D8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835C1B-50E8-40AC-99A9-CBCFE1A41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32CD9-D830-4CF9-93EA-57BE5874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FC2E9-5B99-415F-A793-4C8B50428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62B18-BD12-4A21-93A9-568CB142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76FBC3-8B34-4951-AE1D-0861F8DD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170E3-509A-48A0-8B71-49245DB18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B5668-8241-40F1-9E58-D8F653B5C14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2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03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12BE0-BA1A-48A9-8D55-A01AA3D894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3323-BE00-4C0A-9369-9C69A1E8B3DE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dt" idx="3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ftr" idx="3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sldNum" idx="3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E670-277C-4AE9-9035-3CD0C0871D9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F139-4B97-4BBB-AE11-DE307B4454E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63EF0-F343-4353-8E6B-49293DD11B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C696-539A-4770-8C0E-4A4AD6B191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AC69-2A96-4E7C-ABEC-C19531C1C95D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06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07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2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5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dt" idx="16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ftr" idx="17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286E2-2A2F-4C3F-BBD5-67F87EE79356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7366-C8C4-4B50-97D8-C27F4D80B91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11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0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21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5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28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38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41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342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3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344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2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0EED-1D2C-48BB-A0DF-FFA031133BB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95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99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05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09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14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2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53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1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EB381-F447-4EFD-9EC5-EE68DF68758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2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2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hyperlink" Target="http://baike.baidu.com/view/395828.htm#sub395828" TargetMode="External"/><Relationship Id="rId4" Type="http://schemas.openxmlformats.org/officeDocument/2006/relationships/hyperlink" Target="http://baike.baidu.com/view/1204762.htm#sub1204762" TargetMode="External"/><Relationship Id="rId5" Type="http://schemas.openxmlformats.org/officeDocument/2006/relationships/hyperlink" Target="http://baike.baidu.com/view/808293.htm#sub808293" TargetMode="External"/><Relationship Id="rId6" Type="http://schemas.openxmlformats.org/officeDocument/2006/relationships/hyperlink" Target="http://baike.baidu.com/view/71314.htm#sub71314" TargetMode="External"/><Relationship Id="rId7" Type="http://schemas.openxmlformats.org/officeDocument/2006/relationships/hyperlink" Target="http://baike.baidu.com/view/59207.htm#sub59207" TargetMode="External"/><Relationship Id="rId8" Type="http://schemas.openxmlformats.org/officeDocument/2006/relationships/hyperlink" Target="http://baike.baidu.com/view/808291.htm#sub808291" TargetMode="External"/><Relationship Id="rId9" Type="http://schemas.openxmlformats.org/officeDocument/2006/relationships/hyperlink" Target="http://baike.baidu.com/view/26600.htm#sub26600" TargetMode="External"/><Relationship Id="rId10" Type="http://schemas.openxmlformats.org/officeDocument/2006/relationships/hyperlink" Target="http://baike.baidu.com/view/1204762.htm#sub1204762" TargetMode="External"/><Relationship Id="rId11" Type="http://schemas.openxmlformats.org/officeDocument/2006/relationships/hyperlink" Target="http://baike.baidu.com/view/1204758.htm#sub1204758" TargetMode="External"/><Relationship Id="rId12" Type="http://schemas.openxmlformats.org/officeDocument/2006/relationships/hyperlink" Target="http://baike.baidu.com/view/929142.htm#sub929142" TargetMode="External"/><Relationship Id="rId13" Type="http://schemas.openxmlformats.org/officeDocument/2006/relationships/hyperlink" Target="http://baike.baidu.com/view/929142.htm#sub929142" TargetMode="External"/><Relationship Id="rId14" Type="http://schemas.openxmlformats.org/officeDocument/2006/relationships/hyperlink" Target="http://baike.baidu.com/view/929142.htm#sub929142" TargetMode="External"/><Relationship Id="rId15" Type="http://schemas.openxmlformats.org/officeDocument/2006/relationships/hyperlink" Target="http://baike.baidu.com/view/1917210.htm#sub1917210" TargetMode="External"/><Relationship Id="rId16" Type="http://schemas.openxmlformats.org/officeDocument/2006/relationships/hyperlink" Target="http://baike.baidu.com/view/395859.htm#sub395859" TargetMode="External"/><Relationship Id="rId17" Type="http://schemas.openxmlformats.org/officeDocument/2006/relationships/hyperlink" Target="http://baike.baidu.com/view/158147.htm#sub158147" TargetMode="External"/><Relationship Id="rId18" Type="http://schemas.openxmlformats.org/officeDocument/2006/relationships/audio" Target="../media/drumroll.wav"/><Relationship Id="rId19" Type="http://schemas.openxmlformats.org/officeDocument/2006/relationships/slideLayout" Target="../slideLayouts/slideLayout12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hyperlink" Target="http://www.hudong.com/wiki/&#31934;&#31070;" TargetMode="External"/><Relationship Id="rId4" Type="http://schemas.openxmlformats.org/officeDocument/2006/relationships/hyperlink" Target="http://www.hudong.com/wiki/&#23612;&#27850;&#23572;" TargetMode="External"/><Relationship Id="rId5" Type="http://schemas.openxmlformats.org/officeDocument/2006/relationships/hyperlink" Target="http://www.hudong.com/wiki/&#30142;&#30149;" TargetMode="External"/><Relationship Id="rId6" Type="http://schemas.openxmlformats.org/officeDocument/2006/relationships/hyperlink" Target="http://www.hudong.com/wiki/&#20027;&#39064;" TargetMode="External"/><Relationship Id="rId7" Type="http://schemas.openxmlformats.org/officeDocument/2006/relationships/slideLayout" Target="../slideLayouts/slideLayout12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baike.baidu.com/albums/165571/165571/1/2720319.html#2720319$" TargetMode="External"/><Relationship Id="rId2" Type="http://schemas.openxmlformats.org/officeDocument/2006/relationships/slideLayout" Target="../slideLayouts/slideLayout1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baike.baidu.com/view/971946.htm" TargetMode="External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baike.baidu.com/view/606962.htm" TargetMode="External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hudong.com/wiki/&#29983;&#27963;" TargetMode="External"/><Relationship Id="rId2" Type="http://schemas.openxmlformats.org/officeDocument/2006/relationships/hyperlink" Target="http://www.hudong.com/wiki/&#24037;&#20316;" TargetMode="External"/><Relationship Id="rId3" Type="http://schemas.openxmlformats.org/officeDocument/2006/relationships/hyperlink" Target="http://www.hudong.com/wiki/&#30561;&#30496;" TargetMode="External"/><Relationship Id="rId4" Type="http://schemas.openxmlformats.org/officeDocument/2006/relationships/hyperlink" Target="http://www.hudong.com/wiki/&#24863;&#20882;" TargetMode="External"/><Relationship Id="rId5" Type="http://schemas.openxmlformats.org/officeDocument/2006/relationships/hyperlink" Target="http://www.hudong.com/wiki/&#20256;&#26579;&#30149;" TargetMode="External"/><Relationship Id="rId6" Type="http://schemas.openxmlformats.org/officeDocument/2006/relationships/audio" Target="../media/voltage.wav"/><Relationship Id="rId7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ind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世界精神卫生日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517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班班队活动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L 0.25 0.33295 L 0 0.33295 L 0 0 Z">
                                      <p:cBhvr>
                                        <p:cTn id="8" dur="2000" fill="hold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Arial"/>
              </a:rPr>
              <a:t>学了这么多，你们对这个节日有了哪些了解？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68360" y="-360"/>
            <a:ext cx="8229600" cy="50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3"/>
    <p:sndAc>
      <p:stSnd>
        <p:snd r:embed="rId3" name="whoosh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57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66"/>
                </a:solidFill>
                <a:latin typeface="Arial"/>
              </a:rPr>
              <a:t>你们还知道，十月份还有什么节日？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68360" y="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  <p:sndAc>
      <p:stSnd>
        <p:snd r:embed="rId3" name="click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国际老年人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世界镇痛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1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国际音乐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世界住房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月的第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个星期一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7"/>
              </a:rPr>
              <a:t>世界动物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4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8"/>
              </a:rPr>
              <a:t>世界教师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5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9"/>
              </a:rPr>
              <a:t>世界邮政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9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精神卫生日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0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0"/>
              </a:rPr>
              <a:t>世界镇痛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1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1"/>
              </a:rPr>
              <a:t>世界关节炎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2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2"/>
              </a:rPr>
              <a:t>世界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3"/>
              </a:rPr>
              <a:t>60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4"/>
              </a:rPr>
              <a:t>亿人口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2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5"/>
              </a:rPr>
              <a:t>世界保健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3) 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6"/>
              </a:rPr>
              <a:t>国际标准时间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3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17"/>
              </a:rPr>
              <a:t>世界标准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4) ▪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国际减轻自然灾害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月第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个星期三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国际盲人节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5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农村妇女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5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全球洗手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5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粮食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6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国际消除贫困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17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厨师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0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骨质疏松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0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传统医药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2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联合国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4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发展信息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4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男性健康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8) 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世界勤俭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31) </a:t>
            </a:r>
            <a:br>
              <a:rPr sz="2400"/>
            </a:b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▪ </a:t>
            </a:r>
            <a:r>
              <a:rPr b="1" lang="zh-CN" sz="2400" spc="-1" strike="noStrike">
                <a:solidFill>
                  <a:srgbClr val="ffff66"/>
                </a:solidFill>
                <a:latin typeface="Arial"/>
              </a:rPr>
              <a:t>国际和平与民主自由斗争日 </a:t>
            </a:r>
            <a:r>
              <a:rPr b="0" lang="zh-CN" sz="2400" spc="-1" strike="noStrike">
                <a:solidFill>
                  <a:srgbClr val="ffff66"/>
                </a:solidFill>
                <a:latin typeface="Arial"/>
              </a:rPr>
              <a:t>( 10.2) </a:t>
            </a:r>
            <a:br>
              <a:rPr sz="2400"/>
            </a:b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6019560"/>
            <a:ext cx="822960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/>
    <p:sndAc>
      <p:stSnd>
        <p:snd r:embed="rId18" name="drumroll.wav"/>
      </p:stSnd>
    </p:sndAc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7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630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谢谢观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/>
    <p:sndAc>
      <p:stSnd>
        <p:snd r:embed="rId2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755640" y="2349360"/>
            <a:ext cx="8582040" cy="505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同学们，你们了解世界精神卫生日吗？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4508640"/>
            <a:ext cx="6858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们知道世界卫生日是几月几日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hecker dir="horz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66"/>
                </a:solidFill>
                <a:latin typeface="Arial"/>
              </a:rPr>
              <a:t>节日由来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052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日是世界精神卫生日，由世界精神卫生联盟提出。为了提高政府部门、社会各界，广大群众对精神卫生重要性和迫切性的认识，普及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3"/>
              </a:rPr>
              <a:t>精神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卫生知识和对精神疾病的认识，计划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日前后在全国开展“世界精神卫生日”宣传活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在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991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年，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4"/>
              </a:rPr>
              <a:t>尼泊尔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提交了第一份关于“世界精神卫生日”活动的报告。随后的十多年里，许多国家参与进来，将每年的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日作为特殊的日子：提高公众对精神疾病的认识，分享科学有效的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5"/>
              </a:rPr>
              <a:t>疾病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知识，消除公众的偏见。世界卫生组织确定每年的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日为“世界精神卫生日”。 至今已先后举办了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3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届活动，结合现实情况和精神卫生的需要，确定每年的活动</a:t>
            </a:r>
            <a:r>
              <a:rPr b="0" lang="zh-CN" sz="2400" spc="-1" strike="noStrike" u="sng">
                <a:solidFill>
                  <a:srgbClr val="66ffff"/>
                </a:solidFill>
                <a:uFillTx/>
                <a:latin typeface="Arial"/>
                <a:hlinkClick r:id="rId6"/>
              </a:rPr>
              <a:t>主题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世界精神卫生日”是由世界精神病学协会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World Psychiatric Association WPA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）在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992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年发起的，时间是每年的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月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日。世界各国每年都为“精神卫生日”准备丰富而周密的活动。包括宣传、拍摄促进精神健康的录像片、开设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24</a:t>
            </a:r>
            <a:r>
              <a:rPr b="0" lang="zh-CN" sz="2400" spc="-1" strike="noStrike">
                <a:solidFill>
                  <a:srgbClr val="ff33cc"/>
                </a:solidFill>
                <a:latin typeface="Arial"/>
              </a:rPr>
              <a:t>小时服务的心理支持热线、播放专题片等等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4" dur="2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340000" y="-360"/>
            <a:ext cx="374472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996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卫生日的主题是：积极的形象，积极的行动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1997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卫生日的主题是：女性和精神卫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1999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卫生日的主题是：精神卫生和衰老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20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卫生日的主题是：健康体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健康心理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美好人生 </a:t>
            </a:r>
            <a:r>
              <a:rPr b="0" lang="zh-CN" sz="2800" spc="-1" strike="noStrike" u="sng">
                <a:solidFill>
                  <a:srgbClr val="99ff66"/>
                </a:solidFill>
                <a:uFillTx/>
                <a:latin typeface="Arial"/>
                <a:hlinkClick r:id="rId1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200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精神卫生日的主题是：行动起来，促进精神健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200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精神卫生日的主题是：精神创伤和暴力对儿童的影响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200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精神卫生日的主题是：抑郁影响每个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·2004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年世界精神卫生日的主题是：儿童、青少年精神健康：快乐心情，健康行为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2987640" y="260280"/>
            <a:ext cx="234648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历年主题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split dir="in" orient="horz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7929360" cy="37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05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身心健康、幸福一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06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健身健心，你我同行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07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健康睡眠与和谐社会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08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同享奥运精神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共促身心健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09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行动起来，促进精神健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10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沟通理解关爱 心理和谐健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·2011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承担共同责任，促进精神健康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年世界精神卫生日的主题是：精神健康伴老龄，安乐幸福享晚年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3492360" y="333360"/>
            <a:ext cx="20163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历年主题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ll dir="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5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5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500"/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500"/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500"/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5" dur="500"/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500"/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行动起来，促进精神健康</a:t>
            </a: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世界卫生组织近日发表的《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001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年世界卫生报告》说，目前全世界共约有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4.5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亿各类精神和脑部疾病患者，每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个人中就有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人在其一生中的某个时段产生某种精神障碍，精神卫生已经成为一个突出的社会问题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　</a:t>
            </a:r>
            <a:r>
              <a:rPr b="0" lang="zh-CN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精神障碍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是一类严重威胁人民健康的疾病，精神卫生工作既包括防治各类精神疾病，也包括减少和预防各类不良心理及行为问题的发生。精神疾患已成为当前我国疾病分类中较为严重的一类疾病。按照国际上衡量健康状况的伤残调整生命年指标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(DALYs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评价各类疾病的总全负担，精神疾患在我国疾病总负担的排名中居首位，已超过了心脑血管、呼吸系统及恶性肿瘤等疾患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(WHO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996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年资料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。各类精神问题约占疾病总负担的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/5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，即占全部疾病和外伤所致残疾及劳动力丧失的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/5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。据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993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年抽样调查表明，国内各类精神病的总患病率由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982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年的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2.69‰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上升至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13.47‰(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不含神经症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。这些精神疾病不仅严重影响了患者本人及其家属的生活质量，损害了他们的身心健康，而且也会产生不良的社会影响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cover dir="u"/>
    <p:sndAc>
      <p:stSnd>
        <p:snd r:embed="rId2" name="laser.wav"/>
      </p:stSnd>
    </p:sndAc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2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行动起来，促进精神健康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另外，随着我国国民经济的发展，社会经济体制改革日益深入，社会竞争不断加剧，劳动力的重新组合，人口和家庭结构的变化，原有社会支持网络的削弱，导致了各种心理应激因素急剧增加，精神卫生问题日益突出。儿童的行为问题、大中学生的心理卫生问题、老年期精神障碍、酒精与麻醉药品滥用以及自杀等问题明显增多。根据预测，进入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世纪后我国各类精神卫生问题将更加突出。在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2020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年的疾病总负担预测值中，精神卫生问题仍将排名第一。所以，积极预防不良心理和行为问题的发生，也是当前精神卫生工作应该立即采取的行动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　　目前，由于精神卫生知识尚不普及，宣传力度不够，大多数人对精神疾病认识不足，对患者缺乏应有的理解和同情，偏见与歧视现象较严重，致使一些精神疾病康复者不能顺利回归社会大家庭，产生了强烈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?quot;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病耻感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。一些患者和家属即便具有一定的精神卫生知识，认识到疾病的性质，多数人也宁可自己忍受痛苦而不愿寻求</a:t>
            </a:r>
            <a:r>
              <a:rPr b="0" lang="zh-CN" sz="18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精神科医生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的帮助，害怕因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精神病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"</a:t>
            </a:r>
            <a:r>
              <a:rPr b="0" lang="zh-CN" sz="1800" spc="-1" strike="noStrike">
                <a:solidFill>
                  <a:srgbClr val="000000"/>
                </a:solidFill>
                <a:latin typeface="Comic Sans MS"/>
              </a:rPr>
              <a:t>而受歧视，结果延误了治疗，病情加重。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7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90" dur="12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897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7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7" fill="hold">
                                          <p:stCondLst>
                                            <p:cond delay="897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5e5ff"/>
                </a:solidFill>
                <a:latin typeface="Garamond"/>
              </a:rPr>
              <a:t>世界精神卫生日 </a:t>
            </a:r>
            <a:r>
              <a:rPr b="0" lang="zh-CN" sz="4000" spc="-1" strike="noStrike">
                <a:solidFill>
                  <a:srgbClr val="e5e5ff"/>
                </a:solidFill>
                <a:latin typeface="Garamond"/>
              </a:rPr>
              <a:t>- </a:t>
            </a:r>
            <a:r>
              <a:rPr b="0" lang="zh-CN" sz="4000" spc="-1" strike="noStrike">
                <a:solidFill>
                  <a:srgbClr val="e5e5ff"/>
                </a:solidFill>
                <a:latin typeface="Garamond"/>
              </a:rPr>
              <a:t>心理健康标准 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39640" y="11970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有足够充沛的精力，能从容不迫地应付日常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1"/>
              </a:rPr>
              <a:t>生活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2"/>
              </a:rPr>
              <a:t>工作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的压力而不感到过分紧张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处事乐观，态度积极，乐于承担责任，事无巨细不挑剔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善于休息，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3"/>
              </a:rPr>
              <a:t>睡眠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良好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4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应变能力强，能适应外界环境的各种变化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5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能抵抗一般性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4"/>
              </a:rPr>
              <a:t>感冒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和</a:t>
            </a:r>
            <a:r>
              <a:rPr b="0" lang="zh-CN" sz="2400" spc="-1" strike="noStrike" u="sng">
                <a:solidFill>
                  <a:srgbClr val="ffcc00"/>
                </a:solidFill>
                <a:uFillTx/>
                <a:latin typeface="Garamond"/>
                <a:hlinkClick r:id="rId5"/>
              </a:rPr>
              <a:t>传染病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6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体重得当，身材均匀，站立时，头、肩、臂位置协调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7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眼睛明亮，反应敏锐，眼睑不易发炎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8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牙齿清洁，无空洞，无痛感，齿龈颜色正常，无出血现象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头发有光泽、无头屑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．肌肉、皮肤有弹性。其中前四条为心理健康的内容，后六条则为生物学方面的内容（生理、形态）。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wipe dir="d"/>
    <p:sndAc>
      <p:stSnd>
        <p:snd r:embed="rId6" name="voltage.wav"/>
      </p:stSnd>
    </p:sndAc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6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6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6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6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6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6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/>
                                        <p:tgtEl>
                                          <p:spTgt spid="6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Arial"/>
              </a:rPr>
              <a:t>疾患统计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据专家介绍，随着社会竞争的加剧，轻度的精神疾病如抑郁症、孤独症、焦虑症等心理障碍病人像感冒一样普遍。令专家异常担忧的是，我国精神疾病患者已达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1600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万人，接受治疗的人数却只占全部病人的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20%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，八成病人缺乏治疗。除了经济原因外，很多精神病患者和家属没有认识到抑郁症等精神疾病的害处，或者害怕受到世俗偏见的歧视，讳疾忌医。专家特别提醒：精神疾病并不可怕。患上抑郁症等精神疾病，要积极治疗，切莫讳疾忌医。不妨告诉自己：“我只是情绪感冒了，现在很痛苦，但只要治疗一下就会好的。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randomBar dir="vert"/>
    <p:sndAc>
      <p:stSnd>
        <p:snd r:embed="rId1" name="wind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5T12:07:18Z</dcterms:created>
  <dc:creator>微软用户</dc:creator>
  <dc:description/>
  <dc:language>en-US</dc:language>
  <cp:lastModifiedBy>微软用户</cp:lastModifiedBy>
  <dcterms:modified xsi:type="dcterms:W3CDTF">2012-09-27T12:57:52Z</dcterms:modified>
  <cp:revision>4</cp:revision>
  <dc:subject/>
  <dc:title>世界精神卫生日</dc:title>
</cp:coreProperties>
</file>