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43D0-534E-42EB-94D1-7573F4012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4056-F742-4706-AD85-A9711380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1729-0255-41EF-882F-DD0928F6B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08F7-56BC-4411-A30D-51F197650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D070-2105-415D-88D9-CC73BB4D0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6C3A-34F9-49E0-B374-D8E4A00D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FE5A-86E4-4AB1-80FC-48DE1D68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35E7-0213-4470-8587-406C76E0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17DB-E048-48EC-9374-FBE8D459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E160-DA44-4BF4-91A3-F30174A0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4525-977C-4740-9B66-E852D023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85BA-68FA-4116-BDD4-7559075E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AFDA-AB04-4912-9845-53253125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FD34-0EA6-4E08-8E41-E6782EEA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729D-7010-4D1B-8465-5234C73C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E563-3872-4E92-B57E-A7BAC4A1F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E382-2AD3-434A-B01C-CE1019B2D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F346-F2FF-445E-99F5-EC870377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C38F-F814-4275-B49D-15A045BE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FB0B-49E9-461D-B29A-10CCE1FE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B398-68F6-479A-9DDA-74BE92B3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EF08-FF66-4D57-A25A-261CAC72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488A-9B49-4051-A4F9-E3F37C57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2E90-8501-4CA9-854C-AB17DA76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F902-3932-4E4D-85AF-3710F7649EF6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5AB5-2CF7-49FE-A239-C96D7D6FE110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84360" y="2276640"/>
            <a:ext cx="79246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00"/>
                </a:solidFill>
                <a:latin typeface="Times New Roman"/>
                <a:ea typeface="华文新魏"/>
              </a:rPr>
              <a:t>　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推广普通话　说好普通话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1752480"/>
            <a:ext cx="7391520" cy="47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　</a:t>
            </a:r>
            <a:r>
              <a:rPr b="1" lang="zh-CN" sz="44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n”</a:t>
            </a:r>
            <a:r>
              <a:rPr b="1" lang="zh-CN" sz="44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和“</a:t>
            </a:r>
            <a:r>
              <a:rPr b="1" lang="zh-CN" sz="44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l”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例：过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年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（读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nian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，不读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lian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n”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你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们    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哪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里   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念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头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12636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、边鼻音和前后鼻韵母的发音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556272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l”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行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李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拉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车  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连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914400"/>
            <a:ext cx="7924680" cy="33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宋体"/>
              </a:rPr>
              <a:t>　“</a:t>
            </a:r>
            <a:r>
              <a:rPr b="1" lang="zh-CN" sz="4400" spc="-1" strike="noStrike">
                <a:solidFill>
                  <a:srgbClr val="5b5249"/>
                </a:solidFill>
                <a:latin typeface="宋体"/>
              </a:rPr>
              <a:t>eng”</a:t>
            </a:r>
            <a:r>
              <a:rPr b="1" lang="zh-CN" sz="4400" spc="-1" strike="noStrike">
                <a:solidFill>
                  <a:srgbClr val="5b5249"/>
                </a:solidFill>
                <a:latin typeface="宋体"/>
              </a:rPr>
              <a:t>和“</a:t>
            </a:r>
            <a:r>
              <a:rPr b="1" lang="zh-CN" sz="4400" spc="-1" strike="noStrike">
                <a:solidFill>
                  <a:srgbClr val="5b5249"/>
                </a:solidFill>
                <a:latin typeface="宋体"/>
              </a:rPr>
              <a:t>en”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例：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城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市（读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cheng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，不读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chen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4937040"/>
            <a:ext cx="77724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en”</a:t>
            </a:r>
            <a:r>
              <a:rPr b="1" lang="zh-CN" sz="3600" spc="-1" strike="noStrike">
                <a:solidFill>
                  <a:srgbClr val="c3e684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早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晨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陈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老师  乡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镇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身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体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3778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eng”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成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功 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乘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车 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程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老师  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政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府  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生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活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95280" y="1309680"/>
            <a:ext cx="7239240" cy="33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　</a:t>
            </a: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ing”</a:t>
            </a: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和“</a:t>
            </a: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in”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例：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英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雄（读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ying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，不读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yin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34732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ing” 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惊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奇   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领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导  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形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状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4678200"/>
            <a:ext cx="63244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in”  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进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步   森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林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新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事</a:t>
            </a:r>
            <a:r>
              <a:rPr b="1" lang="zh-CN" sz="2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52480" y="1355760"/>
            <a:ext cx="7239240" cy="24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、平翘舌的发音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　</a:t>
            </a:r>
            <a:r>
              <a:rPr b="1" lang="zh-CN" sz="44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sh”</a:t>
            </a:r>
            <a:r>
              <a:rPr b="1" lang="zh-CN" sz="44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和“</a:t>
            </a:r>
            <a:r>
              <a:rPr b="1" lang="zh-CN" sz="44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s”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例：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师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长（读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shi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，不读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si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4054320"/>
            <a:ext cx="7239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sh”  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沙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漠     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社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会    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说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话    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树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林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4998960"/>
            <a:ext cx="7010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s”  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洒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水     颜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色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所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长    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速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度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23880" y="1125360"/>
            <a:ext cx="7239240" cy="40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宋体"/>
              </a:rPr>
              <a:t>　</a:t>
            </a:r>
            <a:r>
              <a:rPr b="1" lang="zh-CN" sz="4400" spc="-1" strike="noStrike">
                <a:solidFill>
                  <a:srgbClr val="5b5249"/>
                </a:solidFill>
                <a:latin typeface="宋体"/>
              </a:rPr>
              <a:t>“</a:t>
            </a:r>
            <a:r>
              <a:rPr b="1" lang="zh-CN" sz="4400" spc="-1" strike="noStrike">
                <a:solidFill>
                  <a:srgbClr val="5b5249"/>
                </a:solidFill>
                <a:latin typeface="宋体"/>
              </a:rPr>
              <a:t>zh”</a:t>
            </a:r>
            <a:r>
              <a:rPr b="1" lang="zh-CN" sz="4400" spc="-1" strike="noStrike">
                <a:solidFill>
                  <a:srgbClr val="5b5249"/>
                </a:solidFill>
                <a:latin typeface="宋体"/>
              </a:rPr>
              <a:t>和“</a:t>
            </a:r>
            <a:r>
              <a:rPr b="1" lang="zh-CN" sz="4400" spc="-1" strike="noStrike">
                <a:solidFill>
                  <a:srgbClr val="5b5249"/>
                </a:solidFill>
                <a:latin typeface="宋体"/>
              </a:rPr>
              <a:t>z”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例：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支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持（读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zhi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不读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zi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33829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zh”</a:t>
            </a:r>
            <a:r>
              <a:rPr b="1" lang="zh-CN" sz="3200" spc="-1" strike="noStrike">
                <a:solidFill>
                  <a:srgbClr val="c3e684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炸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弹     建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筑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照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03960" y="4602240"/>
            <a:ext cx="539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z”</a:t>
            </a:r>
            <a:r>
              <a:rPr b="1" lang="zh-CN" sz="3200" spc="-1" strike="noStrike">
                <a:solidFill>
                  <a:srgbClr val="c3e684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打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杂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组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织     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遭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遇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219320" y="1049400"/>
            <a:ext cx="6933960" cy="40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宋体"/>
              </a:rPr>
              <a:t>　</a:t>
            </a:r>
            <a:r>
              <a:rPr b="1" lang="zh-CN" sz="4400" spc="-1" strike="noStrike">
                <a:solidFill>
                  <a:srgbClr val="5b5249"/>
                </a:solidFill>
                <a:latin typeface="宋体"/>
              </a:rPr>
              <a:t>“</a:t>
            </a:r>
            <a:r>
              <a:rPr b="1" lang="zh-CN" sz="4400" spc="-1" strike="noStrike">
                <a:solidFill>
                  <a:srgbClr val="5b5249"/>
                </a:solidFill>
                <a:latin typeface="宋体"/>
              </a:rPr>
              <a:t>ch”</a:t>
            </a:r>
            <a:r>
              <a:rPr b="1" lang="zh-CN" sz="4400" spc="-1" strike="noStrike">
                <a:solidFill>
                  <a:srgbClr val="5b5249"/>
                </a:solidFill>
                <a:latin typeface="宋体"/>
              </a:rPr>
              <a:t>和“</a:t>
            </a:r>
            <a:r>
              <a:rPr b="1" lang="zh-CN" sz="4400" spc="-1" strike="noStrike">
                <a:solidFill>
                  <a:srgbClr val="5b5249"/>
                </a:solidFill>
                <a:latin typeface="宋体"/>
              </a:rPr>
              <a:t>c”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3e684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例：</a:t>
            </a:r>
            <a:r>
              <a:rPr b="1" lang="zh-CN" sz="3200" spc="-1" strike="noStrike" u="sng">
                <a:solidFill>
                  <a:srgbClr val="ff5050"/>
                </a:solidFill>
                <a:uFillTx/>
                <a:latin typeface="楷体_GB2312"/>
                <a:ea typeface="楷体_GB2312"/>
              </a:rPr>
              <a:t>吃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饭（读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chi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，不读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ci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2480" y="338292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ch”</a:t>
            </a:r>
            <a:r>
              <a:rPr b="1" lang="zh-CN" sz="3200" spc="-1" strike="noStrike">
                <a:solidFill>
                  <a:srgbClr val="c3e684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出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门    出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差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重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庆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46782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c”</a:t>
            </a:r>
            <a:r>
              <a:rPr b="1" lang="zh-CN" sz="3200" spc="-1" strike="noStrike">
                <a:solidFill>
                  <a:srgbClr val="c3e684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促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进    刚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才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从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来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286000" y="1981080"/>
            <a:ext cx="4876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、克服方言混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76130" t="51806" r="0" b="8525"/>
          <a:stretch/>
        </p:blipFill>
        <p:spPr>
          <a:xfrm>
            <a:off x="5562720" y="4836960"/>
            <a:ext cx="358128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43000" y="12492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a3d7a"/>
                </a:solidFill>
                <a:latin typeface="Times New Roman"/>
              </a:rPr>
              <a:t>（三）平翘舌音的记忆方法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26812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穿糖葫芦法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记少不记多法</a:t>
            </a:r>
            <a:r>
              <a:rPr b="1" lang="zh-CN" sz="2800" spc="-1" strike="noStrike">
                <a:solidFill>
                  <a:srgbClr val="c3e68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52722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聆听模仿法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30481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词、饲、嗣、伺、祠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243828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司” 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i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4400" y="1447920"/>
            <a:ext cx="20574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联想记忆法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3733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趣味绕口令记忆法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143000"/>
            <a:ext cx="4495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5050"/>
                </a:solidFill>
                <a:latin typeface="宋体"/>
              </a:rPr>
              <a:t>自” ，字、资、紫、渍；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只、直、制、纸、芝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7080" y="3505320"/>
            <a:ext cx="381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树上有个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涩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柿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子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，树下有个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石狮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子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，风吹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柿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树哗哗响，树上掉下了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涩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柿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子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柿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子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打着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石狮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子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狮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子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碰坏了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涩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柿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子</a:t>
            </a:r>
            <a:r>
              <a:rPr b="0" lang="zh-CN" sz="2800" spc="-1" strike="noStrike">
                <a:solidFill>
                  <a:srgbClr val="5b5249"/>
                </a:solidFill>
                <a:latin typeface="宋体"/>
              </a:rPr>
              <a:t>”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1371600"/>
            <a:ext cx="4800600" cy="1219320"/>
          </a:xfrm>
          <a:prstGeom prst="ellipse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156852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一、什么是普通话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30448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仿宋_GB2312"/>
                <a:ea typeface="仿宋_GB2312"/>
              </a:rPr>
              <a:t>　　</a:t>
            </a:r>
            <a:r>
              <a:rPr b="1" lang="zh-CN" sz="3600" spc="-1" strike="noStrike">
                <a:solidFill>
                  <a:srgbClr val="cc0099"/>
                </a:solidFill>
                <a:latin typeface="仿宋_GB2312"/>
                <a:ea typeface="仿宋_GB2312"/>
              </a:rPr>
              <a:t>“以北京语音为标准音，以北方话为基础方言，以典范的现代白话文著作为语法规范的现代汉民族共同语”</a:t>
            </a:r>
            <a:r>
              <a:rPr b="0" lang="zh-CN" sz="3200" spc="-1" strike="noStrike">
                <a:solidFill>
                  <a:srgbClr val="cc0099"/>
                </a:solidFill>
                <a:latin typeface="仿宋_GB2312"/>
                <a:ea typeface="仿宋_GB2312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14400" y="1066680"/>
            <a:ext cx="7467480" cy="9144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11430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二、推广普通话的重要性和必要性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26668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仿宋_GB2312"/>
              </a:rPr>
              <a:t>是社会交往的需要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411480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仿宋_GB2312"/>
              </a:rPr>
              <a:t>是两个文明建设的要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556272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仿宋_GB2312"/>
              </a:rPr>
              <a:t>是每个公民的权利和义务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52480" y="5791320"/>
            <a:ext cx="171720" cy="171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752480" y="4343400"/>
            <a:ext cx="171720" cy="171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752480" y="2895480"/>
            <a:ext cx="171720" cy="1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371600" y="1295280"/>
            <a:ext cx="5029200" cy="83844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460224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（二）重庆人说普通话应注意几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13399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三、怎样说好普通话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28494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宋体"/>
              </a:rPr>
              <a:t>（一</a:t>
            </a:r>
            <a:r>
              <a:rPr b="1" lang="zh-CN" sz="3200" spc="-1" strike="noStrike">
                <a:solidFill>
                  <a:srgbClr val="5b5249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5b5249"/>
                </a:solidFill>
                <a:latin typeface="宋体"/>
              </a:rPr>
              <a:t>转变观念，大胆地说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90720" y="1447920"/>
            <a:ext cx="8153280" cy="54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3e684"/>
                </a:solidFill>
                <a:latin typeface="Times New Roman"/>
                <a:ea typeface="楷体_GB2312"/>
              </a:rPr>
              <a:t>　 </a:t>
            </a:r>
            <a:r>
              <a:rPr b="0" lang="zh-CN" sz="4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e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与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“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uo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3e684"/>
                </a:solidFill>
                <a:latin typeface="Times New Roman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例：</a:t>
            </a:r>
            <a:r>
              <a:rPr b="1" lang="zh-CN" sz="3600" spc="-1" strike="noStrike" u="sng">
                <a:solidFill>
                  <a:srgbClr val="cc0099"/>
                </a:solidFill>
                <a:uFillTx/>
                <a:latin typeface="Times New Roman"/>
                <a:ea typeface="楷体_GB2312"/>
              </a:rPr>
              <a:t>河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水（读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he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，不读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huo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 u="sng">
                <a:solidFill>
                  <a:srgbClr val="cc0099"/>
                </a:solidFill>
                <a:uFillTx/>
                <a:latin typeface="Times New Roman"/>
                <a:ea typeface="楷体_GB2312"/>
              </a:rPr>
              <a:t>喝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水   </a:t>
            </a:r>
            <a:r>
              <a:rPr b="1" lang="zh-CN" sz="3600" spc="-1" strike="noStrike" u="sng">
                <a:solidFill>
                  <a:srgbClr val="cc0099"/>
                </a:solidFill>
                <a:uFillTx/>
                <a:latin typeface="Times New Roman"/>
                <a:ea typeface="楷体_GB2312"/>
              </a:rPr>
              <a:t>禾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苗   </a:t>
            </a:r>
            <a:r>
              <a:rPr b="1" lang="zh-CN" sz="3600" spc="-1" strike="noStrike" u="sng">
                <a:solidFill>
                  <a:srgbClr val="cc0099"/>
                </a:solidFill>
                <a:uFillTx/>
                <a:latin typeface="Times New Roman"/>
                <a:ea typeface="楷体_GB2312"/>
              </a:rPr>
              <a:t>何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科长  </a:t>
            </a:r>
            <a:r>
              <a:rPr b="1" lang="zh-CN" sz="3600" spc="-1" strike="noStrike" u="sng">
                <a:solidFill>
                  <a:srgbClr val="cc0099"/>
                </a:solidFill>
                <a:uFillTx/>
                <a:latin typeface="Times New Roman"/>
                <a:ea typeface="楷体_GB2312"/>
              </a:rPr>
              <a:t>荷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花  祝</a:t>
            </a:r>
            <a:r>
              <a:rPr b="1" lang="zh-CN" sz="3600" spc="-1" strike="noStrike" u="sng">
                <a:solidFill>
                  <a:srgbClr val="cc0099"/>
                </a:solidFill>
                <a:uFillTx/>
                <a:latin typeface="Times New Roman"/>
                <a:ea typeface="楷体_GB2312"/>
              </a:rPr>
              <a:t>贺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 u="sng">
                <a:solidFill>
                  <a:srgbClr val="cc0099"/>
                </a:solidFill>
                <a:uFillTx/>
                <a:latin typeface="Times New Roman"/>
                <a:ea typeface="楷体_GB2312"/>
              </a:rPr>
              <a:t>盒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子   </a:t>
            </a:r>
            <a:r>
              <a:rPr b="1" lang="zh-CN" sz="3600" spc="-1" strike="noStrike" u="sng">
                <a:solidFill>
                  <a:srgbClr val="cc0099"/>
                </a:solidFill>
                <a:uFillTx/>
                <a:latin typeface="Times New Roman"/>
                <a:ea typeface="楷体_GB2312"/>
              </a:rPr>
              <a:t>褐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色   丹顶</a:t>
            </a:r>
            <a:r>
              <a:rPr b="1" lang="zh-CN" sz="3600" spc="-1" strike="noStrike" u="sng">
                <a:solidFill>
                  <a:srgbClr val="cc0099"/>
                </a:solidFill>
                <a:uFillTx/>
                <a:latin typeface="Times New Roman"/>
                <a:ea typeface="楷体_GB2312"/>
              </a:rPr>
              <a:t>鹤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 u="sng">
                <a:solidFill>
                  <a:srgbClr val="cc0099"/>
                </a:solidFill>
                <a:uFillTx/>
                <a:latin typeface="Times New Roman"/>
                <a:ea typeface="楷体_GB2312"/>
              </a:rPr>
              <a:t>合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作</a:t>
            </a:r>
            <a:r>
              <a:rPr b="0" lang="zh-CN" sz="32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3399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  <a:ea typeface="仿宋_GB2312"/>
              </a:rPr>
              <a:t>1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  <a:ea typeface="仿宋_GB2312"/>
              </a:rPr>
              <a:t>、地方话发音与普通话发音的区别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828800" y="1533600"/>
            <a:ext cx="6477120" cy="44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宋体"/>
              </a:rPr>
              <a:t>　</a:t>
            </a:r>
            <a:r>
              <a:rPr b="1" lang="zh-CN" sz="5400" spc="-1" strike="noStrike">
                <a:solidFill>
                  <a:srgbClr val="2a3d7a"/>
                </a:solidFill>
                <a:latin typeface="宋体"/>
              </a:rPr>
              <a:t>“</a:t>
            </a:r>
            <a:r>
              <a:rPr b="1" lang="zh-CN" sz="5400" spc="-1" strike="noStrike">
                <a:solidFill>
                  <a:srgbClr val="2a3d7a"/>
                </a:solidFill>
                <a:latin typeface="宋体"/>
              </a:rPr>
              <a:t>u”</a:t>
            </a:r>
            <a:r>
              <a:rPr b="1" lang="zh-CN" sz="3600" spc="-1" strike="noStrike">
                <a:solidFill>
                  <a:srgbClr val="2a3d7a"/>
                </a:solidFill>
                <a:latin typeface="宋体"/>
              </a:rPr>
              <a:t>　与　“</a:t>
            </a:r>
            <a:r>
              <a:rPr b="1" lang="zh-CN" sz="3600" spc="-1" strike="noStrike">
                <a:solidFill>
                  <a:srgbClr val="2a3d7a"/>
                </a:solidFill>
                <a:latin typeface="宋体"/>
              </a:rPr>
              <a:t>Ü”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例：教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宋体"/>
              </a:rPr>
              <a:t>育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（读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yǜ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，不读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yu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 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跃跃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宋体"/>
              </a:rPr>
              <a:t>欲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试    地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宋体"/>
              </a:rPr>
              <a:t>狱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47920" y="1461960"/>
            <a:ext cx="7010280" cy="46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</a:t>
            </a:r>
            <a:r>
              <a:rPr b="0" lang="zh-CN" sz="4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　</a:t>
            </a: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cc0000"/>
                </a:solidFill>
                <a:latin typeface="宋体"/>
              </a:rPr>
              <a:t>ei</a:t>
            </a: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与</a:t>
            </a: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cc0000"/>
                </a:solidFill>
                <a:latin typeface="宋体"/>
              </a:rPr>
              <a:t>ui</a:t>
            </a: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”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例：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Times New Roman"/>
                <a:ea typeface="楷体_GB2312"/>
              </a:rPr>
              <a:t>类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型（读“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lei”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，不读“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lui”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） 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劳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Times New Roman"/>
                <a:ea typeface="楷体_GB2312"/>
              </a:rPr>
              <a:t>累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Times New Roman"/>
                <a:ea typeface="楷体_GB2312"/>
              </a:rPr>
              <a:t>泪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水  打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Times New Roman"/>
                <a:ea typeface="楷体_GB2312"/>
              </a:rPr>
              <a:t>雷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   石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Times New Roman"/>
                <a:ea typeface="楷体_GB2312"/>
              </a:rPr>
              <a:t>磊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  花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Times New Roman"/>
                <a:ea typeface="楷体_GB2312"/>
              </a:rPr>
              <a:t>蕾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4920" y="1219320"/>
            <a:ext cx="8839080" cy="34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楷体_GB2312"/>
                <a:ea typeface="楷体_GB2312"/>
              </a:rPr>
              <a:t>　</a:t>
            </a:r>
            <a:r>
              <a:rPr b="0" lang="zh-CN" sz="4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　</a:t>
            </a:r>
            <a:r>
              <a:rPr b="1" lang="zh-CN" sz="5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5b5249"/>
                </a:solidFill>
                <a:latin typeface="宋体"/>
              </a:rPr>
              <a:t>en</a:t>
            </a:r>
            <a:r>
              <a:rPr b="1" lang="zh-CN" sz="5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”</a:t>
            </a:r>
            <a:r>
              <a:rPr b="1" lang="zh-CN" sz="5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　</a:t>
            </a:r>
            <a:r>
              <a:rPr b="1" lang="zh-CN" sz="4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与　</a:t>
            </a:r>
            <a:r>
              <a:rPr b="1" lang="zh-CN" sz="5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5b5249"/>
                </a:solidFill>
                <a:latin typeface="宋体"/>
              </a:rPr>
              <a:t>un</a:t>
            </a:r>
            <a:r>
              <a:rPr b="1" lang="zh-CN" sz="5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”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3e684"/>
                </a:solidFill>
                <a:latin typeface="楷体_GB2312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例：矛</a:t>
            </a:r>
            <a:r>
              <a:rPr b="1" lang="zh-CN" sz="3600" spc="-1" strike="noStrike" u="sng">
                <a:solidFill>
                  <a:srgbClr val="ff5050"/>
                </a:solidFill>
                <a:uFillTx/>
                <a:latin typeface="楷体_GB2312"/>
                <a:ea typeface="楷体_GB2312"/>
              </a:rPr>
              <a:t>盾</a:t>
            </a:r>
            <a:r>
              <a:rPr b="1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（读</a:t>
            </a:r>
            <a:r>
              <a:rPr b="1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dun</a:t>
            </a:r>
            <a:r>
              <a:rPr b="1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，不读</a:t>
            </a:r>
            <a:r>
              <a:rPr b="1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den</a:t>
            </a:r>
            <a:r>
              <a:rPr b="1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一吨   顿  蹲下  遁  敦促  土墩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66680" y="1219320"/>
            <a:ext cx="8077320" cy="43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　</a:t>
            </a:r>
            <a:r>
              <a:rPr b="1" lang="zh-CN" sz="54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ff5050"/>
                </a:solidFill>
                <a:latin typeface="宋体"/>
              </a:rPr>
              <a:t>h</a:t>
            </a:r>
            <a:r>
              <a:rPr b="1" lang="zh-CN" sz="54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　与　</a:t>
            </a:r>
            <a:r>
              <a:rPr b="1" lang="zh-CN" sz="54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ff5050"/>
                </a:solidFill>
                <a:latin typeface="宋体"/>
              </a:rPr>
              <a:t>f</a:t>
            </a:r>
            <a:r>
              <a:rPr b="1" lang="zh-CN" sz="54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”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例：湖水 湖北（读</a:t>
            </a: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hu</a:t>
            </a: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，不读</a:t>
            </a: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fu</a:t>
            </a: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　胡主任   户　呼　虎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8T02:32:46Z</dcterms:created>
  <dc:creator>0001</dc:creator>
  <dc:description/>
  <dc:language>en-US</dc:language>
  <cp:lastModifiedBy>雨林木风</cp:lastModifiedBy>
  <dcterms:modified xsi:type="dcterms:W3CDTF">2010-03-09T09:10:11Z</dcterms:modified>
  <cp:revision>14</cp:revision>
  <dc:subject/>
  <dc:title>PowerPoint 演示文稿</dc:title>
</cp:coreProperties>
</file>