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5.png" ContentType="image/png"/>
  <Override PartName="/ppt/media/image35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24.jpeg" ContentType="image/jpeg"/>
  <Override PartName="/ppt/media/projctor.wav" ContentType="audio/x-wav"/>
  <Override PartName="/ppt/media/image28.png" ContentType="image/png"/>
  <Override PartName="/ppt/media/image7.jpeg" ContentType="image/jpeg"/>
  <Override PartName="/ppt/media/image1.wmf" ContentType="image/x-wmf"/>
  <Override PartName="/ppt/media/image12.jpeg" ContentType="image/jpeg"/>
  <Override PartName="/ppt/media/image3.jpeg" ContentType="image/jpeg"/>
  <Override PartName="/ppt/media/image37.jpeg" ContentType="image/jpeg"/>
  <Override PartName="/ppt/media/image6.wmf" ContentType="image/x-wmf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0A7-C334-4406-B221-FB6ADD96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046-B35F-4F1F-AFFF-58FDD3C6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31B-04BF-493C-A87C-B3E17E12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B3A-C876-4997-955B-FDC83F78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C906-6B3A-4F80-B82C-9B376689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8CB2-FC43-498E-8C84-016471CF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9A58-BEEE-4CA7-AEC2-AA01E365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026B-47C2-41FA-8564-DF6D831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C96E-6584-4769-805C-DB8009C7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0EBB-32F9-4DA1-9DE8-81C2C43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5236-81D9-43E6-9753-6D7A484C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36D-D8D2-4272-B76B-556F3CB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284-97EF-4DC9-85FA-86078B60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D529-0F1F-420D-B999-25092DA1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8069-5FC7-48B4-B6AA-9F1D00E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B8D9-7900-4F5D-B64D-541704C8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BE5C-8538-48F8-BF8F-B1BBD967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624-B84B-41C6-9C53-083ED051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F48-EDA2-406E-A4F8-F2CA4A8B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CCC-1BDD-4F5F-91B9-90B2CB7B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E24-AA4F-4501-84C1-F61C4C5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BCA0-89AD-4C30-BD78-D94B7F0C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722-DDC4-4535-8DCA-3240461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ABD-FCD5-4152-8FB2-FF48EEC1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F040-58DD-41CE-9B1E-861886DB9C3F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7DAE-30F1-43FA-8528-18D47C4AB6D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1413000"/>
            <a:ext cx="85694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300" spc="-1" strike="noStrike">
                <a:solidFill>
                  <a:srgbClr val="006633"/>
                </a:solidFill>
                <a:latin typeface="Arial Narrow"/>
                <a:ea typeface="华文行楷"/>
              </a:rPr>
              <a:t>“</a:t>
            </a:r>
            <a:r>
              <a:rPr b="1" lang="zh-CN" sz="6300" spc="-1" strike="noStrike">
                <a:solidFill>
                  <a:srgbClr val="006633"/>
                </a:solidFill>
                <a:latin typeface="Arial Narrow"/>
                <a:ea typeface="华文行楷"/>
              </a:rPr>
              <a:t>文明上网，从我做起”</a:t>
            </a:r>
            <a:endParaRPr b="0" lang="en-US" sz="6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0760" y="3352320"/>
            <a:ext cx="4125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八（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3b812f"/>
                </a:solidFill>
                <a:latin typeface="Arial"/>
                <a:ea typeface="华文行楷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3887640" cy="327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3978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0587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已成为青少年学习知识、交流思想、休闲娱乐的重要平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但网络是一把双刃剑，我们青少年要学会在网络社会中趋利避害，健康成长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一、网络就在身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789360"/>
            <a:ext cx="446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66"/>
                </a:solidFill>
                <a:latin typeface="宋体"/>
              </a:rPr>
              <a:t>请同学们说说自己在网上都做了些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92720" y="3098880"/>
            <a:ext cx="3224160" cy="300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1</a:t>
            </a: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亿青少年都在网上干什么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网络成为青少年社交和表达自我的重要渠道。此外，这一群体的娱乐行为倾向非常突出。从中国互联网娱乐的三大典型应用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网络游戏、网络影视和网络音乐看，青少年对娱乐的应用水平超出全国网民平均水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5257800" cy="3427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58520" y="992160"/>
            <a:ext cx="770076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260280"/>
            <a:ext cx="8686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二、网络生活对青少年的积极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青少年人际关系和自我的发展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联网提供了大量信息，丰富了人的见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拓展交际范围，增进友谊和亲密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80000" y="3138480"/>
            <a:ext cx="4464000" cy="3003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00000" y="1484280"/>
            <a:ext cx="73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虚拟的世界中，我不辨东西南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           ——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认清网络的负面性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781360"/>
            <a:ext cx="42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宋体"/>
              </a:rPr>
              <a:t>◆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网络丰富了我们的生活，也给我们带来了危害，请同学说说网络的危害。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4653000"/>
            <a:ext cx="3203280" cy="151272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小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6320" y="250920"/>
            <a:ext cx="41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4392720" cy="3233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80880" y="691920"/>
            <a:ext cx="838224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网络不良信息的危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1476360" y="3429000"/>
            <a:ext cx="6858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684360" y="2492280"/>
            <a:ext cx="220968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情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50920" y="4076640"/>
            <a:ext cx="3168720" cy="1008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严重危害青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心理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5280" y="2444760"/>
            <a:ext cx="5330880" cy="3551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333360"/>
            <a:ext cx="86104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青少年网络攻击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5587920" cy="4140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1773360"/>
            <a:ext cx="30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网络的匿名性会增强青少年的攻击行为。在使用网络的青少年中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会卷入网络攻击行为。他们可能会将网络上的攻击行为过渡到现实生活中，伤害他人或者自我伤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84582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三、网络生活对青少年的消极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网络对青少年道德、价值观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道德层面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表现为漠视权威，忽视规则，不能承担自己的责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1874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价值观层面：多元化，价值目标模糊化，价值观物质化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4360" y="549360"/>
            <a:ext cx="604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现场调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请有玩游戏的同学举手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2158920"/>
            <a:ext cx="4138560" cy="3767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3620880" cy="3754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6633"/>
                </a:solidFill>
                <a:latin typeface="方正舒体"/>
                <a:ea typeface="方正舒体"/>
              </a:rPr>
              <a:t>测一测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7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每天起床后情绪低落，头昏眼花，疲乏无力，食欲不振，或神不守舍，而一旦上网便精神抖擞，百“病”全消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上网时表现得神思敏捷，口若悬河，并感到格外开心，一旦离开网络便语言迟钝，情绪低落，怅然若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只有不断增加上网时间才能感到满足，从而使得上网时间失控，经常比预定时间长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无法控制去上网的冲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 每看到一个新网址就会心跳加快或心率不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585360"/>
            <a:ext cx="843588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只要长时间不上网操作就手痒难耐。有时刚刚离网就有又想上网的冲动。有时早晨一起床就有想上网这种欲望。甚至夜间趁小便的空也想打开电脑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每当因特网的线路被掐断或由于其它原因不能上网，便感到烦躁不安或情绪低落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平常有不由自主地敲击键盘的动作，或身体有颤抖的现象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对家人或亲友隐瞒迷恋因特网的程度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 因迷恋因特网而面临失学、失业或失去朋友的危险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电脑和互联网发展使人类进入信息化社会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Garamond"/>
              </a:rPr>
              <a:t>一、网络就在身边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4968720" cy="4322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658200" y="537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息时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3036960"/>
            <a:ext cx="3168720" cy="3100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132000" y="476280"/>
            <a:ext cx="5651640" cy="3960720"/>
          </a:xfrm>
          <a:prstGeom prst="wedgeEllipseCallout">
            <a:avLst>
              <a:gd name="adj1" fmla="val -59861"/>
              <a:gd name="adj2" fmla="val 49921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你其中有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或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项以上表现，且持续时间已经达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以上，那么就表明你已经患上了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IAD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476360" y="6165720"/>
            <a:ext cx="10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互联网成瘾综合症”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(Internet addiction disorder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简称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IAD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4686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A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患者最主要的表现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对网络操作出现时间失控，而且随着乐趣的增强，欲罢不能，难以自拔。情绪低落、头昏眼花、双手颤抖、疲乏无力、食欲不振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68360" y="4579920"/>
            <a:ext cx="8280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12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络成瘾者可能具有下列人格特质：喜欢独处、敏感、倾向于抽象思维、警觉、不服从社会规范等，自我价值观也比较低，并与抑郁、交往焦虑有一定相关性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2360" y="1619280"/>
            <a:ext cx="4842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目前我国城市青少年网民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网瘾青少年的比例约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14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人数约为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2404.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万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50920" y="2813040"/>
            <a:ext cx="4857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网瘾青少年以“网络游戏成瘾者”居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47.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457200" y="476280"/>
            <a:ext cx="8686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四、青少年网络成瘾问题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3600360" cy="3086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瘾众生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427640" y="836640"/>
            <a:ext cx="4368600" cy="4759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292720" y="55897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未有平板时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代版“悬梁刺股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24000" y="225360"/>
            <a:ext cx="8496000" cy="6372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997240" y="5950080"/>
            <a:ext cx="5356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看来人类一刻也离不开电脑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993080" cy="6224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10"/>
          <p:cNvSpPr/>
          <p:nvPr/>
        </p:nvSpPr>
        <p:spPr>
          <a:xfrm>
            <a:off x="468360" y="5877000"/>
            <a:ext cx="82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严重影响青少年的学业和身心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都是网瘾惹的祸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22842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51280" y="443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8280360" cy="5548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708360" y="6021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537160" cy="56167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43640" y="530064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只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416720" cy="5556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172360" y="2852640"/>
            <a:ext cx="63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猖狂太过了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8353440" cy="5607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403280" y="6093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童鞋，这招障眼法跟刘谦学的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9961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86760" cy="69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Garamond"/>
              </a:rPr>
              <a:t>黄勇系列杀人案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被告人黄勇自幼受暴力题材影视剧的影响，梦想成为一名职业杀手。２００１年夏，黄勇将自己家中的轧面条机机架改装成杀人机械，取名为“智能木马”。精心策划后，决定向出入网吧、游戏厅的青少年下手，实施杀人计划。自２００１年９月至２００３年１１月，黄勇先后从网吧、游戏厅等场所，以资助上学、外出游玩和介绍工作为诱饵将被害人骗到自己家中，以被害人要想实现自己的愿望，必须经过“智能木马”测试为由将被害人绑在木马上，或先把被害人用酒灌醉，然后用布条将被害人勒死，至案发计杀死无辜青少年１７人，轻伤１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201320" y="206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黑网吧侵袭少年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836640"/>
            <a:ext cx="842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请问有几位同学进去过网吧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你们知道国家有关网吧的一些规定吗？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11280" y="3068640"/>
            <a:ext cx="3744720" cy="3030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20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互联网上网服务营业场所管理条例》第二十一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联网上网服务营业场所经营单位不得接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未成年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入营业场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788000" y="3079800"/>
            <a:ext cx="3744720" cy="296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41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中国互联网络信息中心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CNNIC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日发布的《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次中国互联网络发展状况统计报告》显示，截至今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月底，中国网民规模达到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亿，如果这是一个国家的话，则是世界第三人口大国，相当于美国和巴西的人口总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8280360" cy="26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远离黑网吧！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1280" y="1131840"/>
            <a:ext cx="81010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8720" y="365040"/>
            <a:ext cx="6408720" cy="5727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03400" y="2276640"/>
            <a:ext cx="863640" cy="3384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7080" y="2349360"/>
            <a:ext cx="863640" cy="33847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2852640"/>
            <a:ext cx="79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有什么感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93560" y="298440"/>
            <a:ext cx="853308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6085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Garamond"/>
              </a:rPr>
              <a:t>黑网吧起火夺人命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6227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凌晨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，北京市海淀区学院路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号石油研究院内一家名为“蓝极速”的网吧突然起火。被网吧里传出的呼救声惊醒的附近居民冲出家门，看到滚滚浓烟从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号楼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层的“蓝极速”网吧的窗口涌出，几个年轻人正趴在上面拼命喘气，随时有窒息的危险。由于窗口上都装着铁栅栏，他们无法逃出，只有声嘶力竭地向楼下的人求救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00720" y="260280"/>
            <a:ext cx="2448000" cy="23335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300720" y="3500280"/>
            <a:ext cx="2533680" cy="2362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56360" y="29242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冒浓烟的蓝极速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61657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正在燃烧的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projcto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7308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55800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半梦半醒的居民目瞪口呆地望着这一幕，一些人立刻冲回家打电话报警，另一些人则开始想办法营救大火中的年轻人，但他们发现，网吧惟一的出口——大铁门已被人从外面锁住。救人者与求救者隔着铁门无计可施。大火仍在肆虐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分，外面的人已经听不到网吧里有求救声传出就是这牢笼一般的“黑网吧”，一夜之间夺去了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条年轻的生命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96000" y="379440"/>
            <a:ext cx="3168720" cy="210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127240" cy="2736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640560" y="249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16880" y="2630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窗口上装着铁栅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06760" y="3645000"/>
            <a:ext cx="9118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燃烧后的网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projcto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经公安机关初步审查，纵火嫌疑人张某，男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宋某，男，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岁，二人系本市某中学学生，经常逃学。然而在网络和游戏中度过了“快乐的时光”之后，他们的钱开始捉襟见肘。“没钱还想上网！”事发两周前，他们受到该网吧服务人员的羞辱后，报复之心遂起。 　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日凌晨，两人将准备好的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1.8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升汽油泼在网吧门前，而后点燃了它。火苗猛地窜起来，他们迅速离开了……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1" name="projctor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8000"/>
                </a:solidFill>
                <a:latin typeface="宋体"/>
              </a:rPr>
              <a:t>网络诈骗与犯罪危害青少年的安全</a:t>
            </a:r>
            <a:r>
              <a:rPr b="1" lang="zh-CN" sz="5600" spc="-1" strike="noStrike">
                <a:solidFill>
                  <a:srgbClr val="660066"/>
                </a:solidFill>
                <a:latin typeface="Garamond"/>
                <a:ea typeface="楷体_GB2312"/>
              </a:rPr>
              <a:t> 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628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b812f"/>
                </a:solidFill>
                <a:uFillTx/>
                <a:latin typeface="宋体"/>
              </a:rPr>
              <a:t>案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在广州海珠区某中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女孩小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网上结识了一个网名叫“第二次初恋”的网友，两人“一见如故”相谈甚欢，不久就见了面。今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月的一天中午，小红接到了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次初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的朋友“王子”的短信息，说他今天生日叫小雪出来一起玩， 还特意叮嘱，多带几个女同学来。当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小红按照事先约定带着三名同学来到某卡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K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厅包房和“阿涛”及他的另两名朋友见了面。因喝了他们给的橙汁，小红等四名女孩昏迷后，被拐卖到东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4572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00720" y="549360"/>
            <a:ext cx="27432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新闻链接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024360" y="1501920"/>
            <a:ext cx="6119640" cy="4663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7682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近日，某中学生在与网友交往的过程中，将家中的电话号码，家庭住址，本人姓名，就读学校等信息均告诉对方，结果这位网友打电话到她家骗取了大量钱财，使该中学生家里损失惨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655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33"/>
                </a:solidFill>
                <a:latin typeface="Garamond"/>
              </a:rPr>
              <a:t>五、文明上网、保护自己</a:t>
            </a:r>
            <a:r>
              <a:rPr b="1" lang="zh-CN" sz="3300" spc="-1" strike="noStrike">
                <a:solidFill>
                  <a:srgbClr val="660066"/>
                </a:solidFill>
                <a:latin typeface="Garamond"/>
                <a:ea typeface="楷体_GB2312"/>
              </a:rPr>
              <a:t> 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55736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◆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谨防网络伸出的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黑手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在上网时如何保护好自己？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357336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提高自身素质，抵制网络诱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发现不良信息，通知朋友共同抵制，并报告有关部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万不要在父母或监护人不知道的情况下与陌生人约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不要在网上轻易透露与自己身份有关的信息资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要轻信网上朋友的信息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240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609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Times New Roman"/>
              </a:rPr>
              <a:t>★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全国青少年网络文明公约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1197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善于上网学习  不浏览不良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87280" y="2205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诚实友好交流  不侮辱欺诈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9080" y="3213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增强自护意识  不随意约会网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7280" y="422100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维护网络安全  不破坏网络秩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5229360"/>
            <a:ext cx="6551640" cy="863640"/>
          </a:xfrm>
          <a:prstGeom prst="flowChartAlternateProcess">
            <a:avLst/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5400000"/>
          </a:gradFill>
          <a:ln w="12600">
            <a:solidFill>
              <a:srgbClr val="cc66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有益身心健康  不沉溺虚拟时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835280" y="317520"/>
            <a:ext cx="6121440" cy="5848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15600" y="-168840"/>
            <a:ext cx="911520" cy="68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拒绝网毒 文明上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表 6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274160" cy="5329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00000" y="573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：图中的数据来自于《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中国互联网络发展状况统计报告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D:\08072401-2w.png"/>
          <p:cNvPicPr/>
          <p:nvPr/>
        </p:nvPicPr>
        <p:blipFill>
          <a:blip r:embed="rId1"/>
          <a:stretch/>
        </p:blipFill>
        <p:spPr>
          <a:xfrm>
            <a:off x="4162320" y="2759040"/>
            <a:ext cx="2857680" cy="2224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D:\08072401w.png"/>
          <p:cNvPicPr/>
          <p:nvPr/>
        </p:nvPicPr>
        <p:blipFill>
          <a:blip r:embed="rId2"/>
          <a:stretch/>
        </p:blipFill>
        <p:spPr>
          <a:xfrm>
            <a:off x="1608120" y="1415880"/>
            <a:ext cx="4098960" cy="2868840"/>
          </a:xfrm>
          <a:prstGeom prst="rect">
            <a:avLst/>
          </a:prstGeom>
          <a:ln w="0">
            <a:noFill/>
          </a:ln>
        </p:spPr>
      </p:pic>
      <p:sp>
        <p:nvSpPr>
          <p:cNvPr id="236" name="任意多边形 3"/>
          <p:cNvSpPr/>
          <p:nvPr/>
        </p:nvSpPr>
        <p:spPr>
          <a:xfrm>
            <a:off x="0" y="3000240"/>
            <a:ext cx="1604880" cy="19036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6"/>
          <p:cNvSpPr/>
          <p:nvPr/>
        </p:nvSpPr>
        <p:spPr>
          <a:xfrm>
            <a:off x="6991200" y="3984480"/>
            <a:ext cx="293760" cy="1857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7"/>
          <p:cNvSpPr/>
          <p:nvPr/>
        </p:nvSpPr>
        <p:spPr>
          <a:xfrm>
            <a:off x="6991200" y="4106880"/>
            <a:ext cx="293760" cy="171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图表 6"/>
          <p:cNvGraphicFramePr/>
          <p:nvPr/>
        </p:nvGraphicFramePr>
        <p:xfrm>
          <a:off x="3798720" y="1052640"/>
          <a:ext cx="48006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图表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8720" y="1052640"/>
                    <a:ext cx="4800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线形标注 1(带强调线) 10"/>
          <p:cNvSpPr/>
          <p:nvPr/>
        </p:nvSpPr>
        <p:spPr>
          <a:xfrm flipH="1">
            <a:off x="826920" y="4327560"/>
            <a:ext cx="2438640" cy="83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55" y="1595"/>
                </a:moveTo>
                <a:lnTo>
                  <a:pt x="-675" y="2945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青少年周上网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1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线形标注 1(带强调线) 12"/>
          <p:cNvSpPr/>
          <p:nvPr/>
        </p:nvSpPr>
        <p:spPr>
          <a:xfrm flipH="1">
            <a:off x="853920" y="3081240"/>
            <a:ext cx="24386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16" y="-1200"/>
                </a:moveTo>
                <a:lnTo>
                  <a:pt x="-675" y="5400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4.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线形标注 1(带强调线) 13"/>
          <p:cNvSpPr/>
          <p:nvPr/>
        </p:nvSpPr>
        <p:spPr>
          <a:xfrm flipH="1">
            <a:off x="931320" y="2046240"/>
            <a:ext cx="236196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99" y="32925"/>
                </a:moveTo>
                <a:lnTo>
                  <a:pt x="-697" y="5400"/>
                </a:lnTo>
              </a:path>
              <a:path w="21600" h="21600">
                <a:moveTo>
                  <a:pt x="-697" y="0"/>
                </a:moveTo>
                <a:lnTo>
                  <a:pt x="-697" y="21600"/>
                </a:lnTo>
              </a:path>
            </a:pathLst>
          </a:custGeom>
          <a:solidFill>
            <a:srgbClr val="cc9900">
              <a:alpha val="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0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6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4572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研究现状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青少年上网时间逐年增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316160" y="5715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注：数据来自于《第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中国互联网络发展状况统计报告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看图，猜一句有名的网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125360"/>
            <a:ext cx="6480000" cy="4869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700360" y="5877000"/>
            <a:ext cx="365760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神马都是浮云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亲，来个网语四六级考试哦，亲～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童鞋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+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流口水木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爱老虎油，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可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走召弓虽人参公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蛋白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了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548756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316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1201680"/>
            <a:ext cx="223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加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773360"/>
            <a:ext cx="223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羡慕不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2349360"/>
            <a:ext cx="3095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love U,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2924280"/>
            <a:ext cx="2016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惜没人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500280"/>
            <a:ext cx="2374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超强人身攻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53080" y="4051440"/>
            <a:ext cx="3166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笨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白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神经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4559400"/>
            <a:ext cx="525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服了你，出自周星驰电影对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19640" y="5106960"/>
            <a:ext cx="273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是白痴无药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5641920"/>
            <a:ext cx="4105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沙哟娜拉（日语），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还有火星文哦，亲～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火星文最早的名称源自周星驰的电影《少林足球》，片中周星驰对于打扮怪异的女主角阿梅（赵薇饰）说：“你快点回火星吧，地球是很危险的！”火星一词遂开始成为年轻族群形容不同寻常的怪异事物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火星文由符号、繁体字、日文、韩文、冷僻字或汉字拆分后的部分等非正规化文字符号组合而成。咋看都像是乱码或打错的字，用法也不同于汉字那么规范，从字面上根本无法了解。其实，“火星文”几年前就作为一种游戏用语在泡泡堂流行，接着又通过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资料及聊天快速散播，成为许多年轻人的共用语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试试你年轻不？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ㄋ们好ㄚ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伱傃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侽喷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蒶ロ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15573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们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23493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是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311616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男朋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3860640"/>
            <a:ext cx="29527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很可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1:44:39Z</dcterms:created>
  <dc:creator>番茄花园</dc:creator>
  <dc:description/>
  <dc:language>en-US</dc:language>
  <cp:lastModifiedBy>admin</cp:lastModifiedBy>
  <dcterms:modified xsi:type="dcterms:W3CDTF">2011-11-15T00:44:31Z</dcterms:modified>
  <cp:revision>84</cp:revision>
  <dc:subject/>
  <dc:title>第三课：我国政府是人民的政府　</dc:title>
</cp:coreProperties>
</file>