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E63-AF75-488C-9280-3AAD20E5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B68-C231-498B-8773-6656EFAC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24F-59D0-4CD1-B3FA-2DC0682C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461-C819-436D-9387-7FA95120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91A-D41C-410B-8804-FF584152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015-8B0C-4927-9ECC-27BFACDC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2DE-FE84-4FA0-8CE9-A57D6603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231-9178-4FFD-92F3-172FD270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CBE-842D-4B8D-B6E4-11270A01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992-213A-4F98-A0F1-CACEC3AF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C2A-CF33-4E3F-A001-34FF216A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574-F023-4D19-B76A-16497DAF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980D-1724-4C42-92E0-23A9FF312C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214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14800" y="50497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997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4783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069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569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857160" y="925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5855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997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2140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8549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60696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21184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140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997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997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50020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5926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640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2283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997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11628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640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5283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569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123408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426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14976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7T08:23:34Z</dcterms:modified>
  <cp:revision>36</cp:revision>
  <dc:subject/>
  <dc:title>幻灯片 1</dc:title>
</cp:coreProperties>
</file>