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ECD-946C-4C7A-A783-CB7F738A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114-609C-40DE-B895-F54A7F0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552-1DB0-406C-BD9F-D7C2B919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BF4-207B-434C-8053-4440A4D7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04A-281D-47C8-972F-90DAA5FF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704-894E-49CB-BA9E-CB11FA14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0B0-24C9-42A5-A5E0-6C1F3197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E77-CE99-4A25-9525-B83D1233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BA7-DC6A-48FE-B5CC-305DC1C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DD3-E9B6-457C-AF69-D25E172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BF1-D834-4A17-B080-710E46B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80E-F3E2-422E-8BB9-ECC0740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5DC-2627-4654-A596-5DB474C2D0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64c6c50c7f21dd78d543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"/>
          <p:cNvSpPr/>
          <p:nvPr/>
        </p:nvSpPr>
        <p:spPr>
          <a:xfrm>
            <a:off x="2968560" y="3259080"/>
            <a:ext cx="32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66cc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64c6c50c7f21dd78d543059"/>
          <p:cNvPicPr/>
          <p:nvPr/>
        </p:nvPicPr>
        <p:blipFill>
          <a:blip r:embed="rId1"/>
          <a:stretch/>
        </p:blipFill>
        <p:spPr>
          <a:xfrm>
            <a:off x="0" y="-17640"/>
            <a:ext cx="914256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3348000" y="1844640"/>
            <a:ext cx="230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The End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4:50:21Z</dcterms:created>
  <dc:creator>Administrator</dc:creator>
  <dc:description/>
  <dc:language>en-US</dc:language>
  <cp:lastModifiedBy>DBC</cp:lastModifiedBy>
  <dcterms:modified xsi:type="dcterms:W3CDTF">2015-06-29T03:57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