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596A-798D-4471-873C-401FCE862B0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409680" y="754200"/>
            <a:ext cx="5854680" cy="3294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灯片编号占位符 3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8F13-B8E2-4B62-AC08-1036CAB96A2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5778-59EF-4CB3-AE3E-95F6C1A8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04A-62B7-4A81-A594-7CD5534F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785E0F-360B-4F12-AE02-AFBA359B4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939E6-E59B-4057-86C6-CBC9C4C7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7D150-908A-4013-8B8C-B4B158B8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C6734-9EB2-464F-83B0-C713110D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D9567-6E53-4409-A565-8CCE677F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25983-AE30-47C8-9B7D-F0FBBD99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43AC2-77FA-45BD-ADBD-87038612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97DF9-E16E-4021-98EC-E5278BE8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9299B-37F1-4947-8D65-EFDE9195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DB173-C2A4-4F7F-8205-2588289E2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42E0-91A9-437F-9D51-0B2480EE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8253E-69F4-4BCB-8CE3-A791B4C6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F7AD3-0907-4A09-89CD-E6A8486F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1CC12-E015-4BFB-8635-30353B93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C4A38-9172-418D-8233-D3C10011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7FE17-9130-41E9-9C2E-DEBD6E70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62340-01CC-4524-AED7-760279BC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A917B-9C2B-4C2E-AA7D-AFB400AA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48188-C99F-4A5F-BF00-87EBFB2C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AC5D2-5227-4F47-A5F4-25860F34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B0EC88-FD02-40AD-8DCD-9B111F29E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D56-0ED9-41F4-A498-8E52A329D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160435-1134-4E3E-B610-767A7E577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64A84-3C72-4EA2-9D29-872BCC40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1F0227-5F22-43FA-A2D4-441EB8CB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5B3C9-5707-4F65-BAB8-3A4429D9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41577-91D6-4CCC-BFA9-035054EB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B1AA8-969A-4CFD-A3AE-D9898B02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2DCF6-236D-40A4-A2F4-7C2A6C7A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95773-D6D8-47AE-80C4-F1166BD9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7B897-3D53-4A3E-B99B-68B8355C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9878F-3127-479E-AABC-9541E1B6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4A5D-8FD6-42AA-8931-3F89789D4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EBE3D5-BAEC-40D0-A2AA-86AEF427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22F292-B101-41CB-8FF5-BED3A977B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798A3-586B-4050-A85C-DFE98BBD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A3380-2CEB-4AC0-B04F-72D8FA05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7B48B-5341-4FD3-A9A2-F9424D16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8518E-0004-47ED-9656-A34A3D98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AAB10-C11D-4EA9-8962-C3CFD77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58CE3D-5029-420A-B948-26C817E9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5C04C8-F5A1-41C1-9C27-449BF9A6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5D61D6-55FA-44CB-8B62-FFB59B66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8DEE-424A-4DA0-BFB1-D7991932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DAF825-2279-49DD-9E35-42CB7F97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DBD870-71DB-499C-87DE-9D63A2A2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96CD2-5F2B-47AA-BF45-4CEC4AD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8956E-EB5D-4693-B0B2-172484439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56687-F307-43F7-AB64-9E39B021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30B9-FE35-47FE-A9A6-CEBE7D059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4FE4-BC7D-4CDD-9186-BEF30DF0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0234-DF39-45C4-AE6C-F35570F4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2FB7-7B88-4943-AF6D-16B69BFF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6D19-6C49-491C-A88B-0206EE0B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01D-6AC0-40E4-9875-0FF59FB9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E7EC-42B2-41C9-B364-5F98E685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5572-B06B-471F-944B-E77F74DE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303E-A666-4D02-B29E-F5F1A76A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2635-1B5A-461E-B494-606A721D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06D1-AD5A-425D-A818-B395B3C25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E579B-5C34-41DC-9E69-6F775EFB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9590-ABEB-4E9E-A3F9-A2BC83D5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4E47D-276F-4753-8D09-869FC083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EF8A0-E9B2-43CC-AE4C-B423E845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9267B-27A3-4EBA-B0CA-C57A11595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4E0B-0A82-46BE-B80F-AEA11CA7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46A2E-4C55-4D37-ADF0-CD7EBB0F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B15B1-7597-4479-8079-70388706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51F7A-F6E0-4672-8576-071B3B0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D25FF-B4EF-49FA-A506-839EBD10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DFBD3-F559-4CEB-AC55-B0F2266F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083D3-93A9-45AF-97C6-96D47E98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02151-6A98-4472-B477-968B5642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1C643-D5EC-4667-9FA1-41C5DC42D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E742C-2F97-4936-B0B5-0E551C72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EF6FF-4A23-444C-AA1A-4D830113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20C8-E999-496A-AD61-E6B865DF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9072C-7845-412A-A055-39A77DDD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CF943-3DE1-4883-ADA1-AF72392B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A2ED7-8872-417F-A978-1CCC78AD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11AEF-AB02-4CC6-A704-581B12EF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2F097-B55B-4795-9627-58E34B9F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39254-631C-4170-8118-24BC18D7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3BF81-C0CC-40E2-9238-7CDF5FA9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23FA-3BB9-49ED-8C2A-417E1E977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9704-CEF4-4B4C-8A66-BAD2DF072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91ECF-DC69-4E4C-A15D-16DCFEE2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FB59-AAE5-4D18-BE90-F42E9F69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8229E-600B-494B-B4E5-5BD415F4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A352B-727E-42CC-9B82-9096230C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F1431-767E-4514-A6E9-03D15872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79E2F-07AD-4801-AC14-522A1C81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95261-FDE8-478E-8BC1-94B24EFC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864A0-8B06-4D4A-935A-2418A5EF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70A11-CD32-477C-8E53-5B39ABF6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B8EE1-9D16-4023-ADDE-D364156F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4D977-C080-4CE9-B502-B64D06B3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10CA-247B-44C4-80FA-5994D534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CC45-54DB-4214-AB97-B820DA9A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3751B-9CF6-4AFD-90CC-640838EA4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D66BB-F0ED-460C-A5ED-F6E8EF637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D175E-8AC7-43BE-A045-8AA9C1CB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CD9AD0-B88A-4983-812D-40256482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E0309-94A7-4F51-987C-9E8AC22D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DB01E-7677-48C8-BA0E-C1728DAC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05383-C713-4BEB-B8E3-BC98A23D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451BC-CDD3-47BE-8602-76FDD96F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A52D5-9C05-45D7-8148-19D4E0A8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6DB69-C68A-42FC-8C3B-3446DCA6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94B7-51A6-4DB0-B203-C9D99FFD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35745-471F-47D4-81D1-74616975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A23AF-06B5-4AE3-971A-384FF04EB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98951-4663-457F-8E05-243E3E44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30B32-C060-4AED-9009-CA01BA97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3E405F-ABE2-4675-AD63-D1248D0F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A6215-AED1-46F5-B447-507FAC7D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D432E-B185-480C-BB5E-0D873877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E0350-9788-40BD-80D6-AFEF1337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E21C6-359D-4FDF-A65C-41510544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1B0BF-5384-4719-BBC3-50CD1EBB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539-39EC-42EB-B1B0-07F01C41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B858B-6251-431B-84EB-A766512D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EDB83-4156-45A5-842B-4E8126B6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7E890-72A0-41CC-BD12-4C58F7CB9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DCECF-CA98-4097-91A7-86362B08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6065B-62D7-4F4E-9ECF-B4BFFF99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FBE04-84E1-4573-98B8-D268EEDC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A3E3F-48BB-4DC8-BFC2-58D4D941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765FA-DBF0-490F-8D24-67D263381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F25CB-B9E1-473B-9839-947B0E51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05A6B-B7E5-46CA-B46A-BC1E2A71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3A4-9B27-43EB-8CF7-087CCEBC7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4CA8C-1D64-4D65-BC6D-5C90A58C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FE035-2E25-471A-B3EF-BC72CDC0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D5F7D-5141-45DF-AA2A-8FA2CEA0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A52FB-A12A-416F-8CBE-C6778F6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0F185-F5C8-44E3-84E8-223D86F5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A0425-65EF-439F-8797-8D5276B4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4CF94-ACF8-432D-A0CA-5051A7BFD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5C9CB-A8C8-4970-8D10-4535C61D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AD89A-8090-405F-A6DB-7EEFE0E8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CE3CC4-4363-4CA3-93A5-B1EA893C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5226-67D9-4002-818F-AB5861CB0E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83D9-72F8-4B65-897E-60F2FDDF67E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D93E-69A8-4AFE-9126-DDAA396E2E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C46F-1EAD-4809-B355-B04C707E50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C298-8466-4265-A191-F30A9BBAE7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DF62-7989-4619-B806-81A69F8E8E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A3FF-6E8C-4B59-AC08-036C3B8B8EA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6FE6-4E8C-4DAC-BA2F-7E080A06A9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7EFF-FECD-4F85-BF6F-36DC06A564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16A8-686C-4714-A097-15E71DE671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EA3D5-F28C-44C8-B314-824708C5774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F55D-189D-4330-A73C-8CD4C51C3D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Box 2"/>
          <p:cNvSpPr/>
          <p:nvPr/>
        </p:nvSpPr>
        <p:spPr>
          <a:xfrm>
            <a:off x="5711760" y="2208240"/>
            <a:ext cx="15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烦恼抛向大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3"/>
          <p:cNvSpPr/>
          <p:nvPr/>
        </p:nvSpPr>
        <p:spPr>
          <a:xfrm>
            <a:off x="5662080" y="3030480"/>
            <a:ext cx="15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 快乐 自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"/>
          <p:cNvSpPr/>
          <p:nvPr/>
        </p:nvSpPr>
        <p:spPr>
          <a:xfrm>
            <a:off x="5836680" y="3849840"/>
            <a:ext cx="19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就是你的游乐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Box 2"/>
          <p:cNvSpPr/>
          <p:nvPr/>
        </p:nvSpPr>
        <p:spPr>
          <a:xfrm>
            <a:off x="5472000" y="22813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2060"/>
                </a:solidFill>
                <a:latin typeface="时尚中黑简体"/>
                <a:ea typeface="时尚中黑简体"/>
              </a:rPr>
              <a:t>大海沙滩幻灯片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2"/>
          <p:cNvSpPr/>
          <p:nvPr/>
        </p:nvSpPr>
        <p:spPr>
          <a:xfrm>
            <a:off x="763560" y="333360"/>
            <a:ext cx="15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烦恼抛向大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直接连接符 3"/>
          <p:cNvSpPr/>
          <p:nvPr/>
        </p:nvSpPr>
        <p:spPr>
          <a:xfrm>
            <a:off x="324000" y="981000"/>
            <a:ext cx="11316960" cy="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TextBox 4"/>
          <p:cNvSpPr/>
          <p:nvPr/>
        </p:nvSpPr>
        <p:spPr>
          <a:xfrm>
            <a:off x="1747080" y="1197000"/>
            <a:ext cx="4319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情绪和压力束缚着你的行动和判断，是时候对无奈的现实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NO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眺望蓝天大海，大吼一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扔走一切悲观失望，重拾自信，让好心情如影随形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图片 1" descr="1435564151757469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dc:language>en-US</dc:language>
  <cp:lastModifiedBy>Administrator</cp:lastModifiedBy>
  <dcterms:modified xsi:type="dcterms:W3CDTF">2015-07-10T01:12:13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