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DF3C-33D0-4CF8-B925-930CEE2435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01A4-B5F2-407C-9D79-45693ED6FA9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ABB8-9770-478C-B5F8-39A6BA8DE50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6FAD-50BF-45A3-BEF3-8219092B35A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5216-6A84-4FD6-BFA3-4300C16AE46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BAE4-3F70-4EDA-876E-7194D3F6EAB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6A29-E1F6-4B33-944A-26F6FB3CD9D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5BA7-6661-4F5A-A129-C4D4EB0A76F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3C08-D9A3-43BD-840D-27251625F52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4CFF-5ABD-462C-9233-0068A8D07E5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2DEC-82A4-4115-9292-D925F885AEC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241B-EFED-4363-A1B5-C608E07AF4B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7DC1-B548-4B44-AB70-40D8F4FC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EE2-1976-4E69-86E1-CE2EE2F5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3FEE6-002A-4322-BD8B-6544BB7A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843D6-F3F7-4519-A85F-E50B8767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DA642-1F75-4A3B-BFF2-DBB85C81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914B3-3790-4739-A6AC-6677A411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BD05E-5FF4-443D-87CF-827A78F2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940DF-5D2F-401A-ACE4-23DFFB8D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9289D-ADB1-4FDB-AB0D-9A2CBEC9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D2DCB-240C-4759-9CC2-FBC0BBD3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F3163-AE11-437D-AFB8-DEECC1A1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586FE-C9D8-4988-9E27-C2BA66D0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0D3-AAF0-4E66-82BE-52235397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A629B-0407-4884-A68A-2807F1D1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51B50-196C-401E-B983-5B99A3F6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32EDA-024B-46C4-B44E-44D6E36A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5A524-05B7-429B-96E1-17B8F7DF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E50B5-6980-4B99-89DC-B423B3E2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D8F70-BC31-4089-834D-BC630BD0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6C200-1328-425E-8807-6B640384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B0102-4F43-4C7F-869A-069F8D26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14FE0-ECF6-4709-B3F5-2B139A3C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6F4DF-737F-4C24-A907-5E7D1935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246-8F9A-4754-8541-16511225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20C87-19E0-4A79-AEB6-B1F37C01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1159C-969F-488C-B98A-007E44D3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85E54-C205-4458-971E-60146011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0341A-A1A5-4BB1-AE1A-241DB2A0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4DB1A-A7BA-4C6E-AA87-59A4153C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C3209-441B-40E3-8319-64636E39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1F7EC-2A7D-4E9C-8272-0D21C7C1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7C0B8-EF0D-496E-BD78-4091C889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B6507-C37E-4845-B9A5-EAD82CEF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D7543-1A0E-42C2-AAE1-2BDA1605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A872-1F8D-472C-A5DA-D32F99E5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E6A40-524A-439E-AFCC-190B2B05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6BAB7-1C4D-4490-9687-C751D01B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09F5A-FCAB-4886-88F0-FC413013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A610A-32E4-49FA-A5C8-EE164303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B41AC-4C74-484A-A3A7-94237B45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BDB85-3DD3-4197-B27C-F20BF478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B7247-0C8E-40B2-A191-E9218B24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67C61-E88F-44FA-9573-61ECB1BD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C1C60-BF7E-4090-A6D6-279A4F1F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8C002-0FB3-49C2-BB4B-A9C5BA17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69F9-87B1-4C1E-8A4C-2B28F0B1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B154D-4395-49C0-B597-C9BB3BCE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F2DC8-282E-4DA2-BD7A-1B3C6418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706C3-BD78-422E-A952-402FF2E8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8189B-929F-46F2-9716-768D8E4A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E93C9-7FED-4593-B6D7-C31E6410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7E15-2CEA-45DE-AE5D-094DDC58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56A9-AA3C-4838-BA41-DF361699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91C1-2D60-49D3-B484-8EABD8BB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E7C4-E2E4-470B-9C81-18AC4018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A395-3233-4E66-AE7D-A7289075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FBD-5150-4B12-B9BE-CD61DE0E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5F89-F0F4-465D-906C-54697F73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C601-FD2F-4A4B-A4E8-BD42353D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7D17-FCEF-4D7A-9177-33AA085C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B6CA-19F6-46CD-90B7-02236AE5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618F-0F68-4324-8B32-72356080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FFC43-0681-44AE-961D-F043C5C1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A5AE9-3708-4154-918A-2DE3C723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11A30-B499-4B7A-8214-56E3EA9F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20120-97D1-482D-9368-F517FB36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48E30-E6A8-4C2E-A28C-AD2C94C6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A04-BF73-4F18-86E0-391CDE6F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F17DD-63A0-4AF3-A8E8-05A4C65B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D5A1A-7D8D-42D8-B7E8-E4308125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9C297-3729-4EAC-B6C9-1E57D960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A7348-5C0E-40C9-AD13-A58435A4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E6723-E871-42C3-9247-44DEE848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422F1-194E-46F6-9744-5F08BD95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FBA5A-F23F-4725-A790-9F5B97EC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916EF-C954-4724-A0A5-C2FC62E1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55F37-6D56-43B1-8161-9171C559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4E25E-EB4B-4E64-9FBE-9B6672E2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A8A-8E31-4554-B31D-B0D15EFD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35D1D-8D87-43A4-8D19-EC839AA9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BDCF8-C974-4511-9020-FD333999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D2A71-98AF-4D8F-A1C1-8686412E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38C04-1A4F-4B86-A770-4D42ABE2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399E0-E212-4E49-9D68-690DF947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BBDAA-1ED7-4A61-AE5F-01277152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A65AD-BCA4-4B71-B064-C15D797E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C0748-5C40-40AA-8172-F0CE53FD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22D0F-97B0-4551-A762-34FE1249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8DDB2-E968-438F-8374-62888654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A17-B8E7-4EA2-B149-4C8AEFA6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ADA55-6AE2-43E3-A22C-F655C7A2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1535D-0ECD-4EF1-83B2-BB8640F3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E0D2A-F57B-41D7-B706-6174782E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97FD8-F020-4FF6-8C74-40DAA845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EC88F-B786-44ED-B844-511A8DA3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637E6-CA3D-43A7-8F66-AD48E2EF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C37E5-FD69-4FF4-A470-C77E1D28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BA5C3-1CF8-449D-97C1-56AF9913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2E51E-A22D-494F-98C3-EE2C88F5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98DF7-ADBA-474C-B40C-8DA1C448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03B0-5237-4D12-9D3A-B396020B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E3359-8C6F-4A47-A282-49852B61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9EB50-9B28-4EDD-A755-776B4036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001EA-D8D2-4222-A7E6-BDBCB862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190A1-9295-451F-B068-81F03A74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6E05F-3842-4587-97B5-FBA32A89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D54FB-73B3-4DE0-A2BC-718A8FAD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5BBA0-A5F4-47C3-8333-12D7A2C0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81028-F141-4A0B-A832-A263383D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76035-2D90-4FDE-B249-F1BDAC34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62653-6B83-48CD-ABC7-7A837C0E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9AF-57CD-46B6-AF06-057732F8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219C0-CDAA-49F0-9D61-EADFDB8A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FDF1E-F82D-4783-AF22-D1B93067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B314F-9B5A-4886-B666-4B44F97E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E8397-58C7-4B75-B3E3-2A7CA607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397D8-8136-4BF2-87BB-5386BF19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72713-2341-488D-B752-470A018B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8AFB7-4F76-4BA6-BA4E-043E5515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9C0D9-0E04-4B04-B024-B3614E5E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A2133-546E-4730-930B-DF273360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289D4-94CA-438A-8142-9D0CF8AC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F994-CD74-4EF4-8BD8-E697B806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C1816-FA5F-46DD-9FB1-01A991BF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348E5-1CAB-4249-A87E-519EA00B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CE54C-94DE-4679-8719-C2F6449C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BB820-080A-46A6-B766-BD0BF670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7E3D1-3158-4F78-A28F-21A2BC2A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386B1-1FD6-49AA-9596-E39ED0E5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C7A5E-54F1-479C-8898-F50435BC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5AD1B-7F9A-4DFC-957B-8AE92412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43EEC-F92F-46DF-A83C-1F8B27D7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F8015-4DFF-4E56-B085-6318ED17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B5CF-2B21-45C7-BF06-438E376F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5C5EA-09FC-4950-914E-56640B8A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FCC6E-F03C-48FB-9CAE-73909F5E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83D6C-40CB-40C4-8CC1-38DE6619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1B93F-D9B9-4602-A2AC-E5EA517C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17298-8022-4F38-BDA2-1D2765E5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43EDB-1F8A-4A65-BCA4-F38AEBF3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AF18E-9915-4D9E-AF0D-FD3F1A48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77ABA-0432-49CD-A472-AD7BDFEE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54F37-82CE-47E1-B438-24214191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6F5EE-A6A2-43CF-AC95-A494315A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单圆角矩形 8"/>
          <p:cNvSpPr/>
          <p:nvPr/>
        </p:nvSpPr>
        <p:spPr>
          <a:xfrm flipV="1">
            <a:off x="8172360" y="4800600"/>
            <a:ext cx="863640" cy="7920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单圆角矩形 9"/>
          <p:cNvSpPr/>
          <p:nvPr/>
        </p:nvSpPr>
        <p:spPr>
          <a:xfrm>
            <a:off x="8172360" y="120600"/>
            <a:ext cx="863640" cy="468000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0CA1-BC10-4914-ADF8-3F69E3F4E3A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E293-FD54-44CF-A3D9-7A1EAB72D34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4D91-FCB6-4D69-8967-030560A104B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4C3C-8ACF-4BE4-9940-32B6C0FAD09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20B0-3CBC-4D7D-B95B-312AFD6F2D1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016A-FE07-4556-89CE-A356C43D2B8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7C00-9253-4A5F-9634-4544BA22EED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B3A1-44ED-4DBA-B108-ED5E85C89D6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单圆角矩形 10"/>
          <p:cNvSpPr/>
          <p:nvPr/>
        </p:nvSpPr>
        <p:spPr>
          <a:xfrm flipH="1">
            <a:off x="101520" y="120600"/>
            <a:ext cx="8964720" cy="453708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101520" y="4657680"/>
            <a:ext cx="8964720" cy="8762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07DB-107D-4898-9DE7-5A748A43351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FA59-D7C1-45BE-97B0-BC92F39AC3B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0"/>
          <p:cNvSpPr/>
          <p:nvPr/>
        </p:nvSpPr>
        <p:spPr>
          <a:xfrm>
            <a:off x="7017840" y="179280"/>
            <a:ext cx="21913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讯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3F9B-E938-47DD-8C38-FBD4F525389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B9DA-768A-4951-9CF8-55F3B1288CB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4109-8996-4486-ABB7-8E31BC2040F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963F-74E2-486A-8D36-939BAFA2D61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0"/>
          <p:cNvSpPr/>
          <p:nvPr/>
        </p:nvSpPr>
        <p:spPr>
          <a:xfrm>
            <a:off x="7017840" y="179280"/>
            <a:ext cx="219132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事件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3C6D-A2A7-4A6E-9BEC-2755DA3BE81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FC84-2899-4E25-BA00-A5500EC6816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B02B-EA44-4D10-8EBE-70E5F1BD4AD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0736-918A-4008-A780-CA6B13C2457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7774-4D05-42BD-9981-4EE6859C63A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DB1A-1370-4119-906F-818D94ACD09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145F-BB85-4DCD-A775-EEF0A415BC3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268D-9415-4C0E-9185-E74A2CA69C8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BDDE-05DC-4C05-819C-DA9BC7AAA5D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2A58-BBAC-4EE0-A5D6-80B791D2AA3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aike.baidu.com/image/9c57e3fae4a7c394b58f31e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105516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述职报告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直接连接符 9"/>
          <p:cNvSpPr/>
          <p:nvPr/>
        </p:nvSpPr>
        <p:spPr>
          <a:xfrm>
            <a:off x="6813720" y="46864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直接连接符 11"/>
          <p:cNvSpPr/>
          <p:nvPr/>
        </p:nvSpPr>
        <p:spPr>
          <a:xfrm>
            <a:off x="7772400" y="46864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9" descr="http://pica.nipic.com/2008-05-08/200858142654232_2.jpg"/>
          <p:cNvPicPr/>
          <p:nvPr/>
        </p:nvPicPr>
        <p:blipFill>
          <a:blip r:embed="rId1"/>
          <a:stretch/>
        </p:blipFill>
        <p:spPr>
          <a:xfrm>
            <a:off x="4718160" y="3289320"/>
            <a:ext cx="427356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单圆角矩形 12"/>
          <p:cNvSpPr/>
          <p:nvPr/>
        </p:nvSpPr>
        <p:spPr>
          <a:xfrm flipH="1" flipV="1">
            <a:off x="249840" y="3001320"/>
            <a:ext cx="7777080" cy="19429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176040" y="48096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财年培训计划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395280" y="3578400"/>
            <a:ext cx="7489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员工入职培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职场英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ffice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14"/>
          <p:cNvSpPr/>
          <p:nvPr/>
        </p:nvSpPr>
        <p:spPr>
          <a:xfrm>
            <a:off x="270000" y="310680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介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矩形 11"/>
          <p:cNvSpPr/>
          <p:nvPr/>
        </p:nvSpPr>
        <p:spPr>
          <a:xfrm>
            <a:off x="250920" y="912960"/>
            <a:ext cx="75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270000" y="880920"/>
            <a:ext cx="775800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4"/>
          <p:cNvSpPr/>
          <p:nvPr/>
        </p:nvSpPr>
        <p:spPr>
          <a:xfrm>
            <a:off x="0" y="336600"/>
            <a:ext cx="323856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评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Picture 1" descr=""/>
          <p:cNvPicPr/>
          <p:nvPr/>
        </p:nvPicPr>
        <p:blipFill>
          <a:blip r:embed="rId1"/>
          <a:stretch/>
        </p:blipFill>
        <p:spPr>
          <a:xfrm>
            <a:off x="0" y="677880"/>
            <a:ext cx="3419640" cy="16304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" descr=""/>
          <p:cNvPicPr/>
          <p:nvPr/>
        </p:nvPicPr>
        <p:blipFill>
          <a:blip r:embed="rId2"/>
          <a:stretch/>
        </p:blipFill>
        <p:spPr>
          <a:xfrm>
            <a:off x="2809800" y="1941480"/>
            <a:ext cx="3524400" cy="18320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" descr=""/>
          <p:cNvPicPr/>
          <p:nvPr/>
        </p:nvPicPr>
        <p:blipFill>
          <a:blip r:embed="rId3"/>
          <a:stretch/>
        </p:blipFill>
        <p:spPr>
          <a:xfrm>
            <a:off x="5275440" y="3311640"/>
            <a:ext cx="352584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4"/>
          <p:cNvSpPr/>
          <p:nvPr/>
        </p:nvSpPr>
        <p:spPr>
          <a:xfrm>
            <a:off x="0" y="336600"/>
            <a:ext cx="323856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评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图表 6" descr=""/>
          <p:cNvPicPr/>
          <p:nvPr/>
        </p:nvPicPr>
        <p:blipFill>
          <a:blip r:embed="rId1"/>
          <a:stretch/>
        </p:blipFill>
        <p:spPr>
          <a:xfrm>
            <a:off x="-6480" y="0"/>
            <a:ext cx="9156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14"/>
          <p:cNvSpPr/>
          <p:nvPr/>
        </p:nvSpPr>
        <p:spPr>
          <a:xfrm>
            <a:off x="0" y="336600"/>
            <a:ext cx="323856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评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图表 4" descr=""/>
          <p:cNvPicPr/>
          <p:nvPr/>
        </p:nvPicPr>
        <p:blipFill>
          <a:blip r:embed="rId1"/>
          <a:stretch/>
        </p:blipFill>
        <p:spPr>
          <a:xfrm>
            <a:off x="-6480" y="328680"/>
            <a:ext cx="915048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4"/>
          <p:cNvSpPr/>
          <p:nvPr/>
        </p:nvSpPr>
        <p:spPr>
          <a:xfrm>
            <a:off x="0" y="336600"/>
            <a:ext cx="323856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评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图表 3" descr=""/>
          <p:cNvPicPr/>
          <p:nvPr/>
        </p:nvPicPr>
        <p:blipFill>
          <a:blip r:embed="rId1"/>
          <a:stretch/>
        </p:blipFill>
        <p:spPr>
          <a:xfrm>
            <a:off x="-6480" y="328680"/>
            <a:ext cx="915048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14"/>
          <p:cNvSpPr/>
          <p:nvPr/>
        </p:nvSpPr>
        <p:spPr>
          <a:xfrm>
            <a:off x="0" y="336600"/>
            <a:ext cx="323856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入司欢迎仪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矩形 11"/>
          <p:cNvSpPr/>
          <p:nvPr/>
        </p:nvSpPr>
        <p:spPr>
          <a:xfrm>
            <a:off x="250920" y="91296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因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滞后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方式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管指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程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见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跟进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员工访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场跟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tretch/>
        </p:blipFill>
        <p:spPr>
          <a:xfrm>
            <a:off x="-36360" y="1057320"/>
            <a:ext cx="9144000" cy="3828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14"/>
          <p:cNvSpPr/>
          <p:nvPr/>
        </p:nvSpPr>
        <p:spPr>
          <a:xfrm>
            <a:off x="0" y="336600"/>
            <a:ext cx="323856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晋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矩形 11"/>
          <p:cNvSpPr/>
          <p:nvPr/>
        </p:nvSpPr>
        <p:spPr>
          <a:xfrm>
            <a:off x="250920" y="822240"/>
            <a:ext cx="3238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因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嘉宾分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员工要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职培训板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Picture 1" descr=""/>
          <p:cNvPicPr/>
          <p:nvPr/>
        </p:nvPicPr>
        <p:blipFill>
          <a:blip r:embed="rId1"/>
          <a:stretch/>
        </p:blipFill>
        <p:spPr>
          <a:xfrm rot="699000">
            <a:off x="4447800" y="547560"/>
            <a:ext cx="377496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8"/>
          <p:cNvSpPr/>
          <p:nvPr/>
        </p:nvSpPr>
        <p:spPr>
          <a:xfrm>
            <a:off x="176040" y="48096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财年培训计划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Group 2"/>
          <p:cNvGrpSpPr/>
          <p:nvPr/>
        </p:nvGrpSpPr>
        <p:grpSpPr>
          <a:xfrm>
            <a:off x="250560" y="3001680"/>
            <a:ext cx="7777080" cy="1942920"/>
            <a:chOff x="250560" y="3001680"/>
            <a:chExt cx="7777080" cy="1942920"/>
          </a:xfrm>
        </p:grpSpPr>
        <p:sp>
          <p:nvSpPr>
            <p:cNvPr id="592" name="单圆角矩形 12"/>
            <p:cNvSpPr/>
            <p:nvPr/>
          </p:nvSpPr>
          <p:spPr>
            <a:xfrm flipH="1" flipV="1">
              <a:off x="249840" y="3001320"/>
              <a:ext cx="7777080" cy="194292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Rectangle 14"/>
            <p:cNvSpPr/>
            <p:nvPr/>
          </p:nvSpPr>
          <p:spPr>
            <a:xfrm>
              <a:off x="269640" y="3106440"/>
              <a:ext cx="3238560" cy="366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点介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Text Box 10"/>
          <p:cNvSpPr/>
          <p:nvPr/>
        </p:nvSpPr>
        <p:spPr>
          <a:xfrm>
            <a:off x="395280" y="3578400"/>
            <a:ext cx="7489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员工入职培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场英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ffice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矩形 11"/>
          <p:cNvSpPr/>
          <p:nvPr/>
        </p:nvSpPr>
        <p:spPr>
          <a:xfrm>
            <a:off x="250920" y="912960"/>
            <a:ext cx="75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1" descr=""/>
          <p:cNvPicPr/>
          <p:nvPr/>
        </p:nvPicPr>
        <p:blipFill>
          <a:blip r:embed="rId1"/>
          <a:stretch/>
        </p:blipFill>
        <p:spPr>
          <a:xfrm>
            <a:off x="271440" y="865080"/>
            <a:ext cx="7685280" cy="166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8"/>
          <p:cNvSpPr/>
          <p:nvPr/>
        </p:nvSpPr>
        <p:spPr>
          <a:xfrm>
            <a:off x="176040" y="48096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财年培训计划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Group 2"/>
          <p:cNvGrpSpPr/>
          <p:nvPr/>
        </p:nvGrpSpPr>
        <p:grpSpPr>
          <a:xfrm>
            <a:off x="250560" y="3001680"/>
            <a:ext cx="7777080" cy="1942920"/>
            <a:chOff x="250560" y="3001680"/>
            <a:chExt cx="7777080" cy="1942920"/>
          </a:xfrm>
        </p:grpSpPr>
        <p:sp>
          <p:nvSpPr>
            <p:cNvPr id="599" name="单圆角矩形 12"/>
            <p:cNvSpPr/>
            <p:nvPr/>
          </p:nvSpPr>
          <p:spPr>
            <a:xfrm flipH="1" flipV="1">
              <a:off x="249840" y="3001320"/>
              <a:ext cx="7777080" cy="194292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Rectangle 14"/>
            <p:cNvSpPr/>
            <p:nvPr/>
          </p:nvSpPr>
          <p:spPr>
            <a:xfrm>
              <a:off x="269640" y="3106440"/>
              <a:ext cx="3238560" cy="366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点介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1" name="Text Box 10"/>
          <p:cNvSpPr/>
          <p:nvPr/>
        </p:nvSpPr>
        <p:spPr>
          <a:xfrm>
            <a:off x="395280" y="3578400"/>
            <a:ext cx="7489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员工入职培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场英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Offic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矩形 11"/>
          <p:cNvSpPr/>
          <p:nvPr/>
        </p:nvSpPr>
        <p:spPr>
          <a:xfrm>
            <a:off x="250920" y="912960"/>
            <a:ext cx="75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Picture 1" descr=""/>
          <p:cNvPicPr/>
          <p:nvPr/>
        </p:nvPicPr>
        <p:blipFill>
          <a:blip r:embed="rId1"/>
          <a:stretch/>
        </p:blipFill>
        <p:spPr>
          <a:xfrm>
            <a:off x="264960" y="880920"/>
            <a:ext cx="7685280" cy="18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单圆角矩形 4"/>
          <p:cNvSpPr/>
          <p:nvPr/>
        </p:nvSpPr>
        <p:spPr>
          <a:xfrm flipV="1">
            <a:off x="4610160" y="226080"/>
            <a:ext cx="4357800" cy="53067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单圆角矩形 5"/>
          <p:cNvSpPr/>
          <p:nvPr/>
        </p:nvSpPr>
        <p:spPr>
          <a:xfrm flipH="1">
            <a:off x="3967920" y="961920"/>
            <a:ext cx="3816360" cy="12636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矩形 6"/>
          <p:cNvSpPr/>
          <p:nvPr/>
        </p:nvSpPr>
        <p:spPr>
          <a:xfrm>
            <a:off x="3995640" y="1577880"/>
            <a:ext cx="14472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7"/>
          <p:cNvSpPr/>
          <p:nvPr/>
        </p:nvSpPr>
        <p:spPr>
          <a:xfrm>
            <a:off x="6336000" y="2496960"/>
            <a:ext cx="729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8" hidden="1"/>
          <p:cNvSpPr/>
          <p:nvPr/>
        </p:nvSpPr>
        <p:spPr>
          <a:xfrm>
            <a:off x="7632360" y="2522520"/>
            <a:ext cx="30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3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CBCB-803B-42C7-A043-D8AB96B42B16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单圆角矩形 4"/>
          <p:cNvSpPr/>
          <p:nvPr/>
        </p:nvSpPr>
        <p:spPr>
          <a:xfrm flipV="1">
            <a:off x="4610160" y="226080"/>
            <a:ext cx="4357800" cy="53067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单圆角矩形 5"/>
          <p:cNvSpPr/>
          <p:nvPr/>
        </p:nvSpPr>
        <p:spPr>
          <a:xfrm flipH="1">
            <a:off x="3967920" y="961920"/>
            <a:ext cx="3816360" cy="12636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矩形 6"/>
          <p:cNvSpPr/>
          <p:nvPr/>
        </p:nvSpPr>
        <p:spPr>
          <a:xfrm>
            <a:off x="3995640" y="1577880"/>
            <a:ext cx="14472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7"/>
          <p:cNvSpPr/>
          <p:nvPr/>
        </p:nvSpPr>
        <p:spPr>
          <a:xfrm>
            <a:off x="6336000" y="2496960"/>
            <a:ext cx="729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8" hidden="1"/>
          <p:cNvSpPr/>
          <p:nvPr/>
        </p:nvSpPr>
        <p:spPr>
          <a:xfrm>
            <a:off x="7632360" y="2522520"/>
            <a:ext cx="30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单圆角矩形 16"/>
          <p:cNvSpPr/>
          <p:nvPr/>
        </p:nvSpPr>
        <p:spPr>
          <a:xfrm flipH="1" flipV="1">
            <a:off x="3923640" y="3217320"/>
            <a:ext cx="4173480" cy="1726920"/>
          </a:xfrm>
          <a:prstGeom prst="pi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单圆角矩形 3"/>
          <p:cNvSpPr/>
          <p:nvPr/>
        </p:nvSpPr>
        <p:spPr>
          <a:xfrm flipH="1">
            <a:off x="141120" y="120600"/>
            <a:ext cx="7956720" cy="266400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矩形 4"/>
          <p:cNvSpPr/>
          <p:nvPr/>
        </p:nvSpPr>
        <p:spPr>
          <a:xfrm>
            <a:off x="2484360" y="41760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介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4960"/>
            <a:ext cx="1946160" cy="2411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524" name="Group 1"/>
          <p:cNvGrpSpPr/>
          <p:nvPr/>
        </p:nvGrpSpPr>
        <p:grpSpPr>
          <a:xfrm>
            <a:off x="2227320" y="985680"/>
            <a:ext cx="5657760" cy="2016360"/>
            <a:chOff x="2227320" y="985680"/>
            <a:chExt cx="5657760" cy="2016360"/>
          </a:xfrm>
        </p:grpSpPr>
        <p:sp>
          <p:nvSpPr>
            <p:cNvPr id="525" name="圆角矩形 9"/>
            <p:cNvSpPr/>
            <p:nvPr/>
          </p:nvSpPr>
          <p:spPr>
            <a:xfrm>
              <a:off x="2408040" y="985680"/>
              <a:ext cx="5477040" cy="2016360"/>
            </a:xfrm>
            <a:prstGeom prst="roundRect">
              <a:avLst>
                <a:gd name="adj" fmla="val 7060"/>
              </a:avLst>
            </a:prstGeom>
            <a:solidFill>
              <a:srgbClr val="26262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等腰三角形 11"/>
            <p:cNvSpPr/>
            <p:nvPr/>
          </p:nvSpPr>
          <p:spPr>
            <a:xfrm rot="16200000">
              <a:off x="2168280" y="1389960"/>
              <a:ext cx="360360" cy="242640"/>
            </a:xfrm>
            <a:prstGeom prst="triangle">
              <a:avLst>
                <a:gd name="adj" fmla="val 50000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7" name="矩形 10"/>
          <p:cNvSpPr/>
          <p:nvPr/>
        </p:nvSpPr>
        <p:spPr>
          <a:xfrm>
            <a:off x="2484360" y="1128600"/>
            <a:ext cx="5381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刘晓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青岛新东方人力资源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专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矩形 3"/>
          <p:cNvSpPr/>
          <p:nvPr/>
        </p:nvSpPr>
        <p:spPr>
          <a:xfrm>
            <a:off x="274680" y="3144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矩形 7"/>
          <p:cNvSpPr/>
          <p:nvPr/>
        </p:nvSpPr>
        <p:spPr>
          <a:xfrm>
            <a:off x="179280" y="3578400"/>
            <a:ext cx="3672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-09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-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学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|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学教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10"/>
          <p:cNvSpPr/>
          <p:nvPr/>
        </p:nvSpPr>
        <p:spPr>
          <a:xfrm>
            <a:off x="4120920" y="3424320"/>
            <a:ext cx="66852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接阶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7"/>
          <p:cNvSpPr/>
          <p:nvPr/>
        </p:nvSpPr>
        <p:spPr>
          <a:xfrm>
            <a:off x="4106880" y="3936960"/>
            <a:ext cx="3672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-08-16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至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-08-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3"/>
          <p:cNvSpPr/>
          <p:nvPr/>
        </p:nvSpPr>
        <p:spPr>
          <a:xfrm>
            <a:off x="204840" y="901800"/>
            <a:ext cx="5437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企业发展情况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订和执行企业、人员培训计划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善和监督执行企业的培训制度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立内部培训师队伍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实施培训，管理培训人员材料并建立培训档案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跟踪培训计划执行情况，培训后续效果的评估和反馈工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3" name="Group 1"/>
          <p:cNvGrpSpPr/>
          <p:nvPr/>
        </p:nvGrpSpPr>
        <p:grpSpPr>
          <a:xfrm>
            <a:off x="179280" y="431640"/>
            <a:ext cx="5835600" cy="636840"/>
            <a:chOff x="179280" y="431640"/>
            <a:chExt cx="5835600" cy="636840"/>
          </a:xfrm>
        </p:grpSpPr>
        <p:sp>
          <p:nvSpPr>
            <p:cNvPr id="534" name="Rectangle 14"/>
            <p:cNvSpPr/>
            <p:nvPr/>
          </p:nvSpPr>
          <p:spPr>
            <a:xfrm>
              <a:off x="429840" y="556560"/>
              <a:ext cx="558504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培训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单圆角矩形 13"/>
            <p:cNvSpPr/>
            <p:nvPr/>
          </p:nvSpPr>
          <p:spPr>
            <a:xfrm>
              <a:off x="179280" y="431640"/>
              <a:ext cx="144360" cy="6368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6" name="Group 2"/>
          <p:cNvGrpSpPr/>
          <p:nvPr/>
        </p:nvGrpSpPr>
        <p:grpSpPr>
          <a:xfrm>
            <a:off x="227160" y="2703600"/>
            <a:ext cx="5929200" cy="647640"/>
            <a:chOff x="227160" y="2703600"/>
            <a:chExt cx="5929200" cy="647640"/>
          </a:xfrm>
        </p:grpSpPr>
        <p:sp>
          <p:nvSpPr>
            <p:cNvPr id="537" name="Rectangle 15"/>
            <p:cNvSpPr/>
            <p:nvPr/>
          </p:nvSpPr>
          <p:spPr>
            <a:xfrm>
              <a:off x="468360" y="2703600"/>
              <a:ext cx="56880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团队建设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单圆角矩形 14"/>
            <p:cNvSpPr/>
            <p:nvPr/>
          </p:nvSpPr>
          <p:spPr>
            <a:xfrm>
              <a:off x="227160" y="2712960"/>
              <a:ext cx="144360" cy="6382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9" name="Rectangle 13"/>
          <p:cNvSpPr/>
          <p:nvPr/>
        </p:nvSpPr>
        <p:spPr>
          <a:xfrm>
            <a:off x="203040" y="3336840"/>
            <a:ext cx="5437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协助参与学校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组织的团队活动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树立正向的企业价值观，宣扬新东方文化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级交办的其他工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灯片编号占位符 3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B9F7-5D98-4DFE-ABC1-242CDBD825FE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单圆角矩形 4"/>
          <p:cNvSpPr/>
          <p:nvPr/>
        </p:nvSpPr>
        <p:spPr>
          <a:xfrm flipV="1">
            <a:off x="4610160" y="226080"/>
            <a:ext cx="4357800" cy="53067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单圆角矩形 5"/>
          <p:cNvSpPr/>
          <p:nvPr/>
        </p:nvSpPr>
        <p:spPr>
          <a:xfrm flipH="1">
            <a:off x="3967920" y="961920"/>
            <a:ext cx="3816360" cy="12636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矩形 6"/>
          <p:cNvSpPr/>
          <p:nvPr/>
        </p:nvSpPr>
        <p:spPr>
          <a:xfrm>
            <a:off x="3995640" y="1577880"/>
            <a:ext cx="14472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6336000" y="2496960"/>
            <a:ext cx="729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8" hidden="1"/>
          <p:cNvSpPr/>
          <p:nvPr/>
        </p:nvSpPr>
        <p:spPr>
          <a:xfrm>
            <a:off x="7632360" y="2522520"/>
            <a:ext cx="30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矩形 3"/>
          <p:cNvSpPr/>
          <p:nvPr/>
        </p:nvSpPr>
        <p:spPr>
          <a:xfrm>
            <a:off x="395280" y="1371600"/>
            <a:ext cx="557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-08-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-08-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7" name="Group 4"/>
          <p:cNvGrpSpPr/>
          <p:nvPr/>
        </p:nvGrpSpPr>
        <p:grpSpPr>
          <a:xfrm>
            <a:off x="179280" y="554040"/>
            <a:ext cx="5940360" cy="690480"/>
            <a:chOff x="179280" y="554040"/>
            <a:chExt cx="5940360" cy="690480"/>
          </a:xfrm>
        </p:grpSpPr>
        <p:sp>
          <p:nvSpPr>
            <p:cNvPr id="548" name="TextBox 8"/>
            <p:cNvSpPr/>
            <p:nvPr/>
          </p:nvSpPr>
          <p:spPr>
            <a:xfrm>
              <a:off x="363240" y="554040"/>
              <a:ext cx="57564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试用期考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单圆角矩形 11"/>
            <p:cNvSpPr/>
            <p:nvPr/>
          </p:nvSpPr>
          <p:spPr>
            <a:xfrm>
              <a:off x="179280" y="607680"/>
              <a:ext cx="144360" cy="6368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2195640" y="3260880"/>
            <a:ext cx="5317920" cy="637920"/>
            <a:chOff x="2195640" y="3260880"/>
            <a:chExt cx="5317920" cy="637920"/>
          </a:xfrm>
        </p:grpSpPr>
        <p:sp>
          <p:nvSpPr>
            <p:cNvPr id="551" name="Rectangle 10"/>
            <p:cNvSpPr/>
            <p:nvPr/>
          </p:nvSpPr>
          <p:spPr>
            <a:xfrm>
              <a:off x="2411280" y="3402000"/>
              <a:ext cx="510228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新员工入职培训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单圆角矩形 12"/>
            <p:cNvSpPr/>
            <p:nvPr/>
          </p:nvSpPr>
          <p:spPr>
            <a:xfrm>
              <a:off x="2195640" y="3260880"/>
              <a:ext cx="144360" cy="6379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3" name="矩形 3"/>
          <p:cNvSpPr/>
          <p:nvPr/>
        </p:nvSpPr>
        <p:spPr>
          <a:xfrm>
            <a:off x="2270160" y="4081320"/>
            <a:ext cx="557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-08-2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1" descr=""/>
          <p:cNvPicPr/>
          <p:nvPr/>
        </p:nvPicPr>
        <p:blipFill>
          <a:blip r:embed="rId1"/>
          <a:stretch/>
        </p:blipFill>
        <p:spPr>
          <a:xfrm>
            <a:off x="171360" y="3078000"/>
            <a:ext cx="1913040" cy="15303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2"/>
          <a:stretch/>
        </p:blipFill>
        <p:spPr>
          <a:xfrm>
            <a:off x="5505480" y="237960"/>
            <a:ext cx="313200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3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A72E-0177-45CB-9C9A-18C08CB4A258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单圆角矩形 4"/>
          <p:cNvSpPr/>
          <p:nvPr/>
        </p:nvSpPr>
        <p:spPr>
          <a:xfrm flipV="1">
            <a:off x="4610160" y="226080"/>
            <a:ext cx="4357800" cy="53067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单圆角矩形 5"/>
          <p:cNvSpPr/>
          <p:nvPr/>
        </p:nvSpPr>
        <p:spPr>
          <a:xfrm flipH="1">
            <a:off x="3967920" y="961920"/>
            <a:ext cx="3816360" cy="12636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矩形 6"/>
          <p:cNvSpPr/>
          <p:nvPr/>
        </p:nvSpPr>
        <p:spPr>
          <a:xfrm>
            <a:off x="3995640" y="1577880"/>
            <a:ext cx="14472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Box 7"/>
          <p:cNvSpPr/>
          <p:nvPr/>
        </p:nvSpPr>
        <p:spPr>
          <a:xfrm>
            <a:off x="6336000" y="2496960"/>
            <a:ext cx="729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8" hidden="1"/>
          <p:cNvSpPr/>
          <p:nvPr/>
        </p:nvSpPr>
        <p:spPr>
          <a:xfrm>
            <a:off x="7632360" y="2522520"/>
            <a:ext cx="30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单圆角矩形 12"/>
          <p:cNvSpPr/>
          <p:nvPr/>
        </p:nvSpPr>
        <p:spPr>
          <a:xfrm flipH="1" flipV="1">
            <a:off x="249840" y="3001320"/>
            <a:ext cx="7777080" cy="19429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176040" y="48096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财年培训计划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 Box 10"/>
          <p:cNvSpPr/>
          <p:nvPr/>
        </p:nvSpPr>
        <p:spPr>
          <a:xfrm>
            <a:off x="395280" y="3578400"/>
            <a:ext cx="7489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员工入职培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场英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Offic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14"/>
          <p:cNvSpPr/>
          <p:nvPr/>
        </p:nvSpPr>
        <p:spPr>
          <a:xfrm>
            <a:off x="270000" y="310680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介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矩形 11"/>
          <p:cNvSpPr/>
          <p:nvPr/>
        </p:nvSpPr>
        <p:spPr>
          <a:xfrm>
            <a:off x="250920" y="912960"/>
            <a:ext cx="75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270000" y="880920"/>
            <a:ext cx="775800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8:45:17Z</dcterms:created>
  <dc:creator>Sophie</dc:creator>
  <dc:description/>
  <dc:language>en-US</dc:language>
  <cp:lastModifiedBy>Windows 用户</cp:lastModifiedBy>
  <dcterms:modified xsi:type="dcterms:W3CDTF">2015-09-01T08:07:44Z</dcterms:modified>
  <cp:revision>77</cp:revision>
  <dc:subject/>
  <dc:title>行业观察站</dc:title>
</cp:coreProperties>
</file>