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26CD-F0FD-4DD3-8498-499987DA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3BEC-5301-4069-BB76-68C4F26D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B11D-CBA6-4583-85C2-E43DD8E3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644-AA52-4E00-B518-31951B53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45AF-A87C-4B47-B6AB-B9F82974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6B96-CA80-4BED-9FF1-D4EC65FF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B600-F77C-46DC-8C27-46A02BDC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A2CE-120E-4CBF-98DC-86E231C0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5C2D-96AC-485C-8D00-09E2D289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3D6E-A2AE-4FD2-9599-4B330499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8E7-F3DC-4992-81C2-34158ACB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9C25-4248-472D-947E-3712D984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3A7D-9CD8-489B-B6DD-9846837C8D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857680" y="150012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143160" y="23353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爽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143000" y="7826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7836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3854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37119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0568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2071800" y="4000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51408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47120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101988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143080" y="3214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9"/>
          <p:cNvSpPr/>
          <p:nvPr/>
        </p:nvSpPr>
        <p:spPr>
          <a:xfrm>
            <a:off x="46407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52837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2838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80568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5929200" y="3214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9"/>
          <p:cNvSpPr/>
          <p:nvPr/>
        </p:nvSpPr>
        <p:spPr>
          <a:xfrm>
            <a:off x="4283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22118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0568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2714760" y="2214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9"/>
          <p:cNvSpPr/>
          <p:nvPr/>
        </p:nvSpPr>
        <p:spPr>
          <a:xfrm>
            <a:off x="52120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428364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94860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4000680" y="250020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39978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20689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3-12-27T03:25:16Z</dcterms:modified>
  <cp:revision>24</cp:revision>
  <dc:subject/>
  <dc:title>幻灯片 1</dc:title>
</cp:coreProperties>
</file>