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0FFE-CBE3-483D-A7E0-3BBC480A1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2EC2-5ADF-404B-B5C9-0A80F001F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B69-77FE-47BC-A6F7-59EA7DFF7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E398-6FAB-4737-81EE-A3024C89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1704-DB52-4648-82B6-0E5EF2209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C408-4A5A-42FD-A7D4-A5A7498A3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D8E7-F0A3-40D3-97EB-B2741F255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3EF2-128C-48A1-BD1A-0D35AC955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ACEA-E03E-48C4-A2A4-069FBD9F9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BA54-2CB3-4E9E-877E-1A42D46DC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34C4-5AFB-42D8-A6C1-3EDB15E7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8447-B9B4-4547-8726-2F4F79F0C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D088-F15E-443B-AF9C-0FF16DBC9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34A8-ECE7-4878-9B21-3F00387A1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86B2-FFD6-4970-A737-DFA044AD3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5CCA-0B19-411F-888B-E5D19B93F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C1F5-AF8E-4F06-AE44-406E3D7B0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FF9E-3AF0-44E9-B119-7086E921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D1F-FDF4-468D-9EF3-6806C86A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AF8-0438-49CC-A4C9-CB2FA8E1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5C7-F952-4A57-A1B8-BD48FFA1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A20-8711-46EB-8EAA-41E8960E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F947-6088-4576-880B-F0DC4FAF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C3D-2630-4CAB-9672-A85E2541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763-BFC7-4C89-91A8-2759CE4D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02A-3131-4FC1-90F4-6C59DA94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5B4-2B08-43EB-8289-46432A93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ACB-0F4A-4735-B626-4888A909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E17-0CE5-439B-B03B-967FEA02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490-DF05-42EA-BBF3-C14975DB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6E02-5DFC-43FC-9176-9A921E01C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20840" y="0"/>
            <a:ext cx="47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5"/>
          <p:cNvSpPr/>
          <p:nvPr/>
        </p:nvSpPr>
        <p:spPr>
          <a:xfrm>
            <a:off x="684360" y="29242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26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26" descr="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26" descr=""/>
          <p:cNvPicPr/>
          <p:nvPr/>
        </p:nvPicPr>
        <p:blipFill>
          <a:blip r:embed="rId1"/>
          <a:stretch/>
        </p:blipFill>
        <p:spPr>
          <a:xfrm>
            <a:off x="0" y="428760"/>
            <a:ext cx="4524480" cy="6000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27" descr=""/>
          <p:cNvPicPr/>
          <p:nvPr/>
        </p:nvPicPr>
        <p:blipFill>
          <a:blip r:embed="rId2"/>
          <a:stretch/>
        </p:blipFill>
        <p:spPr>
          <a:xfrm>
            <a:off x="4500720" y="428760"/>
            <a:ext cx="46432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27" descr=""/>
          <p:cNvPicPr/>
          <p:nvPr/>
        </p:nvPicPr>
        <p:blipFill>
          <a:blip r:embed="rId2"/>
          <a:stretch/>
        </p:blipFill>
        <p:spPr>
          <a:xfrm>
            <a:off x="4500720" y="390600"/>
            <a:ext cx="46432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43160" y="0"/>
            <a:ext cx="46576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356000" y="390600"/>
            <a:ext cx="4788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57200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26" descr=""/>
          <p:cNvPicPr/>
          <p:nvPr/>
        </p:nvPicPr>
        <p:blipFill>
          <a:blip r:embed="rId1"/>
          <a:stretch/>
        </p:blipFill>
        <p:spPr>
          <a:xfrm>
            <a:off x="0" y="500040"/>
            <a:ext cx="4352760" cy="585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27" descr=""/>
          <p:cNvPicPr/>
          <p:nvPr/>
        </p:nvPicPr>
        <p:blipFill>
          <a:blip r:embed="rId2"/>
          <a:stretch/>
        </p:blipFill>
        <p:spPr>
          <a:xfrm>
            <a:off x="4211640" y="500040"/>
            <a:ext cx="4932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27" descr=""/>
          <p:cNvPicPr/>
          <p:nvPr/>
        </p:nvPicPr>
        <p:blipFill>
          <a:blip r:embed="rId2"/>
          <a:stretch/>
        </p:blipFill>
        <p:spPr>
          <a:xfrm>
            <a:off x="4500720" y="390600"/>
            <a:ext cx="46432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7" descr=""/>
          <p:cNvPicPr/>
          <p:nvPr/>
        </p:nvPicPr>
        <p:blipFill>
          <a:blip r:embed="rId2"/>
          <a:stretch/>
        </p:blipFill>
        <p:spPr>
          <a:xfrm>
            <a:off x="457200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27" descr=""/>
          <p:cNvPicPr/>
          <p:nvPr/>
        </p:nvPicPr>
        <p:blipFill>
          <a:blip r:embed="rId1"/>
          <a:stretch/>
        </p:blipFill>
        <p:spPr>
          <a:xfrm>
            <a:off x="4284720" y="569880"/>
            <a:ext cx="4572000" cy="571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28" descr=""/>
          <p:cNvPicPr/>
          <p:nvPr/>
        </p:nvPicPr>
        <p:blipFill>
          <a:blip r:embed="rId2"/>
          <a:stretch/>
        </p:blipFill>
        <p:spPr>
          <a:xfrm>
            <a:off x="0" y="569880"/>
            <a:ext cx="4284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"/>
          <p:cNvPicPr/>
          <p:nvPr/>
        </p:nvPicPr>
        <p:blipFill>
          <a:blip r:embed="rId1"/>
          <a:stretch/>
        </p:blipFill>
        <p:spPr>
          <a:xfrm>
            <a:off x="4356000" y="390600"/>
            <a:ext cx="4788000" cy="6076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28" descr=""/>
          <p:cNvPicPr/>
          <p:nvPr/>
        </p:nvPicPr>
        <p:blipFill>
          <a:blip r:embed="rId2"/>
          <a:stretch/>
        </p:blipFill>
        <p:spPr>
          <a:xfrm>
            <a:off x="-18108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1:12:09Z</dcterms:created>
  <dc:creator>微软用户</dc:creator>
  <dc:description/>
  <dc:language>en-US</dc:language>
  <cp:lastModifiedBy>Sky123.Org</cp:lastModifiedBy>
  <dcterms:modified xsi:type="dcterms:W3CDTF">2015-07-30T09:41:20Z</dcterms:modified>
  <cp:revision>24</cp:revision>
  <dc:subject/>
  <dc:title>幻灯片 1</dc:title>
</cp:coreProperties>
</file>