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3A3-2368-432A-9D02-E8A856CFB0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357-7387-4CDB-8060-196E20E411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363-10E7-4FB0-A465-5E9F821A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B03-D37A-4F66-A44D-4F8B8CC5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FE7-6AE1-4323-8B6B-F5808E5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4EE-FEB6-44FF-B560-CE861235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35ED-72FD-4FBD-8FAC-AC70980C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31A-0C00-4DDC-9B00-391228E9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D24C-E922-40BC-B201-741ED023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6B0-8F23-4153-8C6D-BCD270BB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06B1-CA59-4A8B-B472-1ED6D78F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01C-A792-48F1-AD28-EF53AE4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5A06-FF43-44EE-9A0A-9F962DC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01A-F2F4-467B-AA24-54372957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1132-1DBF-47D5-AAF1-87DA171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757A-4ED1-4544-B3FB-8569AF2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324-1419-425F-A917-57BCC394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FD7B-F9CC-4442-9E12-C5B4B607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0E05-B763-40B5-AA3C-E6F9E6DB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8D0E-56DE-4177-A566-024D8AD2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863B-3880-480B-AA75-E1E9B19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92CC-3975-404F-A1CE-5121167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C33D-0729-408B-8F48-F194231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5E44-F823-4C55-8691-1327BC4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29A-6645-4452-B003-67108E3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D74D-2327-41C6-8FA9-42A6C194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84F6-BF17-4CBE-870A-BBF4F56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11B43-33FB-4439-9586-0B0C2F7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CA0B-5263-498A-AE10-755764A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418B-FAFF-4693-9D84-E34AC271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D32D-7FA3-4AE8-92DB-7E1F4049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F9BA-E93E-41E2-BFC4-824AACDD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3C18-829B-406A-B4EC-00AA9E1A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DB7F-2B11-4D01-A238-CAA46F7A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6F3B-B63C-4A94-9B0A-9B74E14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FD-AFBE-4537-B0A5-461E97A6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B206-F9C7-418B-A3C9-22D373E9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B4F1-AECA-4383-A118-17932BD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26B1-66F0-434B-9458-C9DEA50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BB440-0163-46F1-B416-CDEEB8C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09C6-A357-40EF-A962-01A728B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D099-B1D3-44EF-97DA-1A497A0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E4B9-DB20-489C-A5D3-CC59B2B3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A8144-125E-40A4-8A9F-C8A006FB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8B70-DE66-493F-BC63-A397D21D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4DCF-C4B4-4514-8392-28252947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21C-94C6-4759-B2B2-E1A585C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1948-EE0C-4DF4-9970-CC491BD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7944-5A84-4C4E-844D-401DAD9D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2C15-E55F-4184-8160-D8CE6ED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8C7F-FE62-4104-8CD4-0523CDA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75F1A-46E4-484A-90F8-AD242612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5419-4F76-47FC-8B1D-8836EF9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D29D-3BEC-4C24-A366-F9E51F8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9051-61A7-4C43-AA1F-769521F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5E60-E228-44EE-AAB2-DDC8BB1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E2E3-03B2-4DB0-98FA-0C0EED40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E58-345D-4F99-BDBE-A601DEF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AE7F-9AA9-4685-91DA-3F6F2E47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7A5-176E-420E-89D4-5171F78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887-2440-47E6-BE5B-5FE543C2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FB9-C82B-4129-AB6B-637779E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24A-CE9A-41CF-BAE5-88550561FF0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8F1-9B80-4976-8DAB-F68E350FBA2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85E7-A3A3-4992-BB24-5124D37F17A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E7CC-1B22-4DEA-9F93-5E8C7F136B6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BEA-4E3D-423F-8CA1-694B7DEB378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8d6aa6b1a242ca98d9335a87"/>
          <p:cNvPicPr/>
          <p:nvPr/>
        </p:nvPicPr>
        <p:blipFill>
          <a:blip r:embed="rId1"/>
          <a:stretch/>
        </p:blipFill>
        <p:spPr>
          <a:xfrm>
            <a:off x="0" y="0"/>
            <a:ext cx="9325080" cy="7458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c4246de862c8e7294ee37b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3143160" y="571680"/>
            <a:ext cx="585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大家好，我是来自六（</a:t>
            </a:r>
            <a:r>
              <a:rPr b="1" lang="en-US" sz="3600" spc="-1" strike="noStrike">
                <a:solidFill>
                  <a:srgbClr val="a34b73"/>
                </a:solidFill>
                <a:latin typeface="Trebuchet MS"/>
              </a:rPr>
              <a:t>5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）中队的顾文雯！拿破仑曾说过“不想当将军的士兵，不是好士兵”。而我一直认为，不想当大队长的少先队员不是一个好队员。今天我带着一颗积极向上的心来到这里，目的只有一个：</a:t>
            </a:r>
            <a:r>
              <a:rPr b="1" lang="zh-CN" sz="4000" spc="-1" strike="noStrike">
                <a:solidFill>
                  <a:srgbClr val="591f4d"/>
                </a:solidFill>
                <a:latin typeface="Trebuchet MS"/>
              </a:rPr>
              <a:t>要当上大队长！</a:t>
            </a:r>
            <a:r>
              <a:rPr b="1" lang="zh-CN" sz="3600" spc="-1" strike="noStrike">
                <a:solidFill>
                  <a:srgbClr val="a34b73"/>
                </a:solidFill>
                <a:latin typeface="Trebuchet MS"/>
              </a:rPr>
              <a:t>这样就能为班级增光添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7837dbac2e344c4a4a36d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143160" y="214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34b7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a34b73"/>
                </a:solidFill>
                <a:latin typeface="宋体"/>
              </a:rPr>
              <a:t>从一年级到现在，我一直连任中队长和班长这两个职位，这无疑是老师和同学对我的肯定。五年来，在老师的栽培下，我逐渐从一个什么都不懂的小丫头成为了一个能干的大姑娘了。在班级中经常能受到老师和同学的赞扬。但我需要一个更高的平台来展示自己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9f6d21596cfe5d352934f05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4"/>
          <p:cNvSpPr/>
          <p:nvPr/>
        </p:nvSpPr>
        <p:spPr>
          <a:xfrm>
            <a:off x="0" y="2857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人缘好，社交力强，并一直能胜任中队长的工作，这对我是有些影响的，这会让我大队长做得更好</a:t>
            </a:r>
            <a:r>
              <a:rPr b="1" lang="en-US" sz="3200" spc="-1" strike="noStrike">
                <a:solidFill>
                  <a:srgbClr val="a34b73"/>
                </a:solidFill>
                <a:latin typeface="宋体"/>
              </a:rPr>
              <a:t>!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在学校里，我对同学总是非常的友好。每当有同学向我请教问题时，我总会耐心的讲解给他听；每当同学生病了，我总会主动去照顾他们；每当有同学忘带东西了，我也会第一时间借给他</a:t>
            </a:r>
            <a:r>
              <a:rPr b="1" lang="en-US" sz="3200" spc="-1" strike="noStrike">
                <a:solidFill>
                  <a:srgbClr val="a34b73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因此，同学们都爱和我做朋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illustration_cartoon_girl_B10-PSD-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2957400" y="1714680"/>
            <a:ext cx="61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34b7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相信自己具备一个好大队长应有的品质。大队长的工作是很艰辛的，但我如果当上了大队长，一定会认认真真地做好每一件事，并且负责到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fc54f671666bab6f73654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142920" y="1714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a34b73"/>
                </a:solidFill>
                <a:latin typeface="宋体"/>
              </a:rPr>
              <a:t>我在此向大家许下诺言：我一定要做一个尽职尽责的好大队长！希望大家能够支持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cef1d6c53be0828f8326ac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307800" y="1857240"/>
            <a:ext cx="86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34b7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如果当选了，我一定会更加严格要求自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时时刻刻注意自己的言行举止，以身作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如果落选了，一定是我还没被大家认可，还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34b73"/>
                </a:solidFill>
                <a:latin typeface="Arial"/>
              </a:rPr>
              <a:t>许多不足，但我不会气馁，还是会继续努力的！但我还是衷心的希望大家能够支持我，向我投出你们宝贵的一票！口说无凭，我会用实际行动来实现今天的诺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7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cdc8768842434dedfd1f1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矩形 4" descr=""/>
          <p:cNvPicPr/>
          <p:nvPr/>
        </p:nvPicPr>
        <p:blipFill>
          <a:blip r:embed="rId2"/>
          <a:stretch/>
        </p:blipFill>
        <p:spPr>
          <a:xfrm>
            <a:off x="133200" y="4627440"/>
            <a:ext cx="9017280" cy="1182960"/>
          </a:xfrm>
          <a:prstGeom prst="rect">
            <a:avLst/>
          </a:prstGeom>
          <a:ln w="0">
            <a:noFill/>
          </a:ln>
        </p:spPr>
      </p:pic>
      <p:pic>
        <p:nvPicPr>
          <p:cNvPr id="242" name="矩形 5" descr=""/>
          <p:cNvPicPr/>
          <p:nvPr/>
        </p:nvPicPr>
        <p:blipFill>
          <a:blip r:embed="rId3"/>
          <a:stretch/>
        </p:blipFill>
        <p:spPr>
          <a:xfrm>
            <a:off x="1957320" y="2706840"/>
            <a:ext cx="5229360" cy="1377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30:15Z</dcterms:created>
  <dc:creator>微软中国</dc:creator>
  <dc:description/>
  <dc:language>en-US</dc:language>
  <cp:lastModifiedBy>Administrator</cp:lastModifiedBy>
  <dcterms:modified xsi:type="dcterms:W3CDTF">2015-08-25T02:17:31Z</dcterms:modified>
  <cp:revision>26</cp:revision>
  <dc:subject/>
  <dc:title>幻灯片 1</dc:title>
</cp:coreProperties>
</file>