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EF6-AFB0-44C5-91D6-FAA50CA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764-B117-4EF2-988F-E1079D5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54D-B5A8-4716-8696-F695027B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353-B239-482E-92E6-54C1C188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647-303E-4278-A7E6-43F6C019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EF7-B5E9-4125-9391-8F8D5AE9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4E9-0F8C-4282-A001-FD089106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8AC-8734-438C-A81E-AD4A6DC5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962-6E6E-471B-9A56-40C7BC1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F77-CCBA-471B-96CD-144BE597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A5C-D844-4349-B447-2252A231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95D-38E5-45E0-B919-C9039AB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90D2-08B8-475C-95E5-AEABC626B8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C0E-B31E-4EEA-BD70-8CA1AF8C1D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954760" y="2363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幸福的一家幻灯片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-1698480" y="219708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4432320" y="6292800"/>
            <a:ext cx="1117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5"/>
          <a:stretch/>
        </p:blipFill>
        <p:spPr>
          <a:xfrm>
            <a:off x="241200" y="2730600"/>
            <a:ext cx="9239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30T00:52:12Z</dcterms:modified>
  <cp:revision>4</cp:revision>
  <dc:subject/>
  <dc:title>www.1ppt.com</dc:title>
</cp:coreProperties>
</file>