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9E72-E65F-44ED-9081-50CE04E3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999-ACA3-4ED6-BF96-78AF9B05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987FE-7F48-47E1-913A-27B00AD2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EA84F-7FE4-4DBF-8F6E-E4688552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483F8-4DD3-4911-9E45-4BA1F489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3DBB5-1D93-4075-BC82-F07C7577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847A6-6EAD-44D6-BF1F-2707CDB3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303A7-3606-464A-9E78-382EBADB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BA28D-74F4-4B34-A3A4-A6243D10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4953B-BD2E-4F9C-B2F0-9E7CC536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ACEB5-1E8D-4B26-92C1-CBAC66BD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CF31A-58AE-4A4F-9874-E83A397F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52A1-3E24-4134-BB14-B91DFC01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6200D-62F2-4865-B963-F2F08A9C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D0273-C7B1-45C8-B0C3-594E7E05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D6064-94CA-44DA-8480-6DC66B30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5E3D5-64E2-4302-9AB2-087400E2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C27F5-EFA7-4A6C-9F0D-A5819549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6CC24-C03A-47FF-A655-3CDA7F3C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38D86-29D5-489D-A319-2B33B539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74D16-5BCF-4147-9A0D-3606925F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440C5-4128-458F-AA67-884DF20F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A6D86-8F67-4B8B-835A-C39AAD06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C51-239D-417E-9BF7-B083BEA8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BBD3E-6B6F-4A94-ACA4-4174FDD5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421CA-D9F5-4D25-903F-64922820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A73F2-7D9F-4C0E-86EE-1D5E0285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CBACF-DEE4-47F0-9B95-7A996CAB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2F0F4-6AA8-4705-B3BC-84160867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EF711-5B42-4028-96AE-113183B1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D6808-2C69-4ADF-8327-87095120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96D3C-839E-4266-85E9-6C537205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58859-D6D1-480E-914D-4C54B9BD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D99FB-33A5-4388-86A2-6795CA15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CA4A-BBBB-4130-AB06-FCB69C7A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74A0C-93BF-4D05-B935-B1391943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E4350-5B5C-4944-BDA8-1156D313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BCF17-5F13-472A-9E73-236B1380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1DA086-66F0-4680-8938-FBC3BDE6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984EAC-477F-44C1-B2E9-33129161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A2E3DB-9150-478C-B463-D1A1B796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948EF0-708B-4D07-8C9C-7F922CBC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44FF8A-6406-49B3-836B-3A2B42C9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135B6B-6905-493E-98D9-47F8300A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365AF0-8974-48A5-8934-EEF2F619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D2C0-3716-4948-9CE9-489D297F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C54856-6AF8-44A6-8575-0B291466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B6CB2A-2BDC-4EAB-A69B-2AD4FEF0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DBDA79-83E2-4BED-8E95-E2136C15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F67742-D5AF-4094-ADDA-3322CD2E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DFFF9A-6862-4C0E-8A8E-723C2662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644DB-6FEF-47B7-B7B0-E525AD38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5239E-DED5-40F0-B8C8-741D7426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16535-C26F-40DE-BDFB-ABC65E79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42097-CF60-4140-A1D0-5918636F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FB632-0B2F-4768-95C0-247BF5FC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5F9C-3191-4263-A05C-EF0A5DDE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A99B4-065A-4D20-BDCA-FFA14868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DBCB0-1796-412B-AF4F-A2E7413B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B3BC8-1AAB-47C1-8CB0-36DDAF10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C48EC-3C53-47E8-9E4C-5F46ED21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67130-A6E2-43D3-826E-AD049416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A0E1F-B96F-4101-9B08-2651B700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55277-41CC-41A4-B6F4-76A6B6D6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6D96AB-960F-44CB-AFB5-39EF5B9A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F087D2-A696-48CA-BE32-86274F77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88A97B-EC5B-4CE4-BDF2-A6DBBB3A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CD93-EA55-45A0-BCAD-39ACA9D3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D67059-9A88-4CA5-AC33-4203B05E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8AE889-5DC3-4079-831B-7F082A0C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E19BD-F8B8-4593-8B05-DEEB0FD2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8482C1-8E9D-4F46-A0C3-970ECF86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7BFA7B-4024-42D3-BCD4-75327C8B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97B35-F667-4C98-83B6-A8D152B7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8B783E-58AE-4BB8-804E-9E70E6B8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FD23F-03D9-41E2-A4E2-E1083AE5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5B47F4-02C4-4C1F-9F32-BB03F62F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0382C4-D83F-4CAF-9429-E9337115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D53F-09A9-49BE-954E-68DCE16B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86C21-6D3C-4AAD-A9FD-681621DB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6381A-69F2-433E-9A71-125CD38B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63CF18-137E-401A-963B-59AC29C5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749BE-CC72-45F4-A28F-378C724E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FBBEE3-7523-4261-B2DD-9799D7F2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ED1729-56BA-400B-BD89-A0055CA8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27622-0292-4F38-9AE8-4C4D6CD9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1A8D52-B491-4CDF-9B36-87DAFAF1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90CCB3-8DD8-4F50-8D1C-1B1D7183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83C3FA-2D44-4460-8B2E-90B389B0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392C-BD95-4EEC-A7AB-311199A6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5422B5-E343-4B55-B7B9-E53136F9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E8A59D-1C26-4707-AD93-F252406A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E669FA-3FA7-4295-94D8-0A8CF7C1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91CD52-84E6-48AA-B0F5-0832AA8A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16370-F6A4-450E-82A4-56209445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E7D139-D902-4FD3-B16C-B475011F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61A6B8-341F-45A5-9D56-8A7338AB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C94A4C-50A8-4EB9-8F96-C3D93356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FDC506-23F6-4BF1-AA7B-A509380D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F4889-2B49-445B-A594-958651A8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BE51-1C35-43D4-B410-137F92BC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21970A-C090-4511-8D8C-F2B2E02C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7D491D-BB56-444A-911E-753A8F38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EFBB01-2B2E-4B28-BF6E-BC89643E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EEF6-FC28-4BF7-85A0-6E79927A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784D-7371-42D2-8818-ACD112E3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1706-0BDD-4918-996C-CF804A4F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A9FA-E0F9-43F4-BC17-A6419732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0FF4-5812-4869-A025-1474F98B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3164-C01E-4968-97AD-7F05E24A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00CEA-01AB-42BD-847D-88AB4465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F8A6-CF4C-40FE-AFC4-18490861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46834-966E-4646-A6C3-B2E079BB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69870-DC91-4F5C-B823-1F848D09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45E49-22A7-4E59-A616-BE25B17C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A340-576A-4090-9E6F-9B5A031B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AB673-E67B-4170-8C98-963BB79E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90D6D-11F4-4AAC-894A-BBFF815D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6FAF7-C864-4C8E-8365-0CC1DF05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19EF1-E0BE-4E58-B422-FFF3C246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B75DE-8340-4457-9A49-FFB1B7E8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3C323-FC34-4876-A855-53B7164A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23953-5896-4572-88F1-EECEA45C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33020-7500-443F-B419-F4C3E649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FBC9-9D1F-44A8-BA97-746586EB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A3C2C-0D5F-4697-BBFF-49529F3E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EFB8-2D46-4C62-9E3B-A42EC1AD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A32C5-B157-44E0-92B1-E3841D7B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1478A-A581-4C8A-97FD-44E07085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5106E-B624-45C2-8D0A-9D79D376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EFA0B-42D3-404B-AD84-6B5074C7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8722B-D38C-4017-96B3-43656135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5F838-5DE9-4577-9D44-E74C7A5B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11A83-C776-4BCB-84C6-35D2B261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99F61-0161-48C9-A0BE-1F0FDBBD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15A03-6222-4CDC-AD71-986C2D23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14939-2A07-4404-9198-4B74C6EB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950-D90D-471F-9425-7BFF0BB4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D0FEE-9DBD-40A1-8C1B-4C60FA54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6B82F-E24C-450D-8FF8-6091379A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02F97-4E3C-4BC0-B1BF-1745DF8F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41D15-778B-4C6E-A4E3-80990721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7AEC6-EF90-4983-95FB-5A965567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FFEE2-1E5D-41C5-A926-D66B9571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ED793-4ECD-409D-A19E-F65F4C02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45996-1FE5-495F-828B-2FE6CC5A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95D03-3A1D-437A-A1AB-1B6763F1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07A7B-8194-4945-AD8F-7F7B0ED9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25C-461D-4FB6-AF34-99E2AB6E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F9D4C-1187-4872-94A9-E950F327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81E77-AB06-470F-80F1-D1496B80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0448D-E5FB-4F52-975F-CD21FD21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98452-1817-444B-A179-486D783F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17C57-F1D7-4E94-B027-228587CC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21561-05B9-4144-ACAC-890E9897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314A2-EC60-4880-ADC1-045A0564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B6820-2A9A-4359-A3B3-5DE9AF15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D0A62-2026-4E94-8BEF-D8282092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BE2D4-3518-4DB6-B6D5-58B359A5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F12-EF64-47A7-8FC3-C45241ED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9E0CA-F47E-4043-9380-DC5FE0C3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1ED09-DF5E-4150-B745-0EF6A8F0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CB28D-233E-4EFD-B1AD-D3C428EF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88F90-16E9-4678-9BEB-0C126406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A35AF-1D5C-4D37-B9EC-1ECEAC16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BD9A3-320F-49B4-A51F-BE9115C3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2A9C5-D8C5-4642-9854-F460A01D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C592F-87EE-43A7-B903-77A814CB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352C6-7CAB-4A77-8524-7A5D505E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D54EF-D49C-4B95-97DC-D6020D9C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820-A940-4AEA-A106-7B5F28D7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ED34C-8C69-4A31-912F-81E0AAB0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335E2-8507-4809-96A8-B9C78865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72097-C75E-4874-804A-8348EC1B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F12E4-305A-4D3E-82CB-390F6B4B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F0448-579A-4D54-BDD5-E40BA997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CE2D3-6E82-4792-9446-BA7C5CF1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6C2C9-9E7C-43A2-8D44-1D4ECC16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61663-16BF-43B1-A8F6-5F6956CD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A1F86-E03F-46BE-883F-005A342C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08AFA-62B5-418A-928E-E3FE1C78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38C-8193-4CD2-8044-57577DE2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466EE-4F0F-4939-8F16-67DC2AEA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29FDC-735C-4ACA-88B7-F17B02DF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000EF-C7F2-4437-ACE1-48712946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07125-3A66-4C42-96DC-85718006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25029-C284-4D14-B5F0-CDD9BCEA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30216-E0BB-4169-B29F-14E3C7BD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81E9D-72A2-4288-8A5E-CEE50C84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6CEAB-746D-408E-90C4-8692B5ED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2F3D3-FF83-42AF-BDAB-378A34E0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9F281-9EEB-460F-B565-DF60A361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92B0-1677-4C13-8047-EF2E0D39EC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dt" idx="28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ftr" idx="29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sldNum" idx="30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5891-D801-4EE6-8CB3-8910E3A3A6A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A713-B46B-4BF5-8BDA-46CF9DE12F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6EE6-E21F-460A-A761-E572AB92D0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925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2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3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3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0913-AABB-4978-BE56-4F2F3FE4525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49BF-F359-42BD-B495-74E28402C7A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01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1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1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1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02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02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7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7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09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09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10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10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11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2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29DC-6DE6-4D78-B1AC-E1C344BF6C27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18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18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19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19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19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19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19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19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20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20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20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21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21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21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22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22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22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22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23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23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23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4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24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4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24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4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24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4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25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5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25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5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25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5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6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26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6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26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6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26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6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27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7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27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7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27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7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27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28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28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28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29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29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29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29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30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E171-C2DB-4A5A-9943-4C988679BCC4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44DB-E4B0-4A3C-AD15-36FCD0D47D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33E5-0FB2-46E4-9A7E-8C8F1D4444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A4FA-5658-4865-88C3-344506EA98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79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325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339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53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67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81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95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409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411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BACA-D84D-4950-9744-672EA60B62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467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481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dt" idx="16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ftr" idx="1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D5CA-1478-40B8-A55E-F1FC1B1F16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31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10C6-4E79-4DDE-A4A4-AB5F69FDCC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F0E5-DE08-415E-A20A-3C288A7E53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668F-54A5-4D21-9035-9FD9DA7BD5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&#28436;&#31034;&#25991;&#31295;1.ppt" TargetMode="External"/><Relationship Id="rId3" Type="http://schemas.openxmlformats.org/officeDocument/2006/relationships/slide" Target="slide13.xml"/><Relationship Id="rId4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  <p:sp>
        <p:nvSpPr>
          <p:cNvPr id="1359" name=""/>
          <p:cNvSpPr txBox="1"/>
          <p:nvPr/>
        </p:nvSpPr>
        <p:spPr>
          <a:xfrm rot="5400000">
            <a:off x="5758920" y="3009960"/>
            <a:ext cx="5095800" cy="1057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彩云"/>
              </a:rPr>
              <a:t>蟋蟀的住宅</a:t>
            </a:r>
            <a:endParaRPr b="1" lang="en-US" sz="8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"/>
          <p:cNvSpPr/>
          <p:nvPr/>
        </p:nvSpPr>
        <p:spPr>
          <a:xfrm>
            <a:off x="1675080" y="425520"/>
            <a:ext cx="540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为什么说蟋蟀用挖掘的工具“是那样简单”？又为什么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蟋蟀的住宅“真可以算是伟大的工程了”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032560" y="1844640"/>
            <a:ext cx="493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因为蟋蟀盖房子的工具，只是简单的四只脚和钳子，所以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蟋蟀用来挖掘的工具是那样简单。又因为蟋蟀用如此简单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具，建造出那么平坦、清洁、干燥，卫生的住宅，所以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以算是一个伟大的工程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252240" y="3500280"/>
            <a:ext cx="22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这座住宅真可以算是伟大的工程了。”这句话出现在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一段的最后起什么样用呢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438360" y="4940280"/>
            <a:ext cx="219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这句话总结了前文，赞美了蟋蟀辛勤劳动，不肯随遇而安的精神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同时，这句话又是承接上一句来写的。蟋蟀的住宅是靠自己用简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而柔弱的工具一点一点挖掘出来的，非常不容易，另外也写出了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者对蟋蟀住宅的总的印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/>
          <p:nvPr/>
        </p:nvSpPr>
        <p:spPr>
          <a:xfrm>
            <a:off x="469800" y="404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013120" y="1773360"/>
            <a:ext cx="487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请同学们默读这一部分，想一想，这一部分从几个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面介绍了蟋蟀怎样建造住宅的，课文是怎样写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568320" y="2997360"/>
            <a:ext cx="144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一部分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建造时间、怎样建造、整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面介绍了蟋蟀怎样建造住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35120" y="458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0" y="520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2843280" y="0"/>
            <a:ext cx="32400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学习第三部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"/>
          <p:cNvSpPr/>
          <p:nvPr/>
        </p:nvSpPr>
        <p:spPr>
          <a:xfrm>
            <a:off x="1778040" y="2421000"/>
            <a:ext cx="545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蟋蟀工作很辛苦是从哪里看出来的呢？请同学们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段，找出写蟋蟀盖房动作的句子，并划出动词，体会蟋蟀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房的艰难与辛苦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>
            <a:hlinkClick r:id="rId2"/>
          </p:cNvPr>
          <p:cNvSpPr/>
          <p:nvPr/>
        </p:nvSpPr>
        <p:spPr>
          <a:xfrm>
            <a:off x="2882520" y="4097160"/>
            <a:ext cx="38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其中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扒、搬、踏、推、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都从不同方面反映了蟋蟀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房子的艰难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391480" y="3524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蟋蟀是在什么时候建造住宅的呢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620520" y="98100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蟋蟀盖房子大多是在十月，秋天初寒的时候。”是蟋蟀盖房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的时间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>
            <a:hlinkClick r:id="rId3" action="ppaction://hlinksldjump"/>
          </p:cNvPr>
          <p:cNvSpPr/>
          <p:nvPr/>
        </p:nvSpPr>
        <p:spPr>
          <a:xfrm>
            <a:off x="8186760" y="6443280"/>
            <a:ext cx="509760" cy="423000"/>
          </a:xfrm>
          <a:custGeom>
            <a:avLst/>
            <a:gdLst>
              <a:gd name="textAreaLeft" fmla="*/ 27360 w 509760"/>
              <a:gd name="textAreaRight" fmla="*/ 482400 w 5097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26027" h="21600">
                <a:moveTo>
                  <a:pt x="0" y="0"/>
                </a:moveTo>
                <a:lnTo>
                  <a:pt x="26027" y="0"/>
                </a:lnTo>
                <a:lnTo>
                  <a:pt x="26027" y="21600"/>
                </a:lnTo>
                <a:lnTo>
                  <a:pt x="0" y="21600"/>
                </a:lnTo>
                <a:close/>
              </a:path>
              <a:path fill="lightenLess" w="26027" h="21600">
                <a:moveTo>
                  <a:pt x="0" y="0"/>
                </a:moveTo>
                <a:lnTo>
                  <a:pt x="26027" y="0"/>
                </a:lnTo>
                <a:lnTo>
                  <a:pt x="24627" y="1400"/>
                </a:lnTo>
                <a:lnTo>
                  <a:pt x="1400" y="1400"/>
                </a:lnTo>
                <a:close/>
              </a:path>
              <a:path fill="darken" w="26027" h="21600">
                <a:moveTo>
                  <a:pt x="26027" y="0"/>
                </a:moveTo>
                <a:lnTo>
                  <a:pt x="26027" y="21600"/>
                </a:lnTo>
                <a:lnTo>
                  <a:pt x="24627" y="20200"/>
                </a:lnTo>
                <a:lnTo>
                  <a:pt x="24627" y="1400"/>
                </a:lnTo>
                <a:close/>
              </a:path>
              <a:path fill="darkenLess" w="26027" h="21600">
                <a:moveTo>
                  <a:pt x="26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7" y="20200"/>
                </a:lnTo>
                <a:close/>
              </a:path>
              <a:path fill="lighten" w="26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课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0" y="333360"/>
            <a:ext cx="171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0" y="1341360"/>
            <a:ext cx="896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蟋蟀盖房子大多是在十月，秋天初寒的时候．它用前足扒土。还用钳子搬掉较大的土块。它用强有力的后足踏地。后腿有两排锯，用它将泥土推到后面，倾斜地铺开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工作做得很快。蟋蟀钻到土底下，如果感到疲劳，它就在未完工的家门口休息一会儿，头朝着外面，触须轻微地摆动。不大一会儿，它又进去，用钳子和耙继续工作。我一连看了两个钟头，看得有些不耐烦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987640" y="184464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68360" y="184464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227664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35640" y="227664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317080" y="2276640"/>
            <a:ext cx="5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>
            <a:hlinkClick r:id="rId1" action="ppaction://hlinksldjump"/>
          </p:cNvPr>
          <p:cNvSpPr/>
          <p:nvPr/>
        </p:nvSpPr>
        <p:spPr>
          <a:xfrm>
            <a:off x="7989840" y="6062400"/>
            <a:ext cx="509760" cy="423000"/>
          </a:xfrm>
          <a:custGeom>
            <a:avLst/>
            <a:gdLst>
              <a:gd name="textAreaLeft" fmla="*/ 27360 w 509760"/>
              <a:gd name="textAreaRight" fmla="*/ 482400 w 5097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26027" h="21600">
                <a:moveTo>
                  <a:pt x="0" y="0"/>
                </a:moveTo>
                <a:lnTo>
                  <a:pt x="26027" y="0"/>
                </a:lnTo>
                <a:lnTo>
                  <a:pt x="26027" y="21600"/>
                </a:lnTo>
                <a:lnTo>
                  <a:pt x="0" y="21600"/>
                </a:lnTo>
                <a:close/>
              </a:path>
              <a:path fill="lightenLess" w="26027" h="21600">
                <a:moveTo>
                  <a:pt x="0" y="0"/>
                </a:moveTo>
                <a:lnTo>
                  <a:pt x="26027" y="0"/>
                </a:lnTo>
                <a:lnTo>
                  <a:pt x="24627" y="1400"/>
                </a:lnTo>
                <a:lnTo>
                  <a:pt x="1400" y="1400"/>
                </a:lnTo>
                <a:close/>
              </a:path>
              <a:path fill="darken" w="26027" h="21600">
                <a:moveTo>
                  <a:pt x="26027" y="0"/>
                </a:moveTo>
                <a:lnTo>
                  <a:pt x="26027" y="21600"/>
                </a:lnTo>
                <a:lnTo>
                  <a:pt x="24627" y="20200"/>
                </a:lnTo>
                <a:lnTo>
                  <a:pt x="24627" y="1400"/>
                </a:lnTo>
                <a:close/>
              </a:path>
              <a:path fill="darkenLess" w="26027" h="21600">
                <a:moveTo>
                  <a:pt x="26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7" y="20200"/>
                </a:lnTo>
                <a:close/>
              </a:path>
              <a:path fill="lighten" w="26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2194920" y="549360"/>
            <a:ext cx="487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</a:rPr>
              <a:t>蟋蟀的住宅建好了，可是它好像并没有满足，它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Times New Roman"/>
              </a:rPr>
              <a:t>做了什么事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482560" y="2655720"/>
            <a:ext cx="44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蟋蟀是怎样整修的呢？整修的目的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32640" y="3716280"/>
            <a:ext cx="89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今天做一点，明天做一点，即使在冬天只要气候温和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还在不停地进行整修。长时间整修是为了这个洞可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随天气的变冷和这的身体的增长而加深加阔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3203640" y="1125360"/>
            <a:ext cx="124920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>
                    <a:alpha val="90000"/>
                  </a:srgbClr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整修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>
                  <a:alpha val="90000"/>
                </a:srgbClr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0" name=""/>
          <p:cNvSpPr txBox="1"/>
          <p:nvPr/>
        </p:nvSpPr>
        <p:spPr>
          <a:xfrm rot="5400000">
            <a:off x="540360" y="2419920"/>
            <a:ext cx="576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对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/>
          <p:nvPr/>
        </p:nvSpPr>
        <p:spPr>
          <a:xfrm>
            <a:off x="1979640" y="2997360"/>
            <a:ext cx="508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我觉得蟋蟀坚持不懈，认真工作，以辛勤的劳动建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住宅的精神非常了不起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395280" y="1125360"/>
            <a:ext cx="82598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习了蟋蟀建造住宅这一部分。你有什么想法呢？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539640" y="2060640"/>
            <a:ext cx="69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蟋蟀的住宅主要讲的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作者为什么把蟋蟀的巢穴比喻为住宅，这样写有什么好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63480" y="18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735560" y="52293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这样写很形象，能引发读者的阅读兴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052000" y="2781360"/>
            <a:ext cx="487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蟋蟀的住宅主要描写了蟋蟀挖掘、建造巢穴的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2700360" y="0"/>
            <a:ext cx="26636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总结全文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4923360" y="272880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请同学们用第一人称复述课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3276720" y="333360"/>
            <a:ext cx="3744720" cy="11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练习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 txBox="1"/>
          <p:nvPr/>
        </p:nvSpPr>
        <p:spPr>
          <a:xfrm>
            <a:off x="1332000" y="2133720"/>
            <a:ext cx="475272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" descr="红头高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蟋蟀出名有几个原因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唱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住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1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将第二句话改成“它的出名不光由于它的住宅，还由于它的唱歌。”行不行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1627560" y="1368360"/>
            <a:ext cx="569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请同学们朗读第二部分，想一想，这一部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从几个方面讲蟋蟀住宅的特点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每个方面写了蟋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住宅的什么特点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249720" y="3373560"/>
            <a:ext cx="261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这段主要是从选址、工具和洞内外三方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讲述了蟋蟀住宅的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2916360" y="0"/>
            <a:ext cx="2736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第二部分</a:t>
            </a:r>
            <a:endParaRPr b="0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69" name=""/>
          <p:cNvSpPr/>
          <p:nvPr/>
        </p:nvSpPr>
        <p:spPr>
          <a:xfrm>
            <a:off x="7380360" y="0"/>
            <a:ext cx="1224000" cy="1125360"/>
          </a:xfrm>
          <a:prstGeom prst="smileyFace">
            <a:avLst>
              <a:gd name="adj" fmla="val 9282"/>
            </a:avLst>
          </a:prstGeom>
          <a:solidFill>
            <a:srgbClr val="bbe8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1675080" y="476280"/>
            <a:ext cx="540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蟋蟀和别的昆虫不同，蟋蟀不肯随遇而安，“随遇而安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什意思？课文哪些地方表现了蟋蟀“不肯随遇而安”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114360" y="1989000"/>
            <a:ext cx="252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b7"/>
                </a:solidFill>
                <a:latin typeface="Times New Roman"/>
              </a:rPr>
              <a:t>课文中讲到蟋蟀慎重选择住址，一定要排水优良，并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b7"/>
                </a:solidFill>
                <a:latin typeface="Times New Roman"/>
              </a:rPr>
              <a:t>有温和的阳光。它不利用现成的洞穴。从这些地方可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b7"/>
                </a:solidFill>
                <a:latin typeface="Times New Roman"/>
              </a:rPr>
              <a:t>看出蟋蟀不肯随遇而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842920" y="380844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蟋蟀的住宅是自己一点一点挖掘的。可是人们为什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对它的劳动成果感到惊奇呢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013840" y="522936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b7"/>
                </a:solidFill>
                <a:latin typeface="Times New Roman"/>
              </a:rPr>
              <a:t>蟋蟀盖房子的工具，非常柔弱。正是因为蟋蟀用如此简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b7"/>
                </a:solidFill>
                <a:latin typeface="Times New Roman"/>
              </a:rPr>
              <a:t>的工具建造了排水优良，有温和阳光的住宅，所以令人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b7"/>
                </a:solidFill>
                <a:latin typeface="Times New Roman"/>
              </a:rPr>
              <a:t>对它的劳动成果感到惊奇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1954800" y="352440"/>
            <a:ext cx="508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也是蟋蟀吸引作者关注的地方，所以作者决定要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究它，请同学继续读书，看一看住宅内外的情况怎样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684800" y="1484280"/>
            <a:ext cx="55634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．是向阳，“朝着阳光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二．是隐蔽，“青草丛中隐藏着一条倾斜的隧道”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．是干燥，“即使有骤雨，这里也立刻会干”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四．是“弯弯曲曲”“最多不过九寸深”“一指宽”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五．是有“门”，“出口的地方总是有一丛草半掩着”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六．是有“平台”，那微斜的门口“经过仔细耙扫，收拾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很平坦”，就成了蟋蟀住宅的“平台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从里面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简朴“没什么布置”、光滑、平整、简朴、清洁、干燥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卫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979280" y="1413000"/>
            <a:ext cx="359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蟋蟀住宅内外各具特色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从外面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 txBox="1"/>
          <p:nvPr/>
        </p:nvSpPr>
        <p:spPr>
          <a:xfrm>
            <a:off x="2643120" y="533520"/>
            <a:ext cx="3857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蟋蟀的住宅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2682720" cy="2377800"/>
          </a:xfrm>
          <a:prstGeom prst="rect">
            <a:avLst/>
          </a:prstGeom>
          <a:ln w="0">
            <a:noFill/>
          </a:ln>
        </p:spPr>
      </p:pic>
      <p:pic>
        <p:nvPicPr>
          <p:cNvPr id="1379" name="" descr=""/>
          <p:cNvPicPr/>
          <p:nvPr/>
        </p:nvPicPr>
        <p:blipFill>
          <a:blip r:embed="rId2"/>
          <a:stretch/>
        </p:blipFill>
        <p:spPr>
          <a:xfrm>
            <a:off x="838080" y="4214880"/>
            <a:ext cx="2249640" cy="1728720"/>
          </a:xfrm>
          <a:prstGeom prst="rect">
            <a:avLst/>
          </a:prstGeom>
          <a:ln w="0">
            <a:noFill/>
          </a:ln>
        </p:spPr>
      </p:pic>
      <p:pic>
        <p:nvPicPr>
          <p:cNvPr id="1380" name="" descr=""/>
          <p:cNvPicPr/>
          <p:nvPr/>
        </p:nvPicPr>
        <p:blipFill>
          <a:blip r:embed="rId3"/>
          <a:stretch/>
        </p:blipFill>
        <p:spPr>
          <a:xfrm>
            <a:off x="4067280" y="3068640"/>
            <a:ext cx="4086000" cy="2333520"/>
          </a:xfrm>
          <a:prstGeom prst="rect">
            <a:avLst/>
          </a:prstGeom>
          <a:ln w="0">
            <a:noFill/>
          </a:ln>
        </p:spPr>
      </p:pic>
      <p:sp>
        <p:nvSpPr>
          <p:cNvPr id="1381" name=""/>
          <p:cNvSpPr txBox="1"/>
          <p:nvPr/>
        </p:nvSpPr>
        <p:spPr>
          <a:xfrm>
            <a:off x="2987640" y="3357720"/>
            <a:ext cx="93348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隐蔽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3059280" y="2349360"/>
            <a:ext cx="933120" cy="5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干燥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7812000" y="2997360"/>
            <a:ext cx="93348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有平台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84" name=""/>
          <p:cNvSpPr txBox="1"/>
          <p:nvPr/>
        </p:nvSpPr>
        <p:spPr>
          <a:xfrm rot="5400000">
            <a:off x="3119040" y="473724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cc99ff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光滑</a:t>
            </a:r>
            <a:endParaRPr b="1" lang="en-US" sz="2400" spc="1" strike="noStrike">
              <a:ln w="12600">
                <a:solidFill>
                  <a:srgbClr val="cc99ff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3492360" y="573408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ccff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平整</a:t>
            </a:r>
            <a:endParaRPr b="1" lang="en-US" sz="2400" spc="1" strike="noStrike">
              <a:ln w="12600">
                <a:solidFill>
                  <a:srgbClr val="99ccff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5292720" y="587700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cc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简朴</a:t>
            </a:r>
            <a:endParaRPr b="1" lang="en-US" sz="2400" spc="1" strike="noStrike">
              <a:ln w="12600">
                <a:solidFill>
                  <a:srgbClr val="99cc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6804000" y="587700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99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清洁</a:t>
            </a:r>
            <a:endParaRPr b="1" lang="en-US" sz="2400" spc="1" strike="noStrike">
              <a:ln w="12600">
                <a:solidFill>
                  <a:srgbClr val="ff99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88" name=""/>
          <p:cNvSpPr txBox="1"/>
          <p:nvPr/>
        </p:nvSpPr>
        <p:spPr>
          <a:xfrm rot="5400000">
            <a:off x="8159400" y="552924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99cc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卫生</a:t>
            </a:r>
            <a:endParaRPr b="1" lang="en-US" sz="2400" spc="1" strike="noStrike">
              <a:ln w="12600">
                <a:solidFill>
                  <a:srgbClr val="ff99cc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1960" y="-53280"/>
            <a:ext cx="7153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4859280" y="2060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向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796000" y="2349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弯弯曲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524720" y="2133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有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1:22:08Z</dcterms:created>
  <dc:creator>wangliping</dc:creator>
  <dc:description/>
  <dc:language>en-US</dc:language>
  <cp:lastModifiedBy>zmj</cp:lastModifiedBy>
  <dcterms:modified xsi:type="dcterms:W3CDTF">2012-07-29T14:05:31Z</dcterms:modified>
  <cp:revision>13</cp:revision>
  <dc:subject/>
  <dc:title>PowerPoint 演示文稿</dc:title>
</cp:coreProperties>
</file>