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22.wmf" ContentType="image/x-wmf"/>
  <Override PartName="/ppt/media/image20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2.gif" ContentType="image/gif"/>
  <Override PartName="/ppt/media/image11.jpeg" ContentType="image/jpeg"/>
  <Override PartName="/ppt/media/image9.jpeg" ContentType="image/jpeg"/>
  <Override PartName="/ppt/media/image36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12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.png" ContentType="image/png"/>
  <Override PartName="/ppt/media/image17.jpeg" ContentType="image/jpeg"/>
  <Override PartName="/ppt/media/image4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09F-3B25-41B4-B6C9-D809E0F4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537-7FCA-4B6C-A24E-93CC3E36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33F-E971-4404-9876-0E74CDC2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909-5054-4CA7-8214-B6D6F3AA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DF2-A2E4-4014-BB54-A25CD09A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079-BEEC-4BD2-9318-876DE47F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24C-DB8D-4250-8AEF-D92DC855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413-5073-4BA4-82E3-8853E34F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395-6733-4315-8C70-E4187F85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B66-99B5-405D-B960-9DDF6103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8245-AC57-4C86-8BAB-B8BE884E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969-5A3B-47A1-8FC3-AA5B357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E592-3088-490B-8226-7C4EB34F0C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wmf"/><Relationship Id="rId3" Type="http://schemas.openxmlformats.org/officeDocument/2006/relationships/hyperlink" Target="http://image.baidu.com/i?ct=503316480&amp;z=432652&amp;tn=baiduimagedetail&amp;word=&#21160;&#28459;%20&#22836;&#20687;&amp;in=70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http://image.baidu.com/i?ct=503316480&amp;z=296379650&amp;tn=baiduimagedetail&amp;word=QQ&#34920;&#24773;&amp;in=361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hyperlink" Target="http://image.baidu.com/i?ct=503316480&amp;z=60424352&amp;tn=baiduimagedetail&amp;word=&#21160;&#28459;%20&#22836;&#20687;&amp;in=716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6.xml"/><Relationship Id="rId3" Type="http://schemas.openxmlformats.org/officeDocument/2006/relationships/hyperlink" Target="http://image.baidu.com/i?ct=503316480&amp;z=640357850&amp;tn=baiduimagedetail&amp;word=&#19968;&#20241;&amp;in=473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hyperlink" Target="http://image.baidu.com/i?ct=503316480&amp;z=46599900&amp;tn=baiduimagedetail&amp;word=&#21160;&#28459;%20&#22836;&#20687;&amp;in=601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6.xml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33548953&amp;tn=baiduimagedetail&amp;word=&#34763;&#34752;&amp;in=110" TargetMode="External"/><Relationship Id="rId2" Type="http://schemas.openxmlformats.org/officeDocument/2006/relationships/image" Target="../media/image24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32652&amp;tn=baiduimagedetail&amp;word=&#21160;&#28459;%20&#22836;&#20687;&amp;in=70" TargetMode="External"/><Relationship Id="rId2" Type="http://schemas.openxmlformats.org/officeDocument/2006/relationships/slide" Target="slide15.xml"/><Relationship Id="rId3" Type="http://schemas.openxmlformats.org/officeDocument/2006/relationships/hyperlink" Target="http://image.baidu.com/i?ct=503316480&amp;z=379459703&amp;tn=baiduimagedetail&amp;word=QQ&#34920;&#24773;&amp;in=442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6.xm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801009601&amp;tn=baiduimagedetail&amp;word=&#34763;&#34752;&amp;in=57" TargetMode="External"/><Relationship Id="rId2" Type="http://schemas.openxmlformats.org/officeDocument/2006/relationships/image" Target="../media/image27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hyperlink" Target="http://xiaoma.friendtest.cn/dispbbs.asp?boardID=545&amp;ID=16722&amp;star=4&amp;page=1" TargetMode="External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10424503&amp;tn=baiduimagedetail&amp;word=&#34763;&#34752;&amp;in=94" TargetMode="External"/><Relationship Id="rId2" Type="http://schemas.openxmlformats.org/officeDocument/2006/relationships/image" Target="../media/image28.jpeg"/><Relationship Id="rId3" Type="http://schemas.openxmlformats.org/officeDocument/2006/relationships/slide" Target="slide18.xml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95952100&amp;tn=baiduimagedetail&amp;word=&#34763;&#34752;&amp;in=8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.baidu.com/i?ct=503316480&amp;z=530033950&amp;tn=baiduimagedetail&amp;word=&#34763;&#34752;&amp;in=29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.baidu.com/i?ct=503316480&amp;z=700776551&amp;tn=baiduimagedetail&amp;word=&#34763;&#34752;&amp;in=52" TargetMode="External"/><Relationship Id="rId6" Type="http://schemas.openxmlformats.org/officeDocument/2006/relationships/image" Target="../media/image33.jpeg"/><Relationship Id="rId7" Type="http://schemas.openxmlformats.org/officeDocument/2006/relationships/hyperlink" Target="http://image.baidu.com/i?ct=503316480&amp;z=1105828402&amp;tn=baiduimagedetail&amp;word=&#34763;&#34752;&amp;in=65" TargetMode="External"/><Relationship Id="rId8" Type="http://schemas.openxmlformats.org/officeDocument/2006/relationships/image" Target="../media/image34.jpeg"/><Relationship Id="rId9" Type="http://schemas.openxmlformats.org/officeDocument/2006/relationships/hyperlink" Target="http://image.baidu.com/i?ct=503316480&amp;z=1160428753&amp;tn=baiduimagedetail&amp;word=&#34763;&#34752;&amp;in=111" TargetMode="External"/><Relationship Id="rId10" Type="http://schemas.openxmlformats.org/officeDocument/2006/relationships/image" Target="../media/image35.jpeg"/><Relationship Id="rId11" Type="http://schemas.openxmlformats.org/officeDocument/2006/relationships/hyperlink" Target="http://image.baidu.com/i?ct=503316480&amp;z=574987453&amp;tn=baiduimagedetail&amp;word=&#34763;&#34752;&amp;in=223" TargetMode="External"/><Relationship Id="rId12" Type="http://schemas.openxmlformats.org/officeDocument/2006/relationships/image" Target="../media/image36.jpeg"/><Relationship Id="rId13" Type="http://schemas.openxmlformats.org/officeDocument/2006/relationships/slide" Target="slide4.xml"/><Relationship Id="rId1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03564050&amp;tn=baiduimagedetail&amp;word=&#21517;&#30011;&amp;in=48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image.baidu.com/i?ct=503316480&amp;z=915431551&amp;tn=baiduimagedetail&amp;word=QQ&#34920;&#24773;&amp;in=976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hyperlink" Target="http://image.baidu.com/i?ct=503316480&amp;z=15514100&amp;tn=baiduimagedetail&amp;word=&#21160;&#28459;%20&#22836;&#20687;&amp;in=262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hyperlink" Target="http://image.baidu.com/i?ct=503316480&amp;z=36344202&amp;tn=baiduimagedetail&amp;word=&#34763;&#34752;&amp;in=147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0.xml"/><Relationship Id="rId3" Type="http://schemas.openxmlformats.org/officeDocument/2006/relationships/hyperlink" Target="http://image.baidu.com/i?ct=503316480&amp;z=1052176452&amp;tn=baiduimagedetail&amp;word=&#34763;&#34752;&amp;in=3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8.xml"/><Relationship Id="rId4" Type="http://schemas.openxmlformats.org/officeDocument/2006/relationships/hyperlink" Target="http://image.baidu.com/i?ct=503316480&amp;z=817092101&amp;tn=baiduimagedetail&amp;word=QQ&#34920;&#24773;&amp;in=975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3120" y="0"/>
            <a:ext cx="9445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4572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150cce"/>
                </a:solidFill>
                <a:latin typeface="Times New Roman"/>
                <a:ea typeface="隶书"/>
              </a:rPr>
              <a:t>蟋蟀的住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42900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60920" y="2133720"/>
            <a:ext cx="39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616e2"/>
                </a:solidFill>
                <a:latin typeface="Times New Roman"/>
                <a:ea typeface="隶书"/>
              </a:rPr>
              <a:t>小学第九册     </a:t>
            </a:r>
            <a:r>
              <a:rPr b="0" lang="zh-CN" sz="3600" spc="-1" strike="noStrike">
                <a:solidFill>
                  <a:srgbClr val="0616e2"/>
                </a:solidFill>
                <a:latin typeface="Times New Roman"/>
                <a:ea typeface="隶书"/>
              </a:rPr>
              <a:t>2</a:t>
            </a:r>
            <a:r>
              <a:rPr b="0" lang="zh-CN" sz="3600" spc="-1" strike="noStrike">
                <a:solidFill>
                  <a:srgbClr val="0616e2"/>
                </a:solidFill>
                <a:latin typeface="Times New Roman"/>
                <a:ea typeface="隶书"/>
              </a:rPr>
              <a:t>课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376920" y="3657600"/>
            <a:ext cx="13993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07bf"/>
                </a:solidFill>
                <a:latin typeface="Times New Roman"/>
                <a:ea typeface="隶书"/>
              </a:rPr>
              <a:t>授课老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18280" y="4267080"/>
            <a:ext cx="549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3048120"/>
            <a:ext cx="54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3840" y="3886200"/>
            <a:ext cx="549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4648320"/>
            <a:ext cx="53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14ce8"/>
                </a:solidFill>
                <a:latin typeface="Times New Roman"/>
                <a:ea typeface="隶书"/>
              </a:rPr>
              <a:t>李丽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302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隶书"/>
              </a:rPr>
              <a:t>跟我学词语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9056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住宅         毫不可惜           随遇而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         住址            挖掘          柔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慎重         骤雨             钳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295880"/>
            <a:ext cx="59436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词语的学习与运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般的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重点的词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2444760" cy="2132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15200" y="228600"/>
            <a:ext cx="143496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860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重点的词语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能够灵活运用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371600"/>
            <a:ext cx="8001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遇而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适应各种环境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任何环境中都能满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随遇而安的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慎重：十分地认真。   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慎重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挑选。    如：选择对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弱。    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性柔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骤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急速猛烈的雨 。     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暴风骤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08440" y="6019920"/>
            <a:ext cx="54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715000"/>
            <a:ext cx="6324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8077320" y="64008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2057400"/>
            <a:ext cx="16002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609480"/>
            <a:ext cx="83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一般的词语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会读会写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120" y="1828800"/>
            <a:ext cx="8839440" cy="48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指规模较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     如： 住宅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居住的地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城镇、乡村、街道的名称和门牌号          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 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家庭住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毫不可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点也不觉得可惜。    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毫不可惜地扔废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掘。    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掘生产潜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钳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来夹住或夹断东西的器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把钳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5943600"/>
            <a:ext cx="6705360" cy="609480"/>
          </a:xfrm>
          <a:custGeom>
            <a:avLst/>
            <a:gdLst>
              <a:gd name="textAreaLeft" fmla="*/ 0 w 6705360"/>
              <a:gd name="textAreaRight" fmla="*/ 6705720 w 6705360"/>
              <a:gd name="textAreaTop" fmla="*/ 78840 h 609480"/>
              <a:gd name="textAreaBottom" fmla="*/ 530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5943600"/>
            <a:ext cx="358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8381880" y="6400800"/>
            <a:ext cx="684360" cy="380880"/>
          </a:xfrm>
          <a:custGeom>
            <a:avLst/>
            <a:gdLst>
              <a:gd name="textAreaLeft" fmla="*/ 24480 w 684360"/>
              <a:gd name="textAreaRight" fmla="*/ 659880 w 684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794" h="21600">
                <a:moveTo>
                  <a:pt x="0" y="0"/>
                </a:moveTo>
                <a:lnTo>
                  <a:pt x="38794" y="0"/>
                </a:lnTo>
                <a:lnTo>
                  <a:pt x="38794" y="21600"/>
                </a:lnTo>
                <a:lnTo>
                  <a:pt x="0" y="21600"/>
                </a:lnTo>
                <a:close/>
              </a:path>
              <a:path fill="lightenLess" w="38794" h="21600">
                <a:moveTo>
                  <a:pt x="0" y="0"/>
                </a:moveTo>
                <a:lnTo>
                  <a:pt x="38794" y="0"/>
                </a:lnTo>
                <a:lnTo>
                  <a:pt x="37394" y="1400"/>
                </a:lnTo>
                <a:lnTo>
                  <a:pt x="1400" y="1400"/>
                </a:lnTo>
                <a:close/>
              </a:path>
              <a:path fill="darken" w="38794" h="21600">
                <a:moveTo>
                  <a:pt x="38794" y="0"/>
                </a:moveTo>
                <a:lnTo>
                  <a:pt x="38794" y="21600"/>
                </a:lnTo>
                <a:lnTo>
                  <a:pt x="37394" y="20200"/>
                </a:lnTo>
                <a:lnTo>
                  <a:pt x="37394" y="1400"/>
                </a:lnTo>
                <a:close/>
              </a:path>
              <a:path fill="darkenLess" w="38794" h="21600">
                <a:moveTo>
                  <a:pt x="3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94" y="20200"/>
                </a:lnTo>
                <a:close/>
              </a:path>
              <a:path fill="lighten" w="3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114800"/>
            <a:ext cx="2057400" cy="150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76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隶书"/>
              </a:rPr>
              <a:t>跟我学语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447920"/>
            <a:ext cx="84567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出名不光由于它的唱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由于它的住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联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口的地方总有一丛草半掩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像一座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蟋蟀在这平台上弹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拟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蟋蟀钻到土底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感到疲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就在这未完工的家门口休息一会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联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533520" y="5181480"/>
            <a:ext cx="3200400" cy="533520"/>
          </a:xfrm>
          <a:prstGeom prst="flowChartTerminator">
            <a:avLst/>
          </a:prstGeom>
          <a:solidFill>
            <a:srgbClr val="bbe0e3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6019920"/>
            <a:ext cx="5715000" cy="60948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5181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学会运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6019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04920"/>
            <a:ext cx="1905120" cy="92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838080"/>
            <a:ext cx="82296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光……还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明不光会唱歌还会跳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空的彩虹像一弯拱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拟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鱼儿在水里欢快地跳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……就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明天转晴了就去公园放风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9246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2133720"/>
            <a:ext cx="3047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304920"/>
            <a:ext cx="784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课文理解及难点剖析</a:t>
            </a: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1295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关于蟋蟀住宅的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209680"/>
            <a:ext cx="7391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课文中描写蟋蟀住宅的段落                                                并熟读归纳出它的特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文的五至七段主要写了蟋蟀的住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读边想象蟋蟀住宅的样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在头脑中形成画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533520" y="4267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老师画的蟋蟀住宅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同学加以补充完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533520" y="4876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图结合课文并请同学概括蟋蟀住宅的特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5335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4" action="ppaction://hlinksldjump"/>
          </p:cNvPr>
          <p:cNvSpPr/>
          <p:nvPr/>
        </p:nvSpPr>
        <p:spPr>
          <a:xfrm>
            <a:off x="8001000" y="60958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6477120" y="1447920"/>
            <a:ext cx="2133360" cy="2038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304920" y="6172200"/>
            <a:ext cx="7543800" cy="331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280" y="45720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行楷"/>
              </a:rPr>
              <a:t>蟋蟀住宅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419720"/>
            <a:ext cx="701028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03650"/>
                </a:solidFill>
                <a:latin typeface="Times New Roman"/>
                <a:ea typeface="隶书"/>
              </a:rPr>
              <a:t>住宅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朝阳     干燥     隐蔽     弯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光滑     清洁     简朴     平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495680"/>
            <a:ext cx="2590560" cy="213372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rId3" action="ppaction://hlinksldjump"/>
          </p:cNvPr>
          <p:cNvSpPr/>
          <p:nvPr/>
        </p:nvSpPr>
        <p:spPr>
          <a:xfrm>
            <a:off x="8381880" y="6400800"/>
            <a:ext cx="608040" cy="304920"/>
          </a:xfrm>
          <a:custGeom>
            <a:avLst/>
            <a:gdLst>
              <a:gd name="textAreaLeft" fmla="*/ 19440 w 608040"/>
              <a:gd name="textAreaRight" fmla="*/ 588600 w 6080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047" h="21600">
                <a:moveTo>
                  <a:pt x="0" y="0"/>
                </a:moveTo>
                <a:lnTo>
                  <a:pt x="43047" y="0"/>
                </a:lnTo>
                <a:lnTo>
                  <a:pt x="43047" y="21600"/>
                </a:lnTo>
                <a:lnTo>
                  <a:pt x="0" y="21600"/>
                </a:lnTo>
                <a:close/>
              </a:path>
              <a:path fill="lightenLess" w="43047" h="21600">
                <a:moveTo>
                  <a:pt x="0" y="0"/>
                </a:moveTo>
                <a:lnTo>
                  <a:pt x="43047" y="0"/>
                </a:lnTo>
                <a:lnTo>
                  <a:pt x="41647" y="1400"/>
                </a:lnTo>
                <a:lnTo>
                  <a:pt x="1400" y="1400"/>
                </a:lnTo>
                <a:close/>
              </a:path>
              <a:path fill="darken" w="43047" h="21600">
                <a:moveTo>
                  <a:pt x="43047" y="0"/>
                </a:moveTo>
                <a:lnTo>
                  <a:pt x="43047" y="21600"/>
                </a:lnTo>
                <a:lnTo>
                  <a:pt x="41647" y="20200"/>
                </a:lnTo>
                <a:lnTo>
                  <a:pt x="41647" y="1400"/>
                </a:lnTo>
                <a:close/>
              </a:path>
              <a:path fill="darkenLess" w="43047" h="21600">
                <a:moveTo>
                  <a:pt x="43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47" y="20200"/>
                </a:lnTo>
                <a:close/>
              </a:path>
              <a:path fill="lighten" w="43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676520"/>
            <a:ext cx="2362320" cy="23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971800"/>
            <a:ext cx="426960" cy="655560"/>
          </a:xfrm>
          <a:custGeom>
            <a:avLst/>
            <a:gdLst/>
            <a:ahLst/>
            <a:rect l="l" t="t" r="r" b="b"/>
            <a:pathLst>
              <a:path w="269" h="413">
                <a:moveTo>
                  <a:pt x="0" y="413"/>
                </a:moveTo>
                <a:cubicBezTo>
                  <a:pt x="48" y="381"/>
                  <a:pt x="66" y="328"/>
                  <a:pt x="106" y="288"/>
                </a:cubicBezTo>
                <a:cubicBezTo>
                  <a:pt x="114" y="280"/>
                  <a:pt x="126" y="276"/>
                  <a:pt x="135" y="269"/>
                </a:cubicBezTo>
                <a:cubicBezTo>
                  <a:pt x="145" y="260"/>
                  <a:pt x="154" y="250"/>
                  <a:pt x="163" y="240"/>
                </a:cubicBezTo>
                <a:cubicBezTo>
                  <a:pt x="181" y="188"/>
                  <a:pt x="161" y="232"/>
                  <a:pt x="202" y="183"/>
                </a:cubicBezTo>
                <a:cubicBezTo>
                  <a:pt x="224" y="157"/>
                  <a:pt x="231" y="124"/>
                  <a:pt x="250" y="96"/>
                </a:cubicBezTo>
                <a:cubicBezTo>
                  <a:pt x="259" y="5"/>
                  <a:pt x="239" y="30"/>
                  <a:pt x="26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2590920"/>
            <a:ext cx="715680" cy="210960"/>
          </a:xfrm>
          <a:custGeom>
            <a:avLst/>
            <a:gdLst/>
            <a:ahLst/>
            <a:rect l="l" t="t" r="r" b="b"/>
            <a:pathLst>
              <a:path w="451" h="133">
                <a:moveTo>
                  <a:pt x="0" y="118"/>
                </a:moveTo>
                <a:cubicBezTo>
                  <a:pt x="123" y="110"/>
                  <a:pt x="136" y="133"/>
                  <a:pt x="202" y="70"/>
                </a:cubicBezTo>
                <a:cubicBezTo>
                  <a:pt x="224" y="0"/>
                  <a:pt x="264" y="24"/>
                  <a:pt x="336" y="31"/>
                </a:cubicBezTo>
                <a:cubicBezTo>
                  <a:pt x="346" y="34"/>
                  <a:pt x="355" y="43"/>
                  <a:pt x="365" y="41"/>
                </a:cubicBezTo>
                <a:cubicBezTo>
                  <a:pt x="376" y="39"/>
                  <a:pt x="384" y="27"/>
                  <a:pt x="394" y="22"/>
                </a:cubicBezTo>
                <a:cubicBezTo>
                  <a:pt x="420" y="9"/>
                  <a:pt x="423" y="12"/>
                  <a:pt x="451" y="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2819520"/>
            <a:ext cx="808200" cy="185760"/>
          </a:xfrm>
          <a:custGeom>
            <a:avLst/>
            <a:gdLst/>
            <a:ahLst/>
            <a:rect l="l" t="t" r="r" b="b"/>
            <a:pathLst>
              <a:path w="509" h="117">
                <a:moveTo>
                  <a:pt x="0" y="115"/>
                </a:moveTo>
                <a:cubicBezTo>
                  <a:pt x="74" y="112"/>
                  <a:pt x="148" y="117"/>
                  <a:pt x="221" y="105"/>
                </a:cubicBezTo>
                <a:cubicBezTo>
                  <a:pt x="243" y="101"/>
                  <a:pt x="249" y="67"/>
                  <a:pt x="269" y="57"/>
                </a:cubicBezTo>
                <a:cubicBezTo>
                  <a:pt x="305" y="39"/>
                  <a:pt x="403" y="39"/>
                  <a:pt x="413" y="38"/>
                </a:cubicBezTo>
                <a:cubicBezTo>
                  <a:pt x="447" y="27"/>
                  <a:pt x="472" y="0"/>
                  <a:pt x="50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286000"/>
            <a:ext cx="1512720" cy="1397160"/>
          </a:xfrm>
          <a:custGeom>
            <a:avLst/>
            <a:gdLst/>
            <a:ahLst/>
            <a:rect l="l" t="t" r="r" b="b"/>
            <a:pathLst>
              <a:path w="953" h="880">
                <a:moveTo>
                  <a:pt x="0" y="323"/>
                </a:moveTo>
                <a:cubicBezTo>
                  <a:pt x="29" y="279"/>
                  <a:pt x="34" y="300"/>
                  <a:pt x="67" y="265"/>
                </a:cubicBezTo>
                <a:cubicBezTo>
                  <a:pt x="70" y="256"/>
                  <a:pt x="70" y="244"/>
                  <a:pt x="77" y="237"/>
                </a:cubicBezTo>
                <a:cubicBezTo>
                  <a:pt x="84" y="230"/>
                  <a:pt x="100" y="235"/>
                  <a:pt x="106" y="227"/>
                </a:cubicBezTo>
                <a:cubicBezTo>
                  <a:pt x="144" y="174"/>
                  <a:pt x="118" y="71"/>
                  <a:pt x="182" y="35"/>
                </a:cubicBezTo>
                <a:cubicBezTo>
                  <a:pt x="200" y="25"/>
                  <a:pt x="221" y="22"/>
                  <a:pt x="240" y="16"/>
                </a:cubicBezTo>
                <a:cubicBezTo>
                  <a:pt x="283" y="2"/>
                  <a:pt x="329" y="9"/>
                  <a:pt x="374" y="6"/>
                </a:cubicBezTo>
                <a:cubicBezTo>
                  <a:pt x="455" y="20"/>
                  <a:pt x="420" y="0"/>
                  <a:pt x="470" y="73"/>
                </a:cubicBezTo>
                <a:cubicBezTo>
                  <a:pt x="477" y="83"/>
                  <a:pt x="483" y="92"/>
                  <a:pt x="490" y="102"/>
                </a:cubicBezTo>
                <a:cubicBezTo>
                  <a:pt x="496" y="112"/>
                  <a:pt x="509" y="131"/>
                  <a:pt x="509" y="131"/>
                </a:cubicBezTo>
                <a:cubicBezTo>
                  <a:pt x="523" y="175"/>
                  <a:pt x="562" y="204"/>
                  <a:pt x="576" y="246"/>
                </a:cubicBezTo>
                <a:cubicBezTo>
                  <a:pt x="588" y="281"/>
                  <a:pt x="593" y="311"/>
                  <a:pt x="614" y="342"/>
                </a:cubicBezTo>
                <a:cubicBezTo>
                  <a:pt x="630" y="403"/>
                  <a:pt x="615" y="372"/>
                  <a:pt x="672" y="429"/>
                </a:cubicBezTo>
                <a:cubicBezTo>
                  <a:pt x="716" y="473"/>
                  <a:pt x="669" y="439"/>
                  <a:pt x="701" y="486"/>
                </a:cubicBezTo>
                <a:cubicBezTo>
                  <a:pt x="720" y="514"/>
                  <a:pt x="750" y="544"/>
                  <a:pt x="778" y="563"/>
                </a:cubicBezTo>
                <a:cubicBezTo>
                  <a:pt x="792" y="607"/>
                  <a:pt x="820" y="631"/>
                  <a:pt x="845" y="669"/>
                </a:cubicBezTo>
                <a:cubicBezTo>
                  <a:pt x="848" y="682"/>
                  <a:pt x="855" y="694"/>
                  <a:pt x="854" y="707"/>
                </a:cubicBezTo>
                <a:cubicBezTo>
                  <a:pt x="852" y="727"/>
                  <a:pt x="835" y="765"/>
                  <a:pt x="835" y="765"/>
                </a:cubicBezTo>
                <a:cubicBezTo>
                  <a:pt x="861" y="803"/>
                  <a:pt x="882" y="837"/>
                  <a:pt x="922" y="861"/>
                </a:cubicBezTo>
                <a:cubicBezTo>
                  <a:pt x="953" y="880"/>
                  <a:pt x="950" y="857"/>
                  <a:pt x="950" y="88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676520"/>
            <a:ext cx="2362320" cy="23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2438280"/>
            <a:ext cx="1355760" cy="1468440"/>
          </a:xfrm>
          <a:custGeom>
            <a:avLst/>
            <a:gdLst/>
            <a:ahLst/>
            <a:rect l="l" t="t" r="r" b="b"/>
            <a:pathLst>
              <a:path w="854" h="925">
                <a:moveTo>
                  <a:pt x="0" y="244"/>
                </a:moveTo>
                <a:cubicBezTo>
                  <a:pt x="50" y="211"/>
                  <a:pt x="21" y="204"/>
                  <a:pt x="58" y="167"/>
                </a:cubicBezTo>
                <a:cubicBezTo>
                  <a:pt x="83" y="142"/>
                  <a:pt x="120" y="110"/>
                  <a:pt x="154" y="100"/>
                </a:cubicBezTo>
                <a:cubicBezTo>
                  <a:pt x="182" y="81"/>
                  <a:pt x="198" y="62"/>
                  <a:pt x="230" y="52"/>
                </a:cubicBezTo>
                <a:cubicBezTo>
                  <a:pt x="254" y="30"/>
                  <a:pt x="280" y="22"/>
                  <a:pt x="307" y="4"/>
                </a:cubicBezTo>
                <a:cubicBezTo>
                  <a:pt x="371" y="7"/>
                  <a:pt x="436" y="0"/>
                  <a:pt x="499" y="13"/>
                </a:cubicBezTo>
                <a:cubicBezTo>
                  <a:pt x="517" y="17"/>
                  <a:pt x="538" y="52"/>
                  <a:pt x="538" y="52"/>
                </a:cubicBezTo>
                <a:cubicBezTo>
                  <a:pt x="570" y="155"/>
                  <a:pt x="595" y="290"/>
                  <a:pt x="653" y="378"/>
                </a:cubicBezTo>
                <a:cubicBezTo>
                  <a:pt x="658" y="404"/>
                  <a:pt x="668" y="429"/>
                  <a:pt x="672" y="455"/>
                </a:cubicBezTo>
                <a:cubicBezTo>
                  <a:pt x="680" y="509"/>
                  <a:pt x="691" y="618"/>
                  <a:pt x="691" y="618"/>
                </a:cubicBezTo>
                <a:cubicBezTo>
                  <a:pt x="678" y="661"/>
                  <a:pt x="697" y="692"/>
                  <a:pt x="710" y="733"/>
                </a:cubicBezTo>
                <a:cubicBezTo>
                  <a:pt x="717" y="755"/>
                  <a:pt x="742" y="765"/>
                  <a:pt x="758" y="781"/>
                </a:cubicBezTo>
                <a:cubicBezTo>
                  <a:pt x="768" y="791"/>
                  <a:pt x="787" y="810"/>
                  <a:pt x="787" y="810"/>
                </a:cubicBezTo>
                <a:cubicBezTo>
                  <a:pt x="795" y="832"/>
                  <a:pt x="796" y="856"/>
                  <a:pt x="806" y="877"/>
                </a:cubicBezTo>
                <a:cubicBezTo>
                  <a:pt x="817" y="899"/>
                  <a:pt x="854" y="901"/>
                  <a:pt x="854" y="925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94400" y="3108240"/>
            <a:ext cx="411120" cy="655560"/>
          </a:xfrm>
          <a:custGeom>
            <a:avLst/>
            <a:gdLst/>
            <a:ahLst/>
            <a:rect l="l" t="t" r="r" b="b"/>
            <a:pathLst>
              <a:path w="259" h="413">
                <a:moveTo>
                  <a:pt x="259" y="0"/>
                </a:moveTo>
                <a:cubicBezTo>
                  <a:pt x="233" y="76"/>
                  <a:pt x="178" y="137"/>
                  <a:pt x="134" y="202"/>
                </a:cubicBezTo>
                <a:cubicBezTo>
                  <a:pt x="121" y="221"/>
                  <a:pt x="109" y="241"/>
                  <a:pt x="96" y="260"/>
                </a:cubicBezTo>
                <a:cubicBezTo>
                  <a:pt x="90" y="269"/>
                  <a:pt x="77" y="288"/>
                  <a:pt x="77" y="288"/>
                </a:cubicBezTo>
                <a:cubicBezTo>
                  <a:pt x="74" y="314"/>
                  <a:pt x="76" y="341"/>
                  <a:pt x="67" y="365"/>
                </a:cubicBezTo>
                <a:cubicBezTo>
                  <a:pt x="54" y="400"/>
                  <a:pt x="21" y="392"/>
                  <a:pt x="0" y="413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2819520"/>
            <a:ext cx="914400" cy="457200"/>
          </a:xfrm>
          <a:prstGeom prst="irregularSeal1">
            <a:avLst/>
          </a:prstGeom>
          <a:solidFill>
            <a:srgbClr val="637e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2057400"/>
            <a:ext cx="381240" cy="380880"/>
          </a:xfrm>
          <a:prstGeom prst="flowChartConnector">
            <a:avLst/>
          </a:prstGeom>
          <a:solidFill>
            <a:srgbClr val="d036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-763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结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8001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这些都是蟋蟀住宅的特点。这么多的特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能不能用一句话加以概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把这些特点介绍出来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自己试一试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4114800"/>
            <a:ext cx="1676520" cy="533520"/>
          </a:xfrm>
          <a:prstGeom prst="wedgeRoundRectCallout">
            <a:avLst>
              <a:gd name="adj1" fmla="val -33805"/>
              <a:gd name="adj2" fmla="val -244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引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80060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加入关联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住宅的特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仅朝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干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隐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弯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而且平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光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清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简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另一种说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住宅的特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既朝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干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隐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弯曲又平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光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清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简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8077320" y="63244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52280"/>
            <a:ext cx="1066680" cy="83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2286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课文理解及难点剖析</a:t>
            </a: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26216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理解蟋蟀修建住宅的过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体会蟋蟀吃苦耐劳的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590920"/>
            <a:ext cx="424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2880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熟读课文第八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找出蟋蟀建造住宅所用的工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96252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762120" y="3276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图把工具与蟋蟀的身体部位连接起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3809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合图形给大家介绍一下蟋蟀是如何使用这些工具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56560" y="57913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762120" y="44355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自己想象成一只可爱的小蟋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合图形简单介绍建造住宅的情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98560" y="604044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54100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蟋蟀的精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吃苦耐劳的精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5943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赞美的情感朗读课文八至十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943600" y="5181480"/>
            <a:ext cx="1905120" cy="102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3049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行楷"/>
              </a:rPr>
              <a:t>看图结合课文连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1709640"/>
            <a:ext cx="2210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钳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3736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486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用工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前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钳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523880"/>
            <a:ext cx="1828800" cy="2590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81280" y="2438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733920" y="1980720"/>
            <a:ext cx="1904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35812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352680" y="29718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20574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猜谜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094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华文行楷"/>
              </a:rPr>
              <a:t>课前活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380880" y="32767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学们喜欢猜谜语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咱们一起做个猜谜语的游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谁猜得又对又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面有三则关于昆虫的谜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228600"/>
            <a:ext cx="236196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28600" y="5761080"/>
            <a:ext cx="8761320" cy="79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6094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琥珀"/>
              </a:rPr>
              <a:t>小活动：</a:t>
            </a:r>
            <a:r>
              <a:rPr b="0" lang="zh-CN" sz="2400" spc="-1" strike="noStrike">
                <a:solidFill>
                  <a:srgbClr val="d0365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隶书"/>
              </a:rPr>
              <a:t>转动脑袋说一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828800"/>
            <a:ext cx="72388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请两位同学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教师感情渲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是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这些小蟋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就是用这样柔弱的工具建造它们的住宅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它们不停地挖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有时一连工作两三个小时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就连昆虫爱好者法布尔先生都看得有些不耐烦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可是它们还在不停地挖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3124080" cy="9302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8153280" y="6324480"/>
            <a:ext cx="838440" cy="38124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79" h="21600">
                <a:moveTo>
                  <a:pt x="0" y="0"/>
                </a:moveTo>
                <a:lnTo>
                  <a:pt x="47479" y="0"/>
                </a:lnTo>
                <a:lnTo>
                  <a:pt x="47479" y="21600"/>
                </a:lnTo>
                <a:lnTo>
                  <a:pt x="0" y="21600"/>
                </a:lnTo>
                <a:close/>
              </a:path>
              <a:path fill="lightenLess" w="47479" h="21600">
                <a:moveTo>
                  <a:pt x="0" y="0"/>
                </a:moveTo>
                <a:lnTo>
                  <a:pt x="47479" y="0"/>
                </a:lnTo>
                <a:lnTo>
                  <a:pt x="46079" y="1400"/>
                </a:lnTo>
                <a:lnTo>
                  <a:pt x="1400" y="1400"/>
                </a:lnTo>
                <a:close/>
              </a:path>
              <a:path fill="darken" w="47479" h="21600">
                <a:moveTo>
                  <a:pt x="47479" y="0"/>
                </a:moveTo>
                <a:lnTo>
                  <a:pt x="47479" y="21600"/>
                </a:lnTo>
                <a:lnTo>
                  <a:pt x="46079" y="20200"/>
                </a:lnTo>
                <a:lnTo>
                  <a:pt x="46079" y="1400"/>
                </a:lnTo>
                <a:close/>
              </a:path>
              <a:path fill="darkenLess" w="47479" h="21600">
                <a:moveTo>
                  <a:pt x="4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79" y="20200"/>
                </a:lnTo>
                <a:close/>
              </a:path>
              <a:path fill="lighten" w="4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04920" y="5867280"/>
            <a:ext cx="8305560" cy="138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1143000" y="5715000"/>
            <a:ext cx="6858000" cy="22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410240" y="1600200"/>
            <a:ext cx="1521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564b2"/>
                </a:solidFill>
                <a:latin typeface="Times New Roman"/>
                <a:ea typeface="华文行楷"/>
              </a:rPr>
              <a:t>关于蟋蟀的图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73392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2952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95480" y="129528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38680" y="3733920"/>
            <a:ext cx="2286000" cy="2492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12952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b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80880" y="3733920"/>
            <a:ext cx="2286000" cy="2509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8600" y="304920"/>
            <a:ext cx="2209680" cy="609480"/>
          </a:xfrm>
          <a:prstGeom prst="wedgeEllipseCallout">
            <a:avLst>
              <a:gd name="adj1" fmla="val -47412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04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14ce8"/>
                </a:solidFill>
                <a:latin typeface="Times New Roman"/>
                <a:ea typeface="隶书"/>
              </a:rPr>
              <a:t>图片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3" action="ppaction://hlinksldjump"/>
          </p:cNvPr>
          <p:cNvSpPr/>
          <p:nvPr/>
        </p:nvSpPr>
        <p:spPr>
          <a:xfrm>
            <a:off x="8153280" y="64008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7136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1280" y="1238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后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197000"/>
            <a:ext cx="746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课文后的思考练习的第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题和第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4724280"/>
            <a:ext cx="7389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选词填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蟋蟀的住宅（  ）利用现成的洞穴，（ ）自己一点点挖掘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蟋蟀钻到土底下，（）感到疲劳，它（）在未完工的家门口休息一会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它的出名（）由于它的唱歌，（）由于它的住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照样子，造一个把物当做人来写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当四周很安静的时候，蟋蟀就在这平台上弹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造句：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写出跟下面的词意思相近的词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舒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）  安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宽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  慎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、读拼音，写词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óng  dié   sōu  suǒ   zhú jiàn    zhù zh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)   (            )  (           )   (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áo bù  kě xī   suí  yù  ér  ān    xuǎn  z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                  )   (                    )   (   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、按课文内容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朝着阳光堤岸上，青草丛中隐藏着一（）倾斜的隧道，即使有骤雨，这里也立刻就会干的，隧道顺着地势弯弯曲曲，最多不过九寸深，一指宽，这便是蟋蟀的住宅。出口的地方总有一（）草半掩着，就像一（）门。蟋蟀出来吃周围的嫩草，决不去碰这一（）草。那微斜的门口，经过仔细耙扫，收拾得很平坦。这就是蟋蟀的平台。当四周很安静的时候，蟋蟀就在这平台上弹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短文的括号内填上合适的词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从文中找出下列词语的反义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喧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公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从这段文字中，你认为蟋蟀的住宅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答：         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28600"/>
            <a:ext cx="4495680" cy="1066680"/>
          </a:xfrm>
          <a:prstGeom prst="cloudCallout">
            <a:avLst>
              <a:gd name="adj1" fmla="val -69069"/>
              <a:gd name="adj2" fmla="val 90027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猜一猜</a:t>
            </a:r>
            <a:r>
              <a:rPr b="0" lang="zh-CN" sz="28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(</a:t>
            </a:r>
            <a:r>
              <a:rPr b="0" lang="zh-CN" sz="28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打三种昆虫</a:t>
            </a:r>
            <a:r>
              <a:rPr b="0" lang="zh-CN" sz="28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181480"/>
            <a:ext cx="1143000" cy="990720"/>
          </a:xfrm>
          <a:prstGeom prst="smileyFace">
            <a:avLst>
              <a:gd name="adj" fmla="val 9282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5334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14ce8"/>
                </a:solidFill>
                <a:latin typeface="Times New Roman"/>
                <a:ea typeface="华文琥珀"/>
              </a:rPr>
              <a:t>谜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447920" cy="11430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8077320" y="58672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752480"/>
            <a:ext cx="6781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小小飞贼，武器是针，抽别人血，养自己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一条小小虫，自己做灯笼，躲在灯笼里，变个飞仙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小小诸葛亮，独坐军中帐，摆成八卦阵，专抓飞来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2e98"/>
                </a:solidFill>
                <a:latin typeface="Times New Roman"/>
                <a:ea typeface="隶书"/>
              </a:rPr>
              <a:t>蚊子      蚕          蜘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808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38088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e078f"/>
                </a:solidFill>
                <a:latin typeface="Times New Roman"/>
                <a:ea typeface="华文行楷"/>
              </a:rPr>
              <a:t>导入新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0804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又叫蛐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你可能见过或者逮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读读这篇课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它会告诉你蟋蟀不仅会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好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而且有高超的建造住宅的本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这节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将一起去参观它的住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并从中体会蟋蟀有哪些值得我们学习的精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457200" y="5562720"/>
            <a:ext cx="7848720" cy="609480"/>
          </a:xfrm>
          <a:prstGeom prst="cloudCallout">
            <a:avLst>
              <a:gd name="adj1" fmla="val -58009"/>
              <a:gd name="adj2" fmla="val 457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5638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图片欣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关于蟋蟀的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70880" y="4876920"/>
            <a:ext cx="1320840" cy="190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533160"/>
            <a:ext cx="3124080" cy="690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2286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课文学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6765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、汇报预习情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1143000" y="26668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二、生字的学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1143000" y="3624120"/>
            <a:ext cx="655308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三、词语的学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般的词语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会读会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重点的词语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能灵活运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762120"/>
            <a:ext cx="23623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1371600" y="1143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四、语法的学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209680"/>
            <a:ext cx="68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五、课文理解及难点剖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2209680" y="3276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蟋蟀住宅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2209680" y="41148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蟋蟀建造住宅的过程及其所体现的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762120"/>
            <a:ext cx="571680" cy="5181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019920" y="5029200"/>
            <a:ext cx="2666880" cy="149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400800" y="838080"/>
            <a:ext cx="1905120" cy="1305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4572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总结课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828800"/>
            <a:ext cx="76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通过今天的学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不仅了解了蟋蟀住宅的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而且了解了它是如何建造住宅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它的这种吃苦耐劳的精神是值得我们学习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篇课文选自法国著名昆虫学家法布尔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昆虫的故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课后有兴趣的同学可以借来读一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相信大家一定会有更多的收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2362320" cy="1298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8229600" cy="34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隶书"/>
              </a:rPr>
              <a:t>跟我学生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676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7848720" y="60199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48360" y="0"/>
            <a:ext cx="2514600" cy="1036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1773360"/>
            <a:ext cx="61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97000"/>
            <a:ext cx="889308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ái       bì        qì   háo               y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住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隐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放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弃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不可惜   随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安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uǎn        zhǐ     xué      jué       sōu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择   住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洞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挖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索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īng        bā          pā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倾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斜    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土       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03650"/>
                </a:solidFill>
                <a:latin typeface="Times New Roman"/>
                <a:ea typeface="隶书"/>
              </a:rPr>
              <a:t>生字练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965240"/>
            <a:ext cx="7391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蛐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弃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慎            责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址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掘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隧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耙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糙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假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钳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5257800"/>
            <a:ext cx="6324480" cy="914400"/>
          </a:xfrm>
          <a:custGeom>
            <a:avLst/>
            <a:gdLst>
              <a:gd name="textAreaLeft" fmla="*/ 0 w 6324480"/>
              <a:gd name="textAreaRight" fmla="*/ 6324840 w 632448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5410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536400"/>
            <a:ext cx="373356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6:31:37Z</dcterms:created>
  <dc:creator>谭卫</dc:creator>
  <dc:description/>
  <dc:language>en-US</dc:language>
  <cp:lastModifiedBy>微软中国</cp:lastModifiedBy>
  <dcterms:modified xsi:type="dcterms:W3CDTF">2011-09-19T14:14:58Z</dcterms:modified>
  <cp:revision>18</cp:revision>
  <dc:subject/>
  <dc:title>PowerPoint 演示文稿</dc:title>
</cp:coreProperties>
</file>