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1.png" ContentType="image/png"/>
  <Override PartName="/ppt/media/image4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2.png" ContentType="image/png"/>
  <Override PartName="/ppt/media/image3.png" ContentType="image/png"/>
  <Override PartName="/ppt/media/image17.jpeg" ContentType="image/jpe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DF91-6B51-42DD-93CE-225C0B966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8EEC-9C08-4F4B-8306-34D79F5F8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B363-8D47-4E19-98BB-F6CD35A9E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7377-183F-469A-95A9-645913845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F967-39B0-4202-844F-D5B41374F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3989-1855-40FE-9CBA-65EC7A665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2D52-B335-4D48-BF1D-8EFD1075D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F2B4-5C2A-41AF-ACA4-FF01960F4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7BDB-0358-4D62-B049-9267D61D5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0F34-7D42-4323-A07F-951418C8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E6D6-74D9-48B0-A543-F64DD5B8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5B79-5BD6-48CE-B234-0748D5A0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0CB6C-6567-4F4E-8DC0-78EE7A6A83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5724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 rot="5400000">
            <a:off x="5579640" y="2636640"/>
            <a:ext cx="5256000" cy="1081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楷体"/>
              </a:rPr>
              <a:t>蟋蟀的住宅</a:t>
            </a:r>
            <a:endParaRPr b="1" lang="en-US" sz="1800" spc="1" strike="noStrike">
              <a:ln w="255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楷体"/>
              <a:ea typeface="华文楷体"/>
            </a:endParaRPr>
          </a:p>
        </p:txBody>
      </p:sp>
      <p:sp>
        <p:nvSpPr>
          <p:cNvPr id="43" name=""/>
          <p:cNvSpPr/>
          <p:nvPr/>
        </p:nvSpPr>
        <p:spPr>
          <a:xfrm>
            <a:off x="1883880" y="507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人教版四年级上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3348000" y="1341360"/>
            <a:ext cx="280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latin typeface="隶书"/>
              </a:rPr>
              <a:t>教学过程</a:t>
            </a:r>
            <a:endParaRPr b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3366ff"/>
              </a:solidFill>
              <a:latin typeface="隶书"/>
              <a:ea typeface="隶书"/>
            </a:endParaRPr>
          </a:p>
        </p:txBody>
      </p:sp>
      <p:sp>
        <p:nvSpPr>
          <p:cNvPr id="67" name=""/>
          <p:cNvSpPr/>
          <p:nvPr/>
        </p:nvSpPr>
        <p:spPr>
          <a:xfrm>
            <a:off x="4327200" y="2292480"/>
            <a:ext cx="820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二、走进文本、深入探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品读第二段，了解蟋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不肯随遇而安的特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518720" y="984240"/>
            <a:ext cx="4032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蟋蟀和它们不同，不肯随遇而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598480" y="984240"/>
            <a:ext cx="42436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蟋蟀和它们不同，不肯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随遇而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598480" y="984240"/>
            <a:ext cx="42436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蟋蟀和它们不同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不肯随遇而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468520" y="1773360"/>
            <a:ext cx="4478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它常常    地选择住址，一定要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优良，并且有温和的阳光。它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利用现成的洞穴。它的舒服的住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自己一点一点挖掘的，从大厅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直到卧室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742120" y="17794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慎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56000" y="2349360"/>
            <a:ext cx="10792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598480" y="984240"/>
            <a:ext cx="42436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蟋蟀和它们不同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不肯随遇而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68520" y="1773360"/>
            <a:ext cx="4478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它常常    地选择住址，一定要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优良，并且有温和的阳光。它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利用现成的洞穴。它的舒服的住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自己一点一点挖掘的，从大厅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直到卧室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42120" y="17794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慎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611280" y="622440"/>
            <a:ext cx="2232000" cy="50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华文楷体"/>
              </a:rPr>
              <a:t>设计意图：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华文楷体"/>
              <a:ea typeface="华文楷体"/>
            </a:endParaRPr>
          </a:p>
        </p:txBody>
      </p:sp>
      <p:sp>
        <p:nvSpPr>
          <p:cNvPr id="83" name=""/>
          <p:cNvSpPr/>
          <p:nvPr/>
        </p:nvSpPr>
        <p:spPr>
          <a:xfrm>
            <a:off x="1828080" y="1802520"/>
            <a:ext cx="588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对“随遇而安”一词的理解，巩固理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词语的多种方法，引导学生关注文本解决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换词和品读，体会蟋蟀选址的特点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3348000" y="1341360"/>
            <a:ext cx="2664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latin typeface="隶书"/>
              </a:rPr>
              <a:t>教学过程</a:t>
            </a:r>
            <a:endParaRPr b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3366ff"/>
              </a:solidFill>
              <a:latin typeface="隶书"/>
              <a:ea typeface="隶书"/>
            </a:endParaRPr>
          </a:p>
        </p:txBody>
      </p:sp>
      <p:sp>
        <p:nvSpPr>
          <p:cNvPr id="86" name=""/>
          <p:cNvSpPr/>
          <p:nvPr/>
        </p:nvSpPr>
        <p:spPr>
          <a:xfrm>
            <a:off x="2961000" y="1989000"/>
            <a:ext cx="33505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二、走进文本、深入探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品读第二段，了解蟋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不肯随遇而安的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探究蟋蟀住宅的特点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它修建的过程，体会作者抓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特点形象生动地描述事物的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-468360" y="-29700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023840" y="1130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973080" y="1978200"/>
          <a:ext cx="7559640" cy="2603160"/>
        </p:xfrm>
        <a:graphic>
          <a:graphicData uri="http://schemas.openxmlformats.org/drawingml/2006/table">
            <a:tbl>
              <a:tblPr/>
              <a:tblGrid>
                <a:gridCol w="1212840"/>
                <a:gridCol w="5110200"/>
                <a:gridCol w="12366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内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相关词句（画在书上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特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选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门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屋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445120" y="201600"/>
            <a:ext cx="4813560" cy="1068840"/>
          </a:xfrm>
          <a:prstGeom prst="rect">
            <a:avLst/>
          </a:prstGeom>
          <a:gradFill rotWithShape="0">
            <a:gsLst>
              <a:gs pos="0">
                <a:srgbClr val="ffccff">
                  <a:alpha val="70196"/>
                </a:srgbClr>
              </a:gs>
              <a:gs pos="100000">
                <a:srgbClr val="ffccff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这就是蟋蟀的平台。当四周很安静的时候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蟋蟀就在这平台上弹琴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298680" y="201600"/>
            <a:ext cx="3106800" cy="1068840"/>
          </a:xfrm>
          <a:prstGeom prst="rect">
            <a:avLst/>
          </a:prstGeom>
          <a:gradFill rotWithShape="0">
            <a:gsLst>
              <a:gs pos="0">
                <a:srgbClr val="ffccff">
                  <a:alpha val="70196"/>
                </a:srgbClr>
              </a:gs>
              <a:gs pos="100000">
                <a:srgbClr val="ffccff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这就是蟋蟀的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平台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当四周很安静的时候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蟋蟀就在这平台上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弹琴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893600" y="1227240"/>
            <a:ext cx="56851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蟋蟀的住宅》是以“观察与发现”为主题的第二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教材中的第三篇课文，是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世纪法国著名昆虫学家法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尔写的一篇观察笔记。作者怀着对蟋蟀的喜爱之情，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拟人的手法，具体介绍了蟋蟀住宅的特点和修建住宅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过。对蟋蟀的吃苦耐劳和不肯随遇而安，作者是十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赞许的。学习这篇课文，在让学生把握课文主要内容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时，体会作者表达的思想感情，揣摩文章的表达方法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并注意把这些方法运用到习作实践中去。要让学生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者认真观察事物的方法，激发学生观察周围事物的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趣，体会作者是怎样运用富有情趣的语言来表达的。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276720" y="477720"/>
            <a:ext cx="259056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教材解读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-468360" y="-29700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023840" y="1130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973080" y="1978200"/>
          <a:ext cx="7559640" cy="2603160"/>
        </p:xfrm>
        <a:graphic>
          <a:graphicData uri="http://schemas.openxmlformats.org/drawingml/2006/table">
            <a:tbl>
              <a:tblPr/>
              <a:tblGrid>
                <a:gridCol w="1212840"/>
                <a:gridCol w="5110200"/>
                <a:gridCol w="12366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内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相关词句（画在书上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特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选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门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屋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611280" y="622440"/>
            <a:ext cx="2232000" cy="50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华文楷体"/>
              </a:rPr>
              <a:t>设计意图：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华文楷体"/>
              <a:ea typeface="华文楷体"/>
            </a:endParaRPr>
          </a:p>
        </p:txBody>
      </p:sp>
      <p:sp>
        <p:nvSpPr>
          <p:cNvPr id="99" name=""/>
          <p:cNvSpPr/>
          <p:nvPr/>
        </p:nvSpPr>
        <p:spPr>
          <a:xfrm>
            <a:off x="1741320" y="1802520"/>
            <a:ext cx="5642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这部分内容的学习，使学生感受到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观察到的内容按照一定的顺序，运用一些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达方法及恰当的语言写出来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031840" y="17398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03280" y="1801800"/>
            <a:ext cx="676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它用前足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扒土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还用钳子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搬掉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较大的土块。它用强有力的后足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踏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后腿上有两排锯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它将泥土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推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面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倾斜地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铺开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449960" y="2233440"/>
            <a:ext cx="843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一连看了两个钟头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得有些不耐烦了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 flipV="1">
            <a:off x="1403280" y="3933720"/>
            <a:ext cx="187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58920" y="335772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340000" y="1557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钳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08360" y="55897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后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124000" y="3500280"/>
            <a:ext cx="935280" cy="730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2916360" y="1989000"/>
            <a:ext cx="503280" cy="503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571640" y="5373720"/>
            <a:ext cx="576360" cy="216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51280" y="5661000"/>
            <a:ext cx="433080" cy="504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76720" y="623736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后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619280" y="0"/>
            <a:ext cx="5602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 flipV="1">
            <a:off x="1403280" y="3933720"/>
            <a:ext cx="187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35280" y="397980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前足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340000" y="1557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钳子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64000" y="551664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后腿上的锯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推、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411280" y="3500280"/>
            <a:ext cx="648000" cy="5050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2916360" y="1989000"/>
            <a:ext cx="503280" cy="503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4571640" y="5373720"/>
            <a:ext cx="576360" cy="216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5651280" y="5661000"/>
            <a:ext cx="433080" cy="504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005440" y="609300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后足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56592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工具柔弱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787800" y="639000"/>
            <a:ext cx="153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长期整修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75120" y="5666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不懈工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611280" y="622440"/>
            <a:ext cx="2232000" cy="50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华文楷体"/>
              </a:rPr>
              <a:t>设计意图：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华文楷体"/>
              <a:ea typeface="华文楷体"/>
            </a:endParaRPr>
          </a:p>
        </p:txBody>
      </p:sp>
      <p:sp>
        <p:nvSpPr>
          <p:cNvPr id="131" name=""/>
          <p:cNvSpPr/>
          <p:nvPr/>
        </p:nvSpPr>
        <p:spPr>
          <a:xfrm>
            <a:off x="2025360" y="1746720"/>
            <a:ext cx="5642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部分设计，我力图从多角度引导学生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入阅读。一是让学生关注到作者是抓住动词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具体的；二是从建造的时间长和建造工具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柔弱体会蟋蟀吃苦耐劳、不肯随遇而安的特点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3348000" y="1125360"/>
            <a:ext cx="2376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latin typeface="隶书"/>
              </a:rPr>
              <a:t>教学过程</a:t>
            </a:r>
            <a:endParaRPr b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3366ff"/>
              </a:solidFill>
              <a:latin typeface="隶书"/>
              <a:ea typeface="隶书"/>
            </a:endParaRPr>
          </a:p>
        </p:txBody>
      </p:sp>
      <p:sp>
        <p:nvSpPr>
          <p:cNvPr id="134" name=""/>
          <p:cNvSpPr/>
          <p:nvPr/>
        </p:nvSpPr>
        <p:spPr>
          <a:xfrm>
            <a:off x="3121560" y="1628640"/>
            <a:ext cx="29545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二、走进文本、深入探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品读第二段，了解蟋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不肯随遇而安的特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探究蟋蟀住宅的特点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它修建的过程，体会作者抓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特点形象生动地描述事物的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三）解决蟋蟀的住宅为什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被称为“伟大的工程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107520" y="4653000"/>
            <a:ext cx="310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因为……所以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11280" y="1341360"/>
            <a:ext cx="3743280" cy="23907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105080" y="587520"/>
            <a:ext cx="9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外部：向阳、隐蔽、排水优良、有门、有平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73960" y="3857760"/>
            <a:ext cx="7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内部：简朴、清洁、干燥、卫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5219640" y="1341360"/>
            <a:ext cx="3206880" cy="24037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431960" y="934560"/>
            <a:ext cx="729000" cy="32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伟大的工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23960" y="1412280"/>
            <a:ext cx="109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工具柔弱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510880" y="3196440"/>
            <a:ext cx="109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长期整修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605320" y="1484280"/>
            <a:ext cx="4234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班的学生在经过三年级一学年的学习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周围的事物能够有意识的去观察、去思考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并且具有了一定的自主学习的能力，他们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够独立识字，了解文章大意，进行质疑，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联系上下文和生活实际了解课文中较简单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句的意思。但是文章在表达上很有特点，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了拟人、比喻、比较、列数字等方法来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绍蟋蟀的特点，而这些写法是学生难以关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运用的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203640" y="404640"/>
            <a:ext cx="2952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33cccc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隶书"/>
              </a:rPr>
              <a:t>学情分析</a:t>
            </a:r>
            <a:endParaRPr b="1" lang="en-US" sz="1800" spc="1" strike="noStrike">
              <a:ln w="0">
                <a:noFill/>
              </a:ln>
              <a:solidFill>
                <a:srgbClr val="33cccc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3348000" y="1341360"/>
            <a:ext cx="280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latin typeface="隶书"/>
              </a:rPr>
              <a:t>教学过程</a:t>
            </a:r>
            <a:endParaRPr b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3366ff"/>
              </a:solidFill>
              <a:latin typeface="隶书"/>
              <a:ea typeface="隶书"/>
            </a:endParaRPr>
          </a:p>
        </p:txBody>
      </p:sp>
      <p:sp>
        <p:nvSpPr>
          <p:cNvPr id="146" name=""/>
          <p:cNvSpPr/>
          <p:nvPr/>
        </p:nvSpPr>
        <p:spPr>
          <a:xfrm>
            <a:off x="4461120" y="2612880"/>
            <a:ext cx="102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三、总结学法、布置作业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755640" y="692280"/>
            <a:ext cx="1008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幼圆"/>
              </a:rPr>
              <a:t>作业</a:t>
            </a:r>
            <a:endParaRPr b="1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幼圆"/>
              <a:ea typeface="幼圆"/>
            </a:endParaRPr>
          </a:p>
        </p:txBody>
      </p:sp>
      <p:sp>
        <p:nvSpPr>
          <p:cNvPr id="149" name=""/>
          <p:cNvSpPr/>
          <p:nvPr/>
        </p:nvSpPr>
        <p:spPr>
          <a:xfrm>
            <a:off x="755640" y="1198440"/>
            <a:ext cx="7848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请你以蟋蟀的身份，向家人介绍自己的住宅特点及修建过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观察一种植物的生长过程或一种动物的活动，抓住其特点进行仔细观察，并记录下来，为本单元的习作做准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课文的许多地方把蟋蟀当作人来写，如，“当四周很安静的时候，蟋蟀就在这平台上弹琴。”请找出这样的句子读一读，再把它们抄下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11280" y="693720"/>
            <a:ext cx="2232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华文楷体"/>
              </a:rPr>
              <a:t>设计意图：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华文楷体"/>
              <a:ea typeface="华文楷体"/>
            </a:endParaRPr>
          </a:p>
        </p:txBody>
      </p:sp>
      <p:sp>
        <p:nvSpPr>
          <p:cNvPr id="152" name=""/>
          <p:cNvSpPr/>
          <p:nvPr/>
        </p:nvSpPr>
        <p:spPr>
          <a:xfrm>
            <a:off x="1389600" y="2018160"/>
            <a:ext cx="637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激发学生观察周围事物的兴趣，养成仔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观察的习惯。巩固运用学过的写法，为大习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作准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1908000" y="2205000"/>
            <a:ext cx="53294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琥珀"/>
              </a:rPr>
              <a:t>谢谢大家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432080" y="517680"/>
            <a:ext cx="66668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第一课时的主要教学任务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初读课文，学习生字新词，了解课文大意，理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文章结构。正确流利地朗读课文。交流蟋蟀的相关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料。进行质疑，对简单问题当堂解决，归纳出要深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探讨的问题：为什么说蟋蟀“不肯随遇而安”？它的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宅为什么被称为“伟大的工程”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第二课时的教学任务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深入理解课文内容，解决蟋蟀的住宅有什么特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作者是怎样介绍这些特点的。为什么说他“不肯随遇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安”？他的住宅为什么被称为“伟大的工程”？作者是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样描写的等这些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2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808200" y="843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3600" y="534960"/>
            <a:ext cx="2619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第二课时的教学目标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有感情地朗读课文，理解蟋蟀住宅的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住宅的修建过程，体会蟋蟀吃苦耐劳、不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随遇而安的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学习作者认真观察事物的方法，领悟作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运用生动形象的语言表达具体事物的写作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激发学生观察周围事物的兴趣，养成仔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的习惯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317960" y="1052640"/>
            <a:ext cx="66175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教学重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理解蟋蟀住宅的特点和它修建的经过，通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重点语句体会蟋蟀吃苦耐劳，不肯随遇而安的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教学难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学习抓住特点，形象生动地描述事物，体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作者对蟋蟀的喜爱之情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68360" y="404640"/>
            <a:ext cx="2232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华文楷体"/>
              </a:rPr>
              <a:t>设计意图：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华文楷体"/>
              <a:ea typeface="华文楷体"/>
            </a:endParaRPr>
          </a:p>
        </p:txBody>
      </p:sp>
      <p:sp>
        <p:nvSpPr>
          <p:cNvPr id="59" name=""/>
          <p:cNvSpPr/>
          <p:nvPr/>
        </p:nvSpPr>
        <p:spPr>
          <a:xfrm>
            <a:off x="1868760" y="1021320"/>
            <a:ext cx="5752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组课文的内容都是关于观察大自然景物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现大自然奥秘的，因此在学习课文中要仔细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会作者是怎样观察的，观察之后又是怎样表达的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两点我认为是进入四年级学段的学生应该引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关注的，因此我从文章的内容和文章的表达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制定了教学目标和教学重难点，旨在学生在学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篇文章后在习作中能学习和运用，真正落实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堂教学的实效性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403280" y="496800"/>
            <a:ext cx="58863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教学思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回顾旧知、引出质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走进文本、深入探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品读第二段，了解蟋蟀不肯随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而安的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探究蟋蟀住宅的特点和它修建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程，体会作者抓住特点，形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动地描述事物的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探究蟋蟀的住宅为什么被称为“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的工程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总结学法、布置作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3348000" y="1341360"/>
            <a:ext cx="280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latin typeface="隶书"/>
              </a:rPr>
              <a:t>教学过程</a:t>
            </a:r>
            <a:endParaRPr b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3366ff"/>
              </a:solidFill>
              <a:latin typeface="隶书"/>
              <a:ea typeface="隶书"/>
            </a:endParaRPr>
          </a:p>
        </p:txBody>
      </p:sp>
      <p:sp>
        <p:nvSpPr>
          <p:cNvPr id="64" name=""/>
          <p:cNvSpPr/>
          <p:nvPr/>
        </p:nvSpPr>
        <p:spPr>
          <a:xfrm>
            <a:off x="2900160" y="2612880"/>
            <a:ext cx="420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一、回顾旧知、引出质疑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1:21:51Z</dcterms:created>
  <dc:creator>YlmF</dc:creator>
  <dc:description/>
  <dc:language>en-US</dc:language>
  <cp:lastModifiedBy>番茄花园</cp:lastModifiedBy>
  <dcterms:modified xsi:type="dcterms:W3CDTF">2013-11-23T14:42:07Z</dcterms:modified>
  <cp:revision>47</cp:revision>
  <dc:subject/>
  <dc:title>幻灯片 1</dc:title>
</cp:coreProperties>
</file>