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D35-8F8F-40CA-834C-88A54853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DCD-53C1-4CA7-A984-61283B77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D98-32D0-4E99-BF81-2D161C20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9D3-5A5B-48A6-A247-9EFA1F43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0A78-715D-45FE-8DC9-9036E8AE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422D-D5C5-4C49-8694-3BB95D83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0EFF-DE92-4D46-9F6B-D292E6E6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B0A4-C2CE-4093-951F-E4E19CD1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D61E-01D2-4F9D-AAFA-32F2412E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3DB4-36E5-4701-9FBC-03524D40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4FBF-959A-475F-A2F5-F5D19271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031-A102-4293-8E0F-3DC8E600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96FC-9412-4D0F-ADF4-60EBD815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246A-DC0E-4826-9FE1-161198A5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8BEB-CADF-4BB8-B15F-5281AF4D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6A5A-6BA6-42BE-9C3C-F5EC56BB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137A-0A60-47E2-A47A-EB97ABBA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BA6A-7722-496D-B0AA-A73A922D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57A9-E1E9-4BC3-B7BB-185AAFEC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D53E-72A8-418E-83FF-DB42229E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0CC66-048C-4C00-BBDC-8F01350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DE7E-C644-4B42-8154-9967A823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4BE-D9A1-4BD4-80F1-97299A71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58A1-70D1-47E9-ABB4-4582FA71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E7AC-0FD9-4081-AAA7-1468B2D8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3868-107B-4D78-B2B3-ABCD27E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6B5F-B3F7-4962-A5BC-3DAE3850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9749-A7A2-4752-A76E-6DA2705C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9B2C-F117-4231-BB1F-6515CF96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7D3E-F2EE-43FE-BAD7-49936C11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1034-93D4-46A0-B789-28E48D53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E611-15A4-48CC-AC3F-F423F9E8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7740-D248-4E7A-A997-0FC1811F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903-6973-4B4F-A8A4-56EECA98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4C6C-6E89-4B14-8E71-6A4DD4E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A44F2-D6B5-4E7C-9597-179EF7CF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1E3E-E0B8-471E-8B99-369CBB8A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220FE-0C32-4FA8-8638-3D1DD87F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B2D3-7D97-4229-AEE6-804E6CC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29FD-31DD-489D-A1B4-C95E80C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C33E0-BD2B-4026-AC5E-CB4CAF3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2A565-0DEA-4175-A29A-C7C740DA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6CBF5-33BF-4AD4-8C0B-632337B8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F8787-B6F6-4126-9B40-4E51F186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003-095F-41B7-A9CD-12F96A45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5E83-4D3C-4E5B-93C9-97982F2E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20026-2185-416A-B08A-BE1B7FB1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AD9A-320E-489B-9CB0-C65455FB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86CB-9356-4AE5-8C47-E9EAC8B2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AF73-EC38-454A-9177-3D657C77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C50A-E9F7-409F-9252-7B5396D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00297-CF82-49A2-B182-E46DCB1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8C95C-169F-4FE2-B66E-25207685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2F60C-08FF-4CA8-AC12-D1B0FE26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709E1-3AA9-4320-998C-5ED1BEFE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7E3-11F9-4BC7-8427-84B80F92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5F258-5925-4F22-B9D9-80718E12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F3D-8E23-4AB5-A751-C2D30A7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33C-4DF4-4924-B11F-EA286A6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6CE-AC5E-42B7-BE6D-4F9529E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317-CC52-4AD8-AB49-9DBD15775F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E5F3-D3C9-4CFF-AE67-A735165309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BE02-5A58-40AB-A493-BAA93ECA41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556F-1633-4EC3-83FA-11E010FC1EF3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82A8-857B-4E52-8185-37E4F1C24F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02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92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66c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d066c"/>
                </a:solidFill>
                <a:latin typeface="楷体_GB2312"/>
                <a:ea typeface="楷体_GB2312"/>
              </a:rPr>
              <a:t>夜书所见</a:t>
            </a:r>
            <a:r>
              <a:rPr b="1" lang="en-US" sz="3600" spc="-1" strike="noStrike">
                <a:solidFill>
                  <a:srgbClr val="0d066c"/>
                </a:solidFill>
                <a:latin typeface="楷体_GB2312"/>
                <a:ea typeface="楷体_GB2312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66c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d066c"/>
                </a:solidFill>
                <a:latin typeface="楷体_GB2312"/>
                <a:ea typeface="楷体_GB2312"/>
              </a:rPr>
              <a:t>（宋 ）   叶绍翁　　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66c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d066c"/>
                </a:solidFill>
                <a:latin typeface="楷体_GB2312"/>
                <a:ea typeface="楷体_GB2312"/>
              </a:rPr>
              <a:t>萧萧梧叶送寒声，江上秋风动客情。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66c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d066c"/>
                </a:solidFill>
                <a:latin typeface="楷体_GB2312"/>
                <a:ea typeface="楷体_GB2312"/>
              </a:rPr>
              <a:t>知有儿童挑促织，夜深篱落一灯明。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02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7">
            <a:hlinkClick r:id="rId2" action="ppaction://hlinksldjump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28600" y="6094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蟋蟀是怎样建造自己的住宅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533520" y="762120"/>
            <a:ext cx="533160" cy="457200"/>
          </a:xfrm>
          <a:prstGeom prst="pie">
            <a:avLst/>
          </a:prstGeom>
          <a:solidFill>
            <a:srgbClr val="f96a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685800" y="18288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前足扒土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钳子搬土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后足踏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锯子推土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685800" y="35812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余下的是长时间的整修。这个洞可以随天气的变冷和它身体的增长而加深加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02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3">
            <a:hlinkClick r:id="rId2" action="ppaction://hlinksldjump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85800" y="12193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它用前足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扒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还用钳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掉较大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土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它用强有力的后足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踏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。后腿上有两排锯，用它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将泥土推到后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倾斜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铺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假使我们想到蟋蟀用来</a:t>
            </a:r>
            <a:r>
              <a:rPr b="0" lang="zh-CN" sz="40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挖掘的工具是那样简单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，这座住宅真可以算是伟大的工程了。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5" name="Picture 4" descr="200722145637734"/>
          <p:cNvPicPr/>
          <p:nvPr/>
        </p:nvPicPr>
        <p:blipFill>
          <a:blip r:embed="rId1"/>
          <a:stretch/>
        </p:blipFill>
        <p:spPr>
          <a:xfrm>
            <a:off x="0" y="4695840"/>
            <a:ext cx="9144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Picture 4" descr="02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5640" y="184464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蟋蟀的住宅为什么可以算是“伟大的工程”？那么，你怎样评价蟋蟀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55640" y="0"/>
            <a:ext cx="151452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title_room"/>
          <p:cNvPicPr/>
          <p:nvPr/>
        </p:nvPicPr>
        <p:blipFill>
          <a:blip r:embed="rId1"/>
          <a:stretch/>
        </p:blipFill>
        <p:spPr>
          <a:xfrm>
            <a:off x="1440" y="260280"/>
            <a:ext cx="6948720" cy="96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"/>
          <p:cNvSpPr/>
          <p:nvPr/>
        </p:nvSpPr>
        <p:spPr>
          <a:xfrm>
            <a:off x="324000" y="177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请你以蟋蟀的身份，向家长或同学介绍自己住宅特点及修建过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24000" y="342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课外阅读法布尔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昆虫的故事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向同学们介绍书中的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SC20060829133006984"/>
          <p:cNvPicPr/>
          <p:nvPr/>
        </p:nvPicPr>
        <p:blipFill>
          <a:blip r:embed="rId1"/>
          <a:stretch/>
        </p:blipFill>
        <p:spPr>
          <a:xfrm>
            <a:off x="1397160" y="0"/>
            <a:ext cx="5838840" cy="5002200"/>
          </a:xfrm>
          <a:prstGeom prst="rect">
            <a:avLst/>
          </a:prstGeom>
          <a:ln w="0">
            <a:noFill/>
          </a:ln>
        </p:spPr>
      </p:pic>
      <p:sp>
        <p:nvSpPr>
          <p:cNvPr id="219" name="动作按钮: 声音 1"/>
          <p:cNvSpPr/>
          <p:nvPr/>
        </p:nvSpPr>
        <p:spPr>
          <a:xfrm>
            <a:off x="817236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8406"/>
                </a:moveTo>
                <a:lnTo>
                  <a:pt x="10927" y="8406"/>
                </a:lnTo>
                <a:lnTo>
                  <a:pt x="15349" y="3794"/>
                </a:lnTo>
                <a:lnTo>
                  <a:pt x="15349" y="17806"/>
                </a:lnTo>
                <a:lnTo>
                  <a:pt x="10927" y="13194"/>
                </a:lnTo>
                <a:lnTo>
                  <a:pt x="6497" y="13194"/>
                </a:lnTo>
                <a:close/>
              </a:path>
              <a:path fill="darken" w="27007" h="21600">
                <a:moveTo>
                  <a:pt x="17002" y="10800"/>
                </a:moveTo>
                <a:lnTo>
                  <a:pt x="20510" y="10800"/>
                </a:lnTo>
              </a:path>
              <a:path fill="darken" w="27007" h="21600">
                <a:moveTo>
                  <a:pt x="17002" y="8406"/>
                </a:moveTo>
                <a:lnTo>
                  <a:pt x="20510" y="5639"/>
                </a:lnTo>
              </a:path>
              <a:path fill="darken" w="27007" h="21600">
                <a:moveTo>
                  <a:pt x="17002" y="13194"/>
                </a:moveTo>
                <a:lnTo>
                  <a:pt x="20510" y="15961"/>
                </a:lnTo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Franklin Gothic Book"/>
                <a:ea typeface="楷体_GB2312"/>
              </a:rPr>
              <a:t>蟋蟀，</a:t>
            </a:r>
            <a:r>
              <a:rPr b="1" lang="zh-CN" sz="3600" spc="-1" strike="noStrike">
                <a:solidFill>
                  <a:srgbClr val="0000cc"/>
                </a:solidFill>
                <a:latin typeface="Franklin Gothic Book"/>
                <a:ea typeface="楷体_GB2312"/>
              </a:rPr>
              <a:t>又名蛐蛐，昆虫，体黑褐色，触角很长，后腿粗大，善于跳跃。尾部有尾须一对。雄的好斗，两翅摩擦能发声。吃植物的根、茎和种子，对农业有害。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11"/>
          <p:cNvSpPr/>
          <p:nvPr/>
        </p:nvSpPr>
        <p:spPr>
          <a:xfrm>
            <a:off x="304920" y="68580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4" name="Picture 2" descr="0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3" descr="图片5"/>
            <p:cNvPicPr/>
            <p:nvPr/>
          </p:nvPicPr>
          <p:blipFill>
            <a:blip r:embed="rId2"/>
            <a:stretch/>
          </p:blipFill>
          <p:spPr>
            <a:xfrm>
              <a:off x="2057400" y="4219200"/>
              <a:ext cx="1584360" cy="112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iphone.mp3" descr=""/>
          <p:cNvPicPr/>
          <p:nvPr/>
        </p:nvPicPr>
        <p:blipFill>
          <a:blip r:embed="rId3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6328800" y="762120"/>
            <a:ext cx="26182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00"/>
                </a:solidFill>
                <a:latin typeface="Times New Roman"/>
                <a:ea typeface="华文彩云"/>
              </a:rPr>
              <a:t>蟋蟀的住宅</a:t>
            </a:r>
            <a:r>
              <a:rPr b="1" lang="en-US" sz="80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23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u=3630329425,390998424&amp;gp=1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4211640" y="412920"/>
            <a:ext cx="482436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法布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法国著名昆虫学家。他出身于贫苦农民家庭，从小喜爱昆虫。他十分勤奋，自学了高等数学，并考取了大学教授的资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法布尔十分喜爱文学，酷爱诗歌。在他的昆虫学著作里，常常出现大诗人的诗句。他的主要著作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昆虫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部杰作把科学知识和文艺非常巧妙地结合起来，用一种富有诗意的笔调，向人们展示了一个绚丽多彩的昆虫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3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45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765000" y="3166920"/>
            <a:ext cx="46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，读准字音，读通句子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边读边想：蟋蟀的住宅是什么样的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95280" y="90792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住宅   隐蔽　  慎重 　选择 　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搜索  挖掘     倾斜    扒土　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隐藏　平坦　</a:t>
            </a:r>
            <a:r>
              <a:rPr b="1" lang="en-US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宽敞    洞穴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中宋"/>
                <a:ea typeface="华文中宋"/>
              </a:rPr>
              <a:t>毫不可惜   　随遇而安</a:t>
            </a:r>
            <a:r>
              <a:rPr b="1" lang="zh-CN" sz="4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380880" y="5334120"/>
            <a:ext cx="3200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会读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02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92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      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出名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光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它的唱歌，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它的住宅。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出名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光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它的住宅，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它的唱歌。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netease-boboo27-autm1024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6">
            <a:hlinkClick r:id="rId2" action="ppaction://hlinksldjump"/>
          </p:cNvPr>
          <p:cNvSpPr/>
          <p:nvPr/>
        </p:nvSpPr>
        <p:spPr>
          <a:xfrm>
            <a:off x="380880" y="228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蟋蟀的住宅有什么特点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533520" y="380880"/>
            <a:ext cx="533160" cy="457200"/>
          </a:xfrm>
          <a:prstGeom prst="pie">
            <a:avLst/>
          </a:prstGeom>
          <a:solidFill>
            <a:srgbClr val="f96a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1">
            <a:hlinkClick r:id="rId3" action="ppaction://hlinksldjump"/>
          </p:cNvPr>
          <p:cNvSpPr/>
          <p:nvPr/>
        </p:nvSpPr>
        <p:spPr>
          <a:xfrm>
            <a:off x="7162920" y="56386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159280" y="10666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１、选择地址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1903320" y="266688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外部结构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1903320" y="457200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内部布置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7:56:55Z</dcterms:created>
  <dc:creator/>
  <dc:description/>
  <dc:language>en-US</dc:language>
  <cp:lastModifiedBy>微软用户</cp:lastModifiedBy>
  <dcterms:modified xsi:type="dcterms:W3CDTF">2012-09-27T13:26:39Z</dcterms:modified>
  <cp:revision>95</cp:revision>
  <dc:subject/>
  <dc:title>PowerPoint 演示文稿</dc:title>
</cp:coreProperties>
</file>