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893-BED8-40BF-B325-E396F153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2A2-4CEA-4BE3-BEDE-1EE3478B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7F48E-6EAE-4EB6-86C3-2AD9564F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8F683-93A7-4B23-8DF7-0155B9D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F53D0-CA8D-465F-BC99-34D9EF31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79BDC-C87A-4A36-95AD-950BD55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E7A73-82E4-4383-9CEF-768B671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7A93A-306A-4705-81A7-5B7B5DE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5CC9-301B-4C2F-A043-CC7FE6F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40962-9CB2-4881-8797-34D58FB8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DB76-A1BB-4F5A-9AC9-0C859A1E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BD07F-8783-4F31-B4FB-0AC4284E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059-6D1B-49C1-9E39-0CAEF56E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F97C7-CE96-4917-BF69-884BEFDD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275BD-6C14-4B7F-97A3-34E89247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23681-5D92-4FC3-96B8-A8B87EC7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FAE28-B3DA-49F9-8B69-CCB57F9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AB3C6-EA71-42B3-A655-043C57C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40773-4A69-4EAB-BD90-517D05A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C5DA1-080A-443F-80F5-BF5B7F6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1BAC-E165-401F-8021-3D48A72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1162B-BFFD-497A-AA3E-BC46A0B4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4D68F-B946-475A-9A04-E91F304C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879-B337-44F5-AEC3-83F8AF73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F9CC9-E49B-4CDE-A398-F8AEA1EA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58B55-4A63-4113-9BF7-28B66A2A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E5448-C5C3-426A-96BC-73097790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BE1E-B233-40A8-AC7E-8862A08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F2534-4C59-4636-9D86-D82514CE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7E12D-EA73-48C0-A141-7A47D9D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11EE-D9E1-4A4A-8710-C584312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DC12-AC1D-4C26-877B-897FFD9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2798C-F3CA-40FB-9C8D-FF72C1D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B3391-1E2B-401E-9F28-43AF6F3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9BD0-B3D9-48D2-9397-0BB419CC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12680-8388-4196-847B-F950644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EB2E8-95E6-48BE-ADE4-8A6B6455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93C16-13FB-4ED9-9A39-F2CD839D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99B60-A483-478A-ABD8-2654E485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9414-072F-47AE-84AC-14D470A8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D8086-E8F9-440E-9101-661F2E3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2EAF8-DDEB-45CB-B789-66ABDE9E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05933-6C44-4B9B-84B0-EE42F61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3CB2-71AA-4718-A7BD-C8A8D55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10BB0-750A-48AD-BF97-A5D1113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D0FB-4EDF-4C51-9B5D-D33327FE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FE4A0-C230-4B98-8EA0-4C5BD66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786EB-0352-4FD4-8FAD-5BC88E1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DD136-9589-4D77-9CB7-EEAA9D2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C3CCC-A230-4E33-B39A-9BF4064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01938-75BC-4A45-AE39-2562FA27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ACC-CF2F-451E-83C4-7FE5547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2E5-168C-40D1-9DF9-8FFC002D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D32-FE6D-4350-899D-BC1B637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4A10-CD2C-4B4B-B970-79CB6D4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D1A2-1586-4F10-BAF8-F8FEAB0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037-3306-4826-B0B7-A10447A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B501-ACF9-4486-A267-A8C4151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E76F-6B8E-4900-B0FA-A87EAA6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4C7-6831-43D8-BF92-A599110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16F8-E820-4D85-86D1-1276D231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6C5B-AFA0-4D2F-9689-61F330FF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2A9E-6FDB-4D62-AB52-64F0695F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3F76-C67F-479D-9DE7-CF033CEE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969D-F84A-4B80-8BE2-6EF5C67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0A39-FE23-4F1C-AF00-8D6E7262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36CE-E1E3-47DB-8F7D-6B32ECDC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3DD-6A73-41D2-BAEB-04836C7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14C2-2FC7-4BA6-89A2-824C3175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4D3F-D9FD-4CA2-AA8F-A930881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E8ED-3ACF-424E-9432-0BCCF18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C206-1D06-478E-B646-0CD0DBF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7B13-501D-45CA-910F-7F3A3CA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C766-BBBB-4865-A2C0-30483E14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75AB-CE06-4BA5-BE55-6C493FE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9D6B-4398-48CF-87E1-E9A48793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5305-518C-43C6-9DFA-ECEB298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859B-9114-4188-B4D4-DEFE335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166-3913-44B1-8D37-7938E2C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5881-3119-4AB6-A255-62F577B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5DD1-ECF2-4AF7-9F83-0BAD3DD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858E-23B0-4A4E-B18B-7053D3C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8956-7378-41EF-B844-F5D72CE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EF90-8603-4AEA-BA48-6D70C8B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9D13-AB2A-4547-94B7-D56CAFD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8BBE-2828-4C64-B053-DD8DB238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8ED99-7D17-4BF5-8544-1B59D8C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060B-46B3-455F-8E92-5C6AAC97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37D7-772F-4C41-84A9-AEFB1B48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560-525E-4241-912F-A9C5C390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5A0E-2302-492F-8B6C-85EE7FF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760F3-9B4E-4D97-98DD-DCCCB272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248F-BF7C-477E-A0F6-7BB6D29D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00418-B803-4DA9-8542-64C0A86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713B2-00FB-425B-B8C3-5F0008B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C55B-6CD3-4F95-ADA4-19D92FBE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D3EC0-BB01-43B7-993F-E23703B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1CF3-2FDE-4FE8-8C69-BF40C5C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7ECA-731C-470D-86E3-106B19C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A700-5680-420C-9CD3-B5E77BC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3EA-1388-48F6-836C-F9B3C6D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0568-7847-41E5-850E-C387FA10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45AC-4656-41DA-AC3C-FA337C68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034A7-B55E-4668-A721-5A146C8D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A66C-6BB0-4CCE-9CE7-7C2C99F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2448-558B-40C3-A8A9-4F07B55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B9C0B-8567-4703-B964-2C463AF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823FF-45C1-4F63-88C0-27E493E2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F498-1A73-4271-A1FC-E002CCB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EF3B-33E0-44C8-AFFB-913F0B4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4E5D2-2691-416C-858E-1DDE96A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5F7-04EB-4473-956F-7AD62CD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BAF7-C7ED-43D3-B5F6-847B7DD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3271-E90C-414E-A2ED-ED40F801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160F-3890-42FB-883D-3DB6AC05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A576-6105-4EE9-8A28-BFC78FB1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FC35-C5D4-4639-8F9F-4FCB86F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820B-C8F5-4735-BD5D-8CB1E9C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3C58-CD7E-48C2-9AC9-BDA48C5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868F-F0A9-49B8-B29E-81A4EE7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9D0E-34F5-438A-A8B9-7763FB7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7BB6-2C97-4582-97ED-00DAEB3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435-C035-4556-83CA-93275A4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817B-B6BC-4142-B250-F31D3E2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E789-1EE3-4B28-B24B-11A2A33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02E62-7E5A-49CC-AD42-EB6B6135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7FA1C-83D2-40DA-86CC-FF8C73F5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3C85-E710-4CF1-920C-D838CC9F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27213-A5F7-4CC5-921E-378A48DC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F81D-AF68-4967-ABEF-F2ED9F0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FC72-6DAF-4DE6-A1A8-21CF027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B421-8CAB-4A32-9C3C-D4B55BC8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E5D9-34A0-4C48-8B30-2ABF2AD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E44-7BA6-43CA-A61D-030A70A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15F9-7A7E-48B9-A259-AA312D1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41D3-BEAD-480C-B769-7A3F5FC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B4EE-06A9-4FEF-A6B6-4290FED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63B2-C615-4A52-BA71-47771FA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EE725-69CA-438F-89E0-12F35719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0DB2-9BB5-4DDD-948C-2AE0FAA5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D1724-9C45-49F8-A376-DFBF60C4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392F1-F770-4FAA-BC2B-7D85243B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5E63-9241-4150-8C03-8A1D3F02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DB2AB-545E-4A01-BD28-75E7C76E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109-1BBB-4E03-9F7A-CC5D268B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CAB-128C-43F9-B673-31F5BB39FE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B6C-706E-4514-AF78-54B8D70ACD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2B8E-09E8-431C-816B-03DCF1C624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265-4F50-40EB-9F1C-76861F0DF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FBA3-4D68-4671-A733-56F18E33D1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EE02-829E-4001-9E50-7296D6932F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7AB9-AE64-491F-B8CC-2A6D85E6CC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0848-3241-4551-9FB9-25EE88AC16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C02-B57A-4701-B530-11525F5DAA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B747-3BE3-4857-A440-F9862CE3B5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40EC-5187-4345-8010-E873AF37CF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y0033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WordArt 8" descr="纸袋"/>
          <p:cNvPicPr/>
          <p:nvPr/>
        </p:nvPicPr>
        <p:blipFill>
          <a:blip r:embed="rId17"/>
          <a:stretch/>
        </p:blipFill>
        <p:spPr>
          <a:xfrm>
            <a:off x="2571840" y="871560"/>
            <a:ext cx="5786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蟋蟀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5457960" y="436680"/>
            <a:ext cx="20095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蟋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4"/>
          <p:cNvSpPr/>
          <p:nvPr/>
        </p:nvSpPr>
        <p:spPr>
          <a:xfrm>
            <a:off x="384120" y="189000"/>
            <a:ext cx="836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又名蛐蛐，昆虫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黑褐色，触角很长，后腿粗大，善于跳跃。尾部有尾须一对。雄的好斗，两翅摩擦能发声。吃植物的根、茎和种子，对农业有害。课文中提到蟋蟀会唱歌，也会弹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际上蟋蟀是不会鸣叫的，那“瞿！瞿！瞿！”的声音是依靠翅膀摩擦而发出来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蟋蟀的两片翅膀是右翅覆盖在左翅上面。细细观察它那背上的翅膀，下面有一个特别突出的翅球。如果把这翅球放在显微镜下观察，可以发现上面有锯齿状的突起，这个突起叫做“弓”。蟋蟀在发声时，就是举起背上的左右翅，用右翅上的“弓”摩擦着左翅上的细脉，便发出悦耳的鸣声，这就是蟋蟀“唱歌”、“弹琴”的秘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6"/>
          <p:cNvSpPr/>
          <p:nvPr/>
        </p:nvSpPr>
        <p:spPr>
          <a:xfrm>
            <a:off x="1476360" y="1052640"/>
            <a:ext cx="698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蟋蟀的住宅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蟋蟀是怎样修建自己的住宅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为什么说蟋蟀的住宅“可以算是伟大的工程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《蟋蟀的住宅》插图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9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42:01Z</dcterms:created>
  <dc:creator>第一PPT模板网-WWW.1PPT.COM</dc:creator>
  <dc:description>第一PPT模板网-WWW.1PPT.COM
</dc:description>
  <dc:language>en-US</dc:language>
  <cp:lastModifiedBy>微软用户</cp:lastModifiedBy>
  <dcterms:modified xsi:type="dcterms:W3CDTF">2015-09-28T02:42:46Z</dcterms:modified>
  <cp:revision>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