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D87A-3D16-4CC9-9B85-E98299BD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E3D8-009A-420A-906C-28961A9A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D3A8-90AF-4C05-8770-743D08B4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046B-40DE-45D7-8994-AE4FD0E8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6E00-D21E-43DE-9FDB-B6D7A53A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5202-350C-401A-9A27-FDAFEDB8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C7D4-45AB-4C5D-8D93-B8C4B971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0570-B51E-4856-94A5-AE7E37AC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EB67-E972-4BE5-9D3B-F136D596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E3B2-6765-4149-AB1A-24ED0111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FCB3-A46C-40ED-992C-DD83DBD7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6849-0A2E-49AF-82E0-B13770EC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3351-AE2E-4B2D-8517-3C615C3692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643280" y="4071960"/>
            <a:ext cx="52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786200" y="507204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爽主题及相关类别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214280" y="100008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1285920" y="4429080"/>
            <a:ext cx="35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6715080" y="4214880"/>
            <a:ext cx="14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0"/>
          <p:cNvSpPr/>
          <p:nvPr/>
        </p:nvSpPr>
        <p:spPr>
          <a:xfrm>
            <a:off x="3786120" y="4429080"/>
            <a:ext cx="35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1223640" y="10587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37119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66409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/>
          <p:cNvSpPr/>
          <p:nvPr/>
        </p:nvSpPr>
        <p:spPr>
          <a:xfrm>
            <a:off x="6712560" y="5572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/>
          <p:cNvSpPr/>
          <p:nvPr/>
        </p:nvSpPr>
        <p:spPr>
          <a:xfrm>
            <a:off x="3997800" y="571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9"/>
          <p:cNvSpPr/>
          <p:nvPr/>
        </p:nvSpPr>
        <p:spPr>
          <a:xfrm>
            <a:off x="69267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24260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228312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1191960" y="1000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6426720" y="571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628380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3-11-22T08:04:34Z</dcterms:modified>
  <cp:revision>12</cp:revision>
  <dc:subject/>
  <dc:title>幻灯片 1</dc:title>
</cp:coreProperties>
</file>