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AE0-442E-4C5A-900A-EC334CDE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56F-00DF-43AB-9E9B-C727AC3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E89-11BB-4FFE-A718-B6FBD899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5E2-9E2C-4F91-A709-300DF2A0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EEE2-22E4-4E54-8C67-8138BE92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2EB-2DFD-454B-88F5-56735AD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01A-75B8-419E-AE25-39BC4EF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37C-A35A-4E6F-AB29-43EC03A6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BA2-AAA0-47E7-80EE-28572FBC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0BC9-2A9A-48EA-8DDE-D42E274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2F2-7CB1-4CC6-8DDB-04BAD73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789-DF87-427F-9290-24F5365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1D4-8A80-4E69-B44A-30C015E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CF66-D21B-4E83-AA7F-9D3B6F4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42F-34E2-43D0-A55E-D99ECEC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C3C-C2FB-4C9E-9A15-9CD68322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53B3-8BB9-4A2C-8024-B99DBF1C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A6E-8870-4D9C-92D4-49DC5C5A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978-16BE-4D3A-8917-5712EE3B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8B1-6929-4D0C-BC8B-7E5D719A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E32-DEF4-4C3B-A7A0-6747BE0C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7C8-3C01-4EEC-A8A8-1BF0F8E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AAD-0786-4B6F-BC27-C66A6F9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41A-BC36-4987-8918-FD612A4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E4FE-FA53-4733-802E-91681CEA78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4DAF-11C8-40B6-AEE3-EE7AC88BBB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工作总结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7840" y="1054080"/>
            <a:ext cx="1873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黑体"/>
              <a:ea typeface="黑体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306864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0028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我作为班长经过了半个学期的工作，起初我和大多数人一样，经验并不是很多。但通过两个月的工作经历，我由开始的一无所知到了现在的“略知一二”，在老师的引导和自己的摸索下，渐渐成长起来。以及班里同学的配合，对于班长的主要职责我已十分了解。知道班级的日常工作，班长的职责。以下是我的工作总结：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PPECLOGO-eff2-1-2"/>
          <p:cNvPicPr/>
          <p:nvPr/>
        </p:nvPicPr>
        <p:blipFill>
          <a:blip r:embed="rId2"/>
          <a:stretch/>
        </p:blipFill>
        <p:spPr>
          <a:xfrm>
            <a:off x="887400" y="3189240"/>
            <a:ext cx="1336680" cy="120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PPECLOGO-eff2-1-3"/>
          <p:cNvPicPr/>
          <p:nvPr/>
        </p:nvPicPr>
        <p:blipFill>
          <a:blip r:embed="rId3"/>
          <a:stretch/>
        </p:blipFill>
        <p:spPr>
          <a:xfrm>
            <a:off x="5425920" y="2846520"/>
            <a:ext cx="344520" cy="30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PPECLOGO-eff2-1-4"/>
          <p:cNvPicPr/>
          <p:nvPr/>
        </p:nvPicPr>
        <p:blipFill>
          <a:blip r:embed="rId4"/>
          <a:stretch/>
        </p:blipFill>
        <p:spPr>
          <a:xfrm>
            <a:off x="4068720" y="4356000"/>
            <a:ext cx="554040" cy="4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PPECLOGO-eff2-1-3"/>
          <p:cNvPicPr/>
          <p:nvPr/>
        </p:nvPicPr>
        <p:blipFill>
          <a:blip r:embed="rId5"/>
          <a:stretch/>
        </p:blipFill>
        <p:spPr>
          <a:xfrm>
            <a:off x="5583240" y="4444920"/>
            <a:ext cx="284040" cy="25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PPECLOGO-eff2-1-3"/>
          <p:cNvPicPr/>
          <p:nvPr/>
        </p:nvPicPr>
        <p:blipFill>
          <a:blip r:embed="rId6"/>
          <a:stretch/>
        </p:blipFill>
        <p:spPr>
          <a:xfrm>
            <a:off x="3581280" y="3154320"/>
            <a:ext cx="222480" cy="19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PPECLOGO-eff2-1-3"/>
          <p:cNvPicPr/>
          <p:nvPr/>
        </p:nvPicPr>
        <p:blipFill>
          <a:blip r:embed="rId7"/>
          <a:stretch/>
        </p:blipFill>
        <p:spPr>
          <a:xfrm>
            <a:off x="3149640" y="4444920"/>
            <a:ext cx="222120" cy="19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PPECLOGO-eff2-1-2"/>
          <p:cNvPicPr/>
          <p:nvPr/>
        </p:nvPicPr>
        <p:blipFill>
          <a:blip r:embed="rId8"/>
          <a:stretch/>
        </p:blipFill>
        <p:spPr>
          <a:xfrm>
            <a:off x="380880" y="493560"/>
            <a:ext cx="685800" cy="61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PPECLOGO-eff2-1-2"/>
          <p:cNvPicPr/>
          <p:nvPr/>
        </p:nvPicPr>
        <p:blipFill>
          <a:blip r:embed="rId9"/>
          <a:stretch/>
        </p:blipFill>
        <p:spPr>
          <a:xfrm>
            <a:off x="6324480" y="4294080"/>
            <a:ext cx="619200" cy="55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PPECLOGO-eff2-1-2"/>
          <p:cNvPicPr/>
          <p:nvPr/>
        </p:nvPicPr>
        <p:blipFill>
          <a:blip r:embed="rId10"/>
          <a:stretch/>
        </p:blipFill>
        <p:spPr>
          <a:xfrm>
            <a:off x="1979640" y="2433600"/>
            <a:ext cx="458640" cy="41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PPECLOGO-eff2-1-2"/>
          <p:cNvPicPr/>
          <p:nvPr/>
        </p:nvPicPr>
        <p:blipFill>
          <a:blip r:embed="rId11"/>
          <a:stretch/>
        </p:blipFill>
        <p:spPr>
          <a:xfrm>
            <a:off x="1916280" y="184320"/>
            <a:ext cx="6858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1" descr="未标题-9.png"/>
          <p:cNvPicPr/>
          <p:nvPr/>
        </p:nvPicPr>
        <p:blipFill>
          <a:blip r:embed="rId12"/>
          <a:stretch/>
        </p:blipFill>
        <p:spPr>
          <a:xfrm>
            <a:off x="6762600" y="1652760"/>
            <a:ext cx="1268640" cy="16999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42" descr="未标题-9.1.png"/>
          <p:cNvPicPr/>
          <p:nvPr/>
        </p:nvPicPr>
        <p:blipFill>
          <a:blip r:embed="rId13"/>
          <a:stretch/>
        </p:blipFill>
        <p:spPr>
          <a:xfrm>
            <a:off x="5181480" y="-438120"/>
            <a:ext cx="1581120" cy="2090880"/>
          </a:xfrm>
          <a:prstGeom prst="rect">
            <a:avLst/>
          </a:prstGeom>
          <a:ln w="0">
            <a:noFill/>
          </a:ln>
        </p:spPr>
      </p:pic>
      <p:sp>
        <p:nvSpPr>
          <p:cNvPr id="120" name="矩形 43"/>
          <p:cNvSpPr/>
          <p:nvPr/>
        </p:nvSpPr>
        <p:spPr>
          <a:xfrm>
            <a:off x="6732720" y="6021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汉仪中隶书繁"/>
                <a:ea typeface="汉仪中隶书繁"/>
              </a:rPr>
              <a:t>汇报人</a:t>
            </a:r>
            <a:r>
              <a:rPr b="1" lang="en-US" sz="2000" spc="-1" strike="noStrike">
                <a:solidFill>
                  <a:srgbClr val="ffff66"/>
                </a:solidFill>
                <a:latin typeface="汉仪中隶书繁"/>
                <a:ea typeface="汉仪中隶书繁"/>
              </a:rPr>
              <a:t>——</a:t>
            </a:r>
            <a:r>
              <a:rPr b="1" lang="zh-CN" sz="2000" spc="-1" strike="noStrike">
                <a:solidFill>
                  <a:srgbClr val="ffff66"/>
                </a:solidFill>
                <a:latin typeface="汉仪中隶书繁"/>
                <a:ea typeface="汉仪中隶书繁"/>
              </a:rPr>
              <a:t>王诚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6680" y="4608360"/>
            <a:ext cx="2093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47640" y="4221000"/>
            <a:ext cx="5780160" cy="3378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9587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汇报完毕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476280"/>
            <a:ext cx="27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汉仪中隶书繁"/>
                <a:ea typeface="汉仪中隶书繁"/>
              </a:rPr>
              <a:t>泉州理工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4" name="applaus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80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二、我的团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01640" y="1371600"/>
            <a:ext cx="775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委员：李连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生劳委员：李锦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学习委员：饶荣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理委员：李金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团支书    ：林碧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信息通讯员：谢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体育委员：郑鹏、吴思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副班长：罗丽珍、黄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艺委员：洪佳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组织委员：王志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三、文体活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1371600"/>
            <a:ext cx="775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新生心理健康普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党的知识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黑板报评比荣获三等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校运会报名统计、英语四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/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级、计算机一级报名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篮球友谊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参加创业培训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商贸系职业技能交流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十八大迎新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校运会方阵排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7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7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7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7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可赞之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不足之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五、可赞之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8416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作为班长，我在恪尽职守，认真做好本职工作的同时，对于班级举行的各项活动也积极的组织和参与，并尽自己最大的努力与其他班委协调，安排好班级工作。 在进行班级工作的同时，班委也尽力促进班级的和谐与团结，为提高班级的凝聚力不懈努力着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六、不足之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6720" y="1270080"/>
            <a:ext cx="82296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不能让每个同学都积极参加学校的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我们自身也未能完全做到严格要求自己，起床没叠被子没能为同学起好带头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本学期我们工作学习上的不足除了以上几点外，还必然存在着许多未能觉察到的地方，我们将在今后的工作中克服这些缺点和不足，努力将工作做的更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班委中个别干部与同学沟通不够，某些时候不能好好的让同学理解班干部的做法，引起了不必要是误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、七班委出现了以下几个问题：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觉得自己很闲没工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开展活动不顺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不能按时按量完成工作计划指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问题发生后，没有正确认识问题根本所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67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67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67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67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八、自我批评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一个人最重要的是善于发现自己的缺点，懂得自我批评，只有不断的改正自己的缺点才会有进步。这两个月以来，虽然我在同学的配合与支持下取得了一定的成绩，但我深知自己还存在一些缺点和不之处主要表现在一下几个方面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、做事有时会鲁莽，计划不精细，有的时候在工作中会出现疏漏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、偶尔办事会急于求成，不能够脚踏实地，一步一个脚印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、想问题有时有过于理想化的倾向，会和现实有较大的差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面对以上不足，我会尽最大的努力予以克服，以更加认真和负责的态度做好未来班级工作，希望经过自己的努力，能够在班级里形成更好氛围，让同学们在积极、和谐的环境中朝着自己的目标前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56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作总结就像给自己铸造了一面镜子，通过这面镜子我看到了自己的成绩和进步，但更重要的目的是看清自己身上的不足之处。总的来说，这几周作公比较顺利，各项活动的开展也较为成功。但是由于经验不足，阅历不够，也存在着一些的不足。在以后的工作中我将会更努力加努力，争取做得更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26:41Z</dcterms:created>
  <dc:creator>Administrator</dc:creator>
  <dc:description/>
  <dc:language>en-US</dc:language>
  <cp:lastModifiedBy>微软用户</cp:lastModifiedBy>
  <dcterms:modified xsi:type="dcterms:W3CDTF">2015-08-21T09:34:31Z</dcterms:modified>
  <cp:revision>3</cp:revision>
  <dc:subject/>
  <dc:title>2010年心里委员工作汇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