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FBC-1D8C-4EA0-90E9-82A69A24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FA0-FEFD-4801-A22A-537F386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F63-0445-4339-8A97-192A3D20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B43-5E6C-46A9-8B3B-80C7D127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363-436B-4451-9E12-3AC9CEFC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860-5421-4A04-A9FB-0C54615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0E1-A42B-40B7-9B0F-9C946BD1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E52-837A-47DE-817B-BBEE527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783-B6E4-4D73-AEB3-63BFCF4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C35-A50A-4C34-97CD-4243D5F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9A2-96A0-4F7A-BB6E-0DCC365D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08E-B4BE-49F9-A34B-7383713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 flipH="1">
            <a:off x="8153280" y="0"/>
            <a:ext cx="9907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68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6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68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68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FE37-41F9-4F10-8D42-5391A94695F4}" type="datetime">
              <a:rPr b="0" lang="zh-CN" sz="1000" spc="-1" strike="noStrike">
                <a:solidFill>
                  <a:srgbClr val="b13f9a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445-0C15-4E6C-9A3D-F02CB35C0E56}" type="slidenum">
              <a:rPr b="0" lang="zh-CN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 flipH="1">
            <a:off x="2666880" y="0"/>
            <a:ext cx="6477120" cy="685800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66880" y="0"/>
            <a:ext cx="360" cy="6858000"/>
            <a:chOff x="2666880" y="0"/>
            <a:chExt cx="360" cy="6858000"/>
          </a:xfrm>
        </p:grpSpPr>
        <p:sp>
          <p:nvSpPr>
            <p:cNvPr id="44" name="直接连接符 8"/>
            <p:cNvSpPr/>
            <p:nvPr/>
          </p:nvSpPr>
          <p:spPr>
            <a:xfrm flipV="1">
              <a:off x="2666880" y="0"/>
              <a:ext cx="0" cy="6858000"/>
            </a:xfrm>
            <a:prstGeom prst="line">
              <a:avLst/>
            </a:prstGeom>
            <a:ln w="1152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6200000">
              <a:off x="-761760" y="342864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rebuchet MS"/>
              </a:rPr>
              <a:t>个人简历</a:t>
            </a:r>
            <a:endParaRPr b="1" lang="en-US" sz="9600" spc="-1" strike="noStrike">
              <a:solidFill>
                <a:srgbClr val="b13f9a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2407320" y="234936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</a:rPr>
              <a:t>谢谢欣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F918-F522-41CE-9E79-90CE00FBCB7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76360" y="907560"/>
            <a:ext cx="7559640" cy="5113800"/>
            <a:chOff x="1476360" y="907560"/>
            <a:chExt cx="7559640" cy="5113800"/>
          </a:xfrm>
        </p:grpSpPr>
        <p:sp>
          <p:nvSpPr>
            <p:cNvPr id="48" name=""/>
            <p:cNvSpPr/>
            <p:nvPr/>
          </p:nvSpPr>
          <p:spPr>
            <a:xfrm rot="10800000">
              <a:off x="1889280" y="90720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c65bb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95920" y="90792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个人情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76360" y="907920"/>
              <a:ext cx="826200" cy="581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1889280" y="166248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75ec0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95920" y="166320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专业技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76360" y="1663200"/>
              <a:ext cx="826200" cy="581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1889280" y="241776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7a3c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95920" y="241848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教育背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76360" y="2418480"/>
              <a:ext cx="826200" cy="581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1889280" y="317304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ca95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95920" y="317376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社会实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6360" y="3173760"/>
              <a:ext cx="826200" cy="581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889280" y="392832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d14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95920" y="392904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人生态度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929040"/>
              <a:ext cx="826200" cy="581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1889280" y="468360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ad63e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95920" y="468432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个人爱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76360" y="4684320"/>
              <a:ext cx="826200" cy="581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1889280" y="5439240"/>
              <a:ext cx="7146720" cy="581400"/>
            </a:xfrm>
            <a:custGeom>
              <a:avLst/>
              <a:gdLst>
                <a:gd name="textAreaLeft" fmla="*/ 0 w 7146720"/>
                <a:gd name="textAreaRight" fmla="*/ 7147080 w 71467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6d37"/>
            </a:solid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95920" y="5439960"/>
              <a:ext cx="694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6320" rIns="177840" tIns="95400" bIns="9540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自我评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6360" y="5439960"/>
              <a:ext cx="826200" cy="581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99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54A5-548C-4CE4-9CC2-A0F2EE0205D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46240" y="1123920"/>
            <a:ext cx="1661760" cy="4483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c0c0c"/>
                </a:solidFill>
                <a:latin typeface="华文新魏"/>
              </a:rPr>
              <a:t>  </a:t>
            </a:r>
            <a:r>
              <a:rPr b="0" lang="zh-CN" sz="9600" spc="-1" strike="noStrike">
                <a:solidFill>
                  <a:srgbClr val="0c0c0c"/>
                </a:solidFill>
                <a:latin typeface="华文新魏"/>
              </a:rPr>
              <a:t>目 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65268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个人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2060640"/>
          <a:ext cx="7199280" cy="3024000"/>
        </p:xfrm>
        <a:graphic>
          <a:graphicData uri="http://schemas.openxmlformats.org/drawingml/2006/table">
            <a:tbl>
              <a:tblPr/>
              <a:tblGrid>
                <a:gridCol w="1186920"/>
                <a:gridCol w="1833120"/>
                <a:gridCol w="1318680"/>
                <a:gridCol w="844560"/>
                <a:gridCol w="201600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姓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王佳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性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7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籍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平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出生年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995/1/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政治面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团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学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大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毕业院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职业中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专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服装工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联系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5728040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Q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608466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E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608466427QQ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邮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314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通讯地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省平湖市曹桥街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3" name="图片 8" descr="8_105874_8b7151eeaac7cce.jpg"/>
          <p:cNvPicPr/>
          <p:nvPr/>
        </p:nvPicPr>
        <p:blipFill>
          <a:blip r:embed="rId1"/>
          <a:stretch/>
        </p:blipFill>
        <p:spPr>
          <a:xfrm>
            <a:off x="5651640" y="2565360"/>
            <a:ext cx="1752480" cy="224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4F9-05A7-4885-9EB4-F08B7CA8CAD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45400" y="20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专业技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1116000" y="198900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AD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市场营销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服装流行趋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hoto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3014640" cy="4522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A92-0CCC-4885-9EEC-A6BFBDC54E3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600120" y="54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教育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2349360"/>
          <a:ext cx="6624720" cy="2087640"/>
        </p:xfrm>
        <a:graphic>
          <a:graphicData uri="http://schemas.openxmlformats.org/drawingml/2006/table">
            <a:tbl>
              <a:tblPr/>
              <a:tblGrid>
                <a:gridCol w="3005280"/>
                <a:gridCol w="3619440"/>
              </a:tblGrid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3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至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12240">
                      <a:solidFill>
                        <a:srgbClr val="cf6da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浙江纺织服装职业技术学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12240">
                      <a:solidFill>
                        <a:srgbClr val="cf6da4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3-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1224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职业中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1224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</a:tr>
              <a:tr h="52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10--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南市中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007--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rebuchet MS"/>
                          <a:ea typeface="华文新魏"/>
                        </a:rPr>
                        <a:t>平湖通界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cf6da4"/>
                      </a:solidFill>
                    </a:lnL>
                    <a:lnR w="5760">
                      <a:solidFill>
                        <a:srgbClr val="cf6da4"/>
                      </a:solidFill>
                    </a:lnR>
                    <a:lnT w="5760">
                      <a:solidFill>
                        <a:srgbClr val="cf6da4"/>
                      </a:solidFill>
                    </a:lnT>
                    <a:lnB w="5760">
                      <a:solidFill>
                        <a:srgbClr val="cf6da4"/>
                      </a:solidFill>
                    </a:lnB>
                    <a:solidFill>
                      <a:srgbClr val="f5e1ec"/>
                    </a:solidFill>
                  </a:tcPr>
                </a:tc>
              </a:tr>
            </a:tbl>
          </a:graphicData>
        </a:graphic>
      </p:graphicFrame>
      <p:sp>
        <p:nvSpPr>
          <p:cNvPr id="81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B875-1AA7-4E23-A86A-AAB706D4CD8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555840" y="44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社会实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1383120" y="2428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暑假打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250920" y="2249640"/>
            <a:ext cx="5113440" cy="10969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"/>
          <p:cNvPicPr/>
          <p:nvPr/>
        </p:nvPicPr>
        <p:blipFill>
          <a:blip r:embed="rId2"/>
          <a:stretch/>
        </p:blipFill>
        <p:spPr>
          <a:xfrm>
            <a:off x="3276720" y="83664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05A-CBF4-4F96-80AE-176513AF3C1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618480" y="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人生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450720" y="2421000"/>
            <a:ext cx="541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乐观看待世界，世上无难事，只怕有心人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用平常心态面对困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743-9F4D-49C5-AF48-054A75B5A50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574200" y="9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个人爱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2740320" y="49816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乐、看书、旅游、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D5F-468B-46C4-B18E-BA16A12967B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2520720" cy="1535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"/>
          <p:cNvPicPr/>
          <p:nvPr/>
        </p:nvPicPr>
        <p:blipFill>
          <a:blip r:embed="rId2"/>
          <a:stretch/>
        </p:blipFill>
        <p:spPr>
          <a:xfrm>
            <a:off x="2911320" y="2276640"/>
            <a:ext cx="2895840" cy="22953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" descr=""/>
          <p:cNvPicPr/>
          <p:nvPr/>
        </p:nvPicPr>
        <p:blipFill>
          <a:blip r:embed="rId3"/>
          <a:stretch/>
        </p:blipFill>
        <p:spPr>
          <a:xfrm>
            <a:off x="5292720" y="471600"/>
            <a:ext cx="2203560" cy="322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900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0055"/>
                </a:solidFill>
                <a:latin typeface="Trebuchet MS"/>
                <a:ea typeface="华文新魏"/>
              </a:rPr>
              <a:t>自我评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1260360" y="177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是一个乐观、积极向上、开朗、孝敬父母、尊敬长辈、友待他人的一个女生。我勇于挑战自己，且追求完美。乐于助人是我的专长。我是朋友们眼中的乖乖女，父母眼中的孝顺女儿。我脾气温和，不爱计较小事，处理事情不急不慢，妥善处理。我对待工作认真负责，一丝不苟；我对于学习努力认真，为每一门课都取得好成绩，而奋斗；为未来美好生活而拼搏。我是个对自己很严格的人，我要争取的东西就会拼到底，不会半路放弃，我坚信要么坚持要么死的信念，所以朋友们度说我很疯狂。我不轻言放弃，遇到困难，坚持到底，因为我相信不放手就有结果，一旦放手，机会就此错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就是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7BEF-F9C1-4D93-AEED-2C6319D7B78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01:29:00Z</dcterms:created>
  <dc:creator>admin</dc:creator>
  <dc:description/>
  <dc:language>en-US</dc:language>
  <cp:lastModifiedBy>admin</cp:lastModifiedBy>
  <dcterms:modified xsi:type="dcterms:W3CDTF">2014-10-20T13:34:39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