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1A2-BC04-4131-A965-2A11B2EC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995-7F31-4F9C-A83E-0101AEFC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8894A-00B2-4E01-A1A8-3F3FDE0F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FE314-08D6-4F67-840D-EB85F7F6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E4C6D-AE4F-4ED2-8D68-19D93368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B4D1F-4439-46AC-B2BD-092193B0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49EE7-A3A0-4CC0-9806-71FFA2E9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41DE4-5F4D-4028-AAAB-1264B760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F4E58-D7D3-46C1-B298-98772BFB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1B381-1C31-482E-BF3B-7334309A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81BD3-BDE3-4B2A-AF9F-1BF06B91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138BC-BB20-4808-986E-5BD51F5B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7A8-3452-47F7-8A4A-19A35230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51641-089D-486D-9930-1874BB21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691DF-4034-4874-B8EE-37008585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90D42-294C-4D78-BC32-B4EE090B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71639-D8EF-41DD-AFA7-0444F767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48267-F2D7-45D5-AAE3-D81C3F0D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455D8-F41B-4B9F-A7DF-F0C63CE3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28E19-718F-4E98-A12D-5CF0A64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4E1D3-B5EC-45EA-95EC-77AD058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58728-5F5C-4ACA-9CD3-D27A737F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55896-7254-442A-B840-95305F8D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9B5-A226-4663-986B-A8C580A9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EE2E8-5C70-4940-8193-1962EDE3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B5A4D-3F6E-443E-9AE4-AD920D7B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6FE18-AA9A-4FDB-94A5-4762CCEA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4B525-6E21-472F-8F7E-2BA657E2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4B32C-D12C-4667-832F-7F49D97B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1B6C5-2246-4F63-8758-130E32ED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66279-508B-4B38-A9CA-CA3DAE62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66C35-8792-4D75-8DB7-DCFDFE6F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D0F2A-C4BD-47AD-83DF-2C87125A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9D130-17B8-4018-9205-AE03731A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924B-E01A-42D5-B235-B2229B11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5ADE1-748E-4D7F-A277-BD898873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137FC-3E19-45CA-8A23-15C5C936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FD45D-943B-4804-BFAE-FB940385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3AC58-E69F-42AF-88E2-7F0C2D0F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E09CA-1F84-484C-AE16-A23AE39A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C6F5F-2348-4E79-8AE8-89AA44BF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C2FFE-673B-47AF-8827-46998E5B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156D8-03B2-41E4-AE0C-333957FE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950F7-FC34-439C-848F-2AFF6891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EAF07-E6FF-4567-8208-0EF7C2DE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C9CF-C83A-42C4-ACB6-3414B1CA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46C2F-7E4E-49BB-85C7-9D407513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B8505-B8A4-46F4-A017-633FA93A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CFC7B-AFAB-4DCE-9CBA-A41D679F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F3321-6C42-4030-A2AA-C04B7E11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EA3A2-221E-4B5E-B4FE-1BD08CB4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9483-C6DE-412B-9971-0FD4F3D9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6D55-B5C4-4106-A76F-C0F16D80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A53D-20C3-471C-A64A-44807F62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3E40-B222-4DFC-ABF8-123CF6C8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A2EE-33D8-4D75-8B81-C30DBDA5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AF4-0871-48EB-B303-20DA9EED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31CF-E206-4A29-8337-0AB96B0E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A12D-4CA5-46BE-A48D-AF517FB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422A-4358-47A1-95B7-079B2F26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24DC-8C2E-44CD-BC7C-3F36B8D8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C7C0-C6EF-448D-AE22-5E5D5715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0920-C46B-4FF8-BDA6-6FF02A91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EB46-81E5-49AA-ABBF-11C74B21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B8ED-B2B2-47B7-B66B-D4B51732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987A-ED22-4D5D-97ED-EB57F8AD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A65F-0B4D-434A-AA52-E814FF37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FE4-DD89-4DD9-94CA-5C6A4692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0D9F-C933-4991-B0EA-17FC6475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78C9-F847-4228-BC9F-39591F00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8BDA-80FE-46F8-817A-BC3BAD47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7420-8334-44D9-8C5C-087595A9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E307-198F-44E9-BB84-270FC313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389B-707E-4503-BE93-0D7E2512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CF81-922A-492C-9758-F1DA2F39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9F6BE-C3F0-4EAB-96B6-DDFBAFFE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4CA3B-0261-4687-B27B-28E4BE47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2B47-2E4C-4B32-820B-AB7C668A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F49-7693-4860-8C6D-C78B95A8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7E8A2-EE63-425D-A572-A014143D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57F7-943B-422C-8F90-B4774676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BE1AA-F5C1-42EF-A849-66308A71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74E4D-1F78-42D0-BAB5-3FC12B4F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CDF0B-915F-48E6-8A80-E9C89302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A71F-1A2B-468D-911F-F1E19B62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C241-A4B9-4326-82EF-499EA715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FC07-F6C5-43DE-A53E-7253A4B8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E31CC-8FD5-4456-8555-5DF3AE04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5C9D5-246A-4433-B98A-046841F5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E92-9C4B-43DC-ABE0-1CC2FCE1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D0D49-E15B-4698-8307-C16F358C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212CB-09B8-4350-94EE-7C687DB8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22C4F-9FE8-4F37-913D-C3307C33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D0ED0-5B9E-426C-B912-5BDB42FE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3DAB6-D721-4C32-9F8E-2FC45D0C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044E-6E67-4851-9F7B-0AF0600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914EF-7B91-492A-A3DE-6AD43614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FA03F-33C4-44AF-B21E-4CEB47F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FE506-E5A0-469F-B51B-0E12CCB2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8CD06-BE97-42A5-9D9B-72F5D1C9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1D4-BC38-45D7-83FF-5CC69EBB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F96AB-F85C-4151-9400-F37B0BD6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EE3EE-F6C0-457A-94D9-E1874BDC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15402-D63D-4545-8725-6D0EB1FD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394D1-8B9B-4619-B208-72229C1A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CDA30-8DEA-4041-B14D-503ED9C0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9A899-E674-4754-AA7C-085AEAD3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A8257-2D58-4F58-BDEF-080A91C5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A27E7-F87E-48BC-B729-112B7B15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6AE77-E627-4287-AB6F-DEF81D5B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14F1F-A92B-4210-90EA-26DFFF2A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919-41EE-40BA-93A2-59158D56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83510-AD06-4321-9350-BB8D26D6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FD990-4865-4AFF-A5BC-10227C77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EF648-CF2A-49E7-A207-4266EE8F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DF0CF-9198-417C-9875-4E9F2049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84562-68F8-4CAC-B8ED-5AECE54B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B7978-C7AF-4C6D-94BC-3BD3C53A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3846C-BECC-445E-8569-EBE3EDEE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89BE4-C61B-48C1-8182-190A1BD9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69CB0-53B6-4914-9AAB-19B66EAD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896E6-5ED1-40D9-B409-7D7C41D1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336-927D-4AA6-9FFF-2E4BA9F0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96443-E69E-43BE-9AAE-84436630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FD632-0F09-49D3-929A-16D1D4A1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D009C-D640-4E65-9E3B-E77713E7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3A66F-4D7A-4BD8-AC8B-8D2903C3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32366-177C-499A-BFB9-69907EB1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E0CEC-0997-4DB2-B78C-66756B66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41EA2-EE26-4A3C-9A97-2D5CD26B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6A2E1-0A6D-4A31-ADF4-549C677F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53263-4B37-427C-AA61-9EE8C3F2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6CF39-3F63-496D-BF98-B6DC9DFA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0DE-81B0-4AA9-B8E5-9AAA148F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521BD-13B4-420F-8744-7D56BBFB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D90AA-E0DA-411B-823F-39840519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C7CAE-8D97-428A-ABA1-E3C17019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ABD52-33E4-42D8-9EF1-5E9E8F28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01575-F02B-473D-AF20-EA6DF784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9531F-36BD-4C89-A847-591C5FC6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D578D-86AC-4529-888B-7FA44AA1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0971C-ECA4-47DA-9FB1-DF937241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D4531-3DCE-4997-96C2-67DC046A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74CE1-2832-4880-9CBF-3FBFCC4E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63BBBE-3088-4BF7-9836-A7B3E3312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29A6-6B48-4CCA-A5AC-25E0869FEB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BD4A-1E9E-4A1F-97B4-9665D12EAE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BE03-E654-465C-B12C-47AAC93596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F353E6-A54A-4138-ABFA-7E5FBB8865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6EC2-E709-4ACB-8D14-2FA672A595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A772-5708-46D0-AB08-734D7BD3B3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1C31-44A0-490B-A7D6-5EDE46A5B1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3C97-A679-4660-9539-FDC5ECF9FF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D9D7-AE52-4D61-B34B-80635B6F93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8C8E-4F3F-4388-9BD7-645BD40B86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067E-2077-4501-818D-A02273A587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2190600" y="1440"/>
            <a:ext cx="491832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矩形 6"/>
          <p:cNvSpPr/>
          <p:nvPr/>
        </p:nvSpPr>
        <p:spPr>
          <a:xfrm>
            <a:off x="66600" y="372960"/>
            <a:ext cx="13366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4120" rIns="24120" tIns="12240" bIns="12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1200"/>
                <a:tab algn="l" pos="482760"/>
                <a:tab algn="l" pos="723960"/>
                <a:tab algn="l" pos="965160"/>
                <a:tab algn="l" pos="1206360"/>
                <a:tab algn="l" pos="1447920"/>
                <a:tab algn="l" pos="1689120"/>
                <a:tab algn="l" pos="1930320"/>
                <a:tab algn="l" pos="2171880"/>
                <a:tab algn="l" pos="2413080"/>
                <a:tab algn="l" pos="2654280"/>
                <a:tab algn="l" pos="2895480"/>
                <a:tab algn="l" pos="3137040"/>
                <a:tab algn="l" pos="3378240"/>
                <a:tab algn="l" pos="3619440"/>
                <a:tab algn="l" pos="3860640"/>
                <a:tab algn="l" pos="4102200"/>
                <a:tab algn="l" pos="4343400"/>
                <a:tab algn="l" pos="4584600"/>
                <a:tab algn="l" pos="482616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6" descr=""/>
          <p:cNvPicPr/>
          <p:nvPr/>
        </p:nvPicPr>
        <p:blipFill>
          <a:blip r:embed="rId16"/>
          <a:stretch/>
        </p:blipFill>
        <p:spPr>
          <a:xfrm>
            <a:off x="0" y="26676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6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6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6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6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6" descr=""/>
          <p:cNvPicPr/>
          <p:nvPr/>
        </p:nvPicPr>
        <p:blipFill>
          <a:blip r:embed="rId1"/>
          <a:stretch/>
        </p:blipFill>
        <p:spPr>
          <a:xfrm>
            <a:off x="42840" y="324000"/>
            <a:ext cx="905364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6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6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6" descr=""/>
          <p:cNvPicPr/>
          <p:nvPr/>
        </p:nvPicPr>
        <p:blipFill>
          <a:blip r:embed="rId1"/>
          <a:stretch/>
        </p:blipFill>
        <p:spPr>
          <a:xfrm>
            <a:off x="100080" y="264960"/>
            <a:ext cx="895032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6" descr="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6" descr=""/>
          <p:cNvPicPr/>
          <p:nvPr/>
        </p:nvPicPr>
        <p:blipFill>
          <a:blip r:embed="rId1"/>
          <a:stretch/>
        </p:blipFill>
        <p:spPr>
          <a:xfrm>
            <a:off x="0" y="247680"/>
            <a:ext cx="9144000" cy="63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6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884736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6" descr="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2:35:58Z</dcterms:created>
  <dc:creator>MaEr</dc:creator>
  <dc:description/>
  <dc:language>en-US</dc:language>
  <cp:lastModifiedBy>User</cp:lastModifiedBy>
  <dcterms:modified xsi:type="dcterms:W3CDTF">2015-07-18T04:09:37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